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7.png" ContentType="image/png"/>
  <Override PartName="/ppt/media/image3.png" ContentType="image/png"/>
  <Override PartName="/ppt/media/image2.jpeg" ContentType="image/jpeg"/>
  <Override PartName="/ppt/media/image10.png" ContentType="image/png"/>
  <Override PartName="/ppt/media/image5.png" ContentType="image/png"/>
  <Override PartName="/ppt/media/image26.jpeg" ContentType="image/jpeg"/>
  <Override PartName="/ppt/media/image25.png" ContentType="image/png"/>
  <Override PartName="/ppt/media/image24.png" ContentType="image/png"/>
  <Override PartName="/ppt/media/image23.png" ContentType="image/png"/>
  <Override PartName="/ppt/media/image22.png" ContentType="image/png"/>
  <Override PartName="/ppt/media/image19.png" ContentType="image/png"/>
  <Override PartName="/ppt/media/image21.png" ContentType="image/png"/>
  <Override PartName="/ppt/media/image20.png" ContentType="image/png"/>
  <Override PartName="/ppt/media/image18.png" ContentType="image/png"/>
  <Override PartName="/ppt/media/image17.png" ContentType="image/png"/>
  <Override PartName="/ppt/media/image16.jpeg" ContentType="image/jpeg"/>
  <Override PartName="/ppt/media/image15.png" ContentType="image/png"/>
  <Override PartName="/ppt/media/image1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comments/comment3.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Lst>
  <p:sldSz cx="9144000" cy="6858000"/>
  <p:notesSz cx="6742113" cy="9874250"/>
</p:presentation>
</file>

<file path=ppt/commentAuthors.xml><?xml version="1.0" encoding="utf-8"?>
<p:cmAuthorLst xmlns:p="http://schemas.openxmlformats.org/presentationml/2006/main">
  <p:cmAuthor id="0" name="ignatso" initials="i" lastIdx="6"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presProps" Target="presProps.xml"/><Relationship Id="rId42" Type="http://schemas.openxmlformats.org/officeDocument/2006/relationships/commentAuthors" Target="commentAuthors.xml"/>
</Relationships>
</file>

<file path=ppt/comments/comment3.xml><?xml version="1.0" encoding="utf-8"?>
<p:cmLst xmlns:p="http://schemas.openxmlformats.org/presentationml/2006/main">
  <p:cm authorId="0" dt="2014-10-03T18:45:46.263000000" idx="1">
    <p:pos x="2165" y="2592"/>
    <p:text>Voisi selventää vielä kuulijoille: 
Mitä tässä "tietokoneen kohdalla" tapahtuu ts. miten tämä prosessi eroaa olennaisesti nykyisestä päätösvalmistelusta? Mitä ratkaisevan tärkeää uutta tässä nyt tapahtuu?
(Kyse ei ole siitä, että tehdään samat asiat vähän uusilla menetelmillä esim. uusilla ohjelmilla -&gt; 
VAAN oikeasti muutetaan tiedonkulkua avoimeksi,  päätösvalmistelu on mahdollista tehdä yhdessä.) 
Avoin Suomi-messuilla tuli hyvä puheenvuoro siitä, että avoimuudella on eri tasoja: ei välttämättä tarkoita, että kenelle tahansa kaikki avointa -&gt; tämähän pelottaa monia... voidaan lähteä myös pienemmin askelin liikkeelle. </p:text>
  </p:cm>
  <p:cm authorId="0" dt="2014-10-03T18:47:31.288000000" idx="2">
    <p:pos x="3774" y="2393"/>
    <p:text>Ihannetapauksessa myös tämä data avointa. </p:text>
  </p:cm>
  <p:cm authorId="0" dt="2014-10-03T18:47:44.552000000" idx="3">
    <p:pos x="4976" y="1391"/>
    <p:text>Ihannetilanteessa myös tämä data avointa.</p:text>
  </p:cm>
  <p:cm authorId="0" dt="2014-10-03T18:48:18.232000000" idx="4">
    <p:pos x="576" y="1530"/>
    <p:text>Mikä tämä kohta on? Arviointi tehdään yhdessä, tuleeko täältä joku uusi input nyt verrattuna edelliseen kohtaan?</p:text>
  </p:cm>
  <p:cm authorId="0" dt="2014-10-03T18:50:36.266000000" idx="5">
    <p:pos x="2493" y="1421"/>
    <p:text>Mikä on päättäjän rooli, mitä hän tuo tähän prosessiin mukaan? Esim. omat valintakriteerinsä/arvonsa avoimesti esille. 
Voisi selventää, miten päätöksenteko lopulta menee: kuka tekee päätökset?
Mitä avoimempaa, sitä enemmän päätöksentekijä "luovuttaa valtaa", sehän joitakin ahdistaa... </p:text>
  </p:cm>
  <p:cm authorId="0" dt="2014-10-03T18:55:07.901000000" idx="6">
    <p:pos x="387" y="1857"/>
    <p:text>Missä on käyttäjien tai vaikutusten kohteena olevien tahojen kokemusperäinen tieto, voiko se olla tässä kohtaa? 
Siis esim. uuden voimalan rakentaminen: 
pitää ottaa huomioon ihmisten arvostukset, pelot, toiveet, aikaisemmat kokemukset, uskomukset terveysvaikutuksista... ei ole tieteellistä tietoa, mutta aivan keskeistä hankkeen hyväksyttävyyden kannalta. </p:text>
  </p:cm>
</p:cmLst>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p:nvPr/>
        </p:nvSpPr>
        <p:spPr>
          <a:xfrm>
            <a:off x="0" y="0"/>
            <a:ext cx="6742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85" name="PlaceHolder 1"/>
          <p:cNvSpPr>
            <a:spLocks noGrp="1"/>
          </p:cNvSpPr>
          <p:nvPr>
            <p:ph type="hdr"/>
          </p:nvPr>
        </p:nvSpPr>
        <p:spPr>
          <a:xfrm>
            <a:off x="0" y="-360"/>
            <a:ext cx="2922480" cy="493560"/>
          </a:xfrm>
          <a:prstGeom prst="rect">
            <a:avLst/>
          </a:prstGeom>
          <a:noFill/>
          <a:ln w="0">
            <a:noFill/>
          </a:ln>
        </p:spPr>
        <p:txBody>
          <a:bodyPr lIns="95040" rIns="95040" tIns="47520" bIns="47520" anchor="t">
            <a:noAutofit/>
          </a:bodyPr>
          <a:p>
            <a:pPr indent="0">
              <a:buNone/>
            </a:pPr>
            <a:endParaRPr b="0" lang="en-US" sz="2400" spc="-1" strike="noStrike">
              <a:solidFill>
                <a:srgbClr val="000000"/>
              </a:solidFill>
              <a:latin typeface="Times New Roman"/>
            </a:endParaRPr>
          </a:p>
        </p:txBody>
      </p:sp>
      <p:sp>
        <p:nvSpPr>
          <p:cNvPr id="186" name="PlaceHolder 2"/>
          <p:cNvSpPr>
            <a:spLocks noGrp="1"/>
          </p:cNvSpPr>
          <p:nvPr>
            <p:ph type="dt" idx="12"/>
          </p:nvPr>
        </p:nvSpPr>
        <p:spPr>
          <a:xfrm>
            <a:off x="3819600" y="-360"/>
            <a:ext cx="2922480" cy="493560"/>
          </a:xfrm>
          <a:prstGeom prst="rect">
            <a:avLst/>
          </a:prstGeom>
          <a:noFill/>
          <a:ln w="0">
            <a:noFill/>
          </a:ln>
        </p:spPr>
        <p:txBody>
          <a:bodyPr lIns="95040" rIns="95040" tIns="47520" bIns="47520" anchor="t">
            <a:noAutofit/>
          </a:bodyPr>
          <a:p>
            <a:pPr indent="0">
              <a:buNone/>
            </a:pPr>
            <a:endParaRPr b="0" lang="en-US" sz="2400" spc="-1" strike="noStrike">
              <a:solidFill>
                <a:srgbClr val="000000"/>
              </a:solidFill>
              <a:latin typeface="Times New Roman"/>
            </a:endParaRPr>
          </a:p>
        </p:txBody>
      </p:sp>
      <p:sp>
        <p:nvSpPr>
          <p:cNvPr id="187" name="PlaceHolder 3"/>
          <p:cNvSpPr>
            <a:spLocks noGrp="1"/>
          </p:cNvSpPr>
          <p:nvPr>
            <p:ph type="sldImg"/>
          </p:nvPr>
        </p:nvSpPr>
        <p:spPr>
          <a:xfrm>
            <a:off x="904680" y="741240"/>
            <a:ext cx="4933800" cy="3702240"/>
          </a:xfrm>
          <a:prstGeom prst="rect">
            <a:avLst/>
          </a:prstGeom>
          <a:noFill/>
          <a:ln w="9360">
            <a:solidFill>
              <a:srgbClr val="000000"/>
            </a:solidFill>
            <a:miter/>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bc143"/>
                </a:solidFill>
                <a:latin typeface="Arial"/>
              </a:rPr>
              <a:t>Click to move the slide</a:t>
            </a:r>
            <a:endParaRPr b="1" lang="en-US" sz="2800" spc="-1" strike="noStrike">
              <a:solidFill>
                <a:srgbClr val="7bc143"/>
              </a:solidFill>
              <a:latin typeface="Arial"/>
            </a:endParaRPr>
          </a:p>
        </p:txBody>
      </p:sp>
      <p:sp>
        <p:nvSpPr>
          <p:cNvPr id="188" name="PlaceHolder 4"/>
          <p:cNvSpPr>
            <a:spLocks noGrp="1"/>
          </p:cNvSpPr>
          <p:nvPr>
            <p:ph type="body"/>
          </p:nvPr>
        </p:nvSpPr>
        <p:spPr>
          <a:xfrm>
            <a:off x="674640" y="4690800"/>
            <a:ext cx="5394240" cy="444348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89" name="PlaceHolder 5"/>
          <p:cNvSpPr>
            <a:spLocks noGrp="1"/>
          </p:cNvSpPr>
          <p:nvPr>
            <p:ph type="ftr" idx="13"/>
          </p:nvPr>
        </p:nvSpPr>
        <p:spPr>
          <a:xfrm>
            <a:off x="0" y="9380160"/>
            <a:ext cx="2922480" cy="493560"/>
          </a:xfrm>
          <a:prstGeom prst="rect">
            <a:avLst/>
          </a:prstGeom>
          <a:noFill/>
          <a:ln w="0">
            <a:noFill/>
          </a:ln>
        </p:spPr>
        <p:txBody>
          <a:bodyPr lIns="95040" rIns="95040" tIns="47520" bIns="47520" anchor="b">
            <a:noAutofit/>
          </a:bodyPr>
          <a:p>
            <a:pPr indent="0">
              <a:buNone/>
            </a:pPr>
            <a:endParaRPr b="0" lang="en-US" sz="2400" spc="-1" strike="noStrike">
              <a:solidFill>
                <a:srgbClr val="000000"/>
              </a:solidFill>
              <a:latin typeface="Times New Roman"/>
            </a:endParaRPr>
          </a:p>
        </p:txBody>
      </p:sp>
      <p:sp>
        <p:nvSpPr>
          <p:cNvPr id="190" name="PlaceHolder 6"/>
          <p:cNvSpPr>
            <a:spLocks noGrp="1"/>
          </p:cNvSpPr>
          <p:nvPr>
            <p:ph type="sldNum" idx="14"/>
          </p:nvPr>
        </p:nvSpPr>
        <p:spPr>
          <a:xfrm>
            <a:off x="3819600" y="9380160"/>
            <a:ext cx="2922480" cy="493560"/>
          </a:xfrm>
          <a:prstGeom prst="rect">
            <a:avLst/>
          </a:prstGeom>
          <a:noFill/>
          <a:ln w="0">
            <a:noFill/>
          </a:ln>
        </p:spPr>
        <p:txBody>
          <a:bodyPr lIns="95040" rIns="95040" tIns="47520" bIns="47520" anchor="b">
            <a:noAutofit/>
          </a:bodyPr>
          <a:lstStyle>
            <a:lvl1pPr marL="216000"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lang="fi-FI" sz="900" spc="-1" strike="noStrike">
                <a:solidFill>
                  <a:srgbClr val="000000"/>
                </a:solidFill>
                <a:latin typeface="Times New Roman"/>
              </a:defRPr>
            </a:lvl1pPr>
          </a:lstStyle>
          <a:p>
            <a:pPr marL="216000"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17E9EBDB-F2E7-4C28-822A-98D49508F4F4}" type="slidenum">
              <a:rPr b="0" lang="fi-FI"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905040" y="741240"/>
            <a:ext cx="4933800" cy="3702240"/>
          </a:xfrm>
          <a:prstGeom prst="rect">
            <a:avLst/>
          </a:prstGeom>
          <a:ln w="0">
            <a:noFill/>
          </a:ln>
        </p:spPr>
      </p:sp>
      <p:sp>
        <p:nvSpPr>
          <p:cNvPr id="478" name="PlaceHolder 2"/>
          <p:cNvSpPr>
            <a:spLocks noGrp="1"/>
          </p:cNvSpPr>
          <p:nvPr>
            <p:ph type="body"/>
          </p:nvPr>
        </p:nvSpPr>
        <p:spPr>
          <a:xfrm>
            <a:off x="674640" y="4690800"/>
            <a:ext cx="5394240" cy="444348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Tällä otsikolla on pidetty esitys Avoin Suomi 2014 –messuilla 15.-16.9.20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9" name="Slide Number Placeholder 3"/>
          <p:cNvSpPr/>
          <p:nvPr/>
        </p:nvSpPr>
        <p:spPr>
          <a:xfrm>
            <a:off x="3819600" y="9380520"/>
            <a:ext cx="2922480" cy="49356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1BE05969-1C62-4844-98EF-F6BC329261FE}" type="slidenum">
              <a:rPr b="0" lang="fi-FI" sz="900" spc="-1" strike="noStrike">
                <a:solidFill>
                  <a:srgbClr val="000000"/>
                </a:solidFill>
                <a:latin typeface="Arial"/>
              </a:rPr>
              <a:t>&lt;number&gt;</a:t>
            </a:fld>
            <a:endParaRPr b="0" lang="en-US" sz="9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905040" y="741240"/>
            <a:ext cx="4933800" cy="3702240"/>
          </a:xfrm>
          <a:prstGeom prst="rect">
            <a:avLst/>
          </a:prstGeom>
          <a:ln w="0">
            <a:noFill/>
          </a:ln>
        </p:spPr>
      </p:sp>
      <p:sp>
        <p:nvSpPr>
          <p:cNvPr id="487" name="PlaceHolder 2"/>
          <p:cNvSpPr>
            <a:spLocks noGrp="1"/>
          </p:cNvSpPr>
          <p:nvPr>
            <p:ph type="body"/>
          </p:nvPr>
        </p:nvSpPr>
        <p:spPr>
          <a:xfrm>
            <a:off x="674640" y="4690800"/>
            <a:ext cx="5394240" cy="444348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Rakennusten energiankäytön mallintaminen on tähän kysymykseen vastaamiseksi tärkeää, koska ne ovat ehkä tärkein energiankäyttäjä Kuopiossa. Meitä kiinnosti mallintaa tätä avoimia työkaluja käyttäen, ja kaikki tulokset joita esittelen on tuotettu avoimilla nettimalleilla. Tässä kartassa näkyy kuopiolaisrakennusten sijoittuminen ja ikä (punaiset pisteet ovat uusimpia rakennuksia, joten kartasta näkyy, miten Kuopio leviää etenee etelään).</a:t>
            </a:r>
            <a:endParaRPr b="0" lang="en-US" sz="1200" spc="-1" strike="noStrike">
              <a:solidFill>
                <a:srgbClr val="000000"/>
              </a:solidFill>
              <a:latin typeface="Arial"/>
            </a:endParaRPr>
          </a:p>
        </p:txBody>
      </p:sp>
      <p:sp>
        <p:nvSpPr>
          <p:cNvPr id="488" name="Slide Number Placeholder 3"/>
          <p:cNvSpPr/>
          <p:nvPr/>
        </p:nvSpPr>
        <p:spPr>
          <a:xfrm>
            <a:off x="3819600" y="9380520"/>
            <a:ext cx="2922480" cy="49356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6749584A-3542-44A1-A6E2-8F84CD67974F}" type="slidenum">
              <a:rPr b="0" lang="fi-FI" sz="900" spc="-1" strike="noStrike">
                <a:solidFill>
                  <a:srgbClr val="000000"/>
                </a:solidFill>
                <a:latin typeface="Arial"/>
              </a:rPr>
              <a:t>&lt;number&gt;</a:t>
            </a:fld>
            <a:endParaRPr b="0" lang="en-US" sz="9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905040" y="741240"/>
            <a:ext cx="4933800" cy="3702240"/>
          </a:xfrm>
          <a:prstGeom prst="rect">
            <a:avLst/>
          </a:prstGeom>
          <a:ln w="0">
            <a:noFill/>
          </a:ln>
        </p:spPr>
      </p:sp>
      <p:sp>
        <p:nvSpPr>
          <p:cNvPr id="490" name="PlaceHolder 2"/>
          <p:cNvSpPr>
            <a:spLocks noGrp="1"/>
          </p:cNvSpPr>
          <p:nvPr>
            <p:ph type="body"/>
          </p:nvPr>
        </p:nvSpPr>
        <p:spPr>
          <a:xfrm>
            <a:off x="674640" y="4690800"/>
            <a:ext cx="5394240" cy="444348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Nettimallinnuksen kohteena oli kaupungin rakennuskanta, jota mallinnettiin 1920-luvulta 2050-luvulle olemassaolevien tietojen ja tulevaisuusarvioiden perusteella. Lämmitystaparatkaisuja ja energiatehokkutta ennustettiin myös tulevaisuuteen, samoin kuin energiaremonttien määriä. Näin saatiin arvioitua energiantarve ja toisaalta eri lämmitysratkaisuista syntyvät hiilidioksidi- ja pienhiukkaspäästöt. Nämä kaksi päästöä ovat ilmaston ja terveyden kannalta tärkeimmät. </a:t>
            </a:r>
            <a:endParaRPr b="0" lang="en-US" sz="1200" spc="-1" strike="noStrike">
              <a:solidFill>
                <a:srgbClr val="000000"/>
              </a:solidFill>
              <a:latin typeface="Arial"/>
            </a:endParaRPr>
          </a:p>
        </p:txBody>
      </p:sp>
      <p:sp>
        <p:nvSpPr>
          <p:cNvPr id="491" name="Slide Number Placeholder 3"/>
          <p:cNvSpPr/>
          <p:nvPr/>
        </p:nvSpPr>
        <p:spPr>
          <a:xfrm>
            <a:off x="3819600" y="9380520"/>
            <a:ext cx="2922480" cy="49356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0B05F411-120D-48FC-98AD-316BF9BFF9EB}" type="slidenum">
              <a:rPr b="0" lang="fi-FI" sz="900" spc="-1" strike="noStrike">
                <a:solidFill>
                  <a:srgbClr val="000000"/>
                </a:solidFill>
                <a:latin typeface="Arial"/>
              </a:rPr>
              <a:t>&lt;number&gt;</a:t>
            </a:fld>
            <a:endParaRPr b="0" lang="en-US" sz="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905040" y="741240"/>
            <a:ext cx="4933800" cy="3702240"/>
          </a:xfrm>
          <a:prstGeom prst="rect">
            <a:avLst/>
          </a:prstGeom>
          <a:ln w="0">
            <a:noFill/>
          </a:ln>
        </p:spPr>
      </p:sp>
      <p:sp>
        <p:nvSpPr>
          <p:cNvPr id="493" name="PlaceHolder 2"/>
          <p:cNvSpPr>
            <a:spLocks noGrp="1"/>
          </p:cNvSpPr>
          <p:nvPr>
            <p:ph type="body"/>
          </p:nvPr>
        </p:nvSpPr>
        <p:spPr>
          <a:xfrm>
            <a:off x="674640" y="4690800"/>
            <a:ext cx="5394240" cy="444348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Nettimallinnus toimii samaan tapaan kuin Wikipedia: tarvittavat lähtödatat ja koodit kirjoitetaan wikisivulle, tallennetaan ja ajetaan. Ällistyttävää kyllä, se toimii  yhtä hyvin kuin tietosanakirjan kirjoittaminen, vaikka periaatteessa ulkopuoliset voivat tulla sotkemaan malleja. Esimerkiksi pneumokokkimallia oli yhtaikaa rakentamassa neljä asiantuntijaa tai koodaria, ja silti se onnistui sujuvasti suoraan wikisivulla.</a:t>
            </a:r>
            <a:endParaRPr b="0" lang="en-US" sz="1200" spc="-1" strike="noStrike">
              <a:solidFill>
                <a:srgbClr val="000000"/>
              </a:solidFill>
              <a:latin typeface="Arial"/>
            </a:endParaRPr>
          </a:p>
        </p:txBody>
      </p:sp>
      <p:sp>
        <p:nvSpPr>
          <p:cNvPr id="494" name="Slide Number Placeholder 3"/>
          <p:cNvSpPr/>
          <p:nvPr/>
        </p:nvSpPr>
        <p:spPr>
          <a:xfrm>
            <a:off x="3819600" y="9380520"/>
            <a:ext cx="2922480" cy="49356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25A31923-D40E-46D9-805A-3F8928149200}" type="slidenum">
              <a:rPr b="0" lang="fi-FI" sz="900" spc="-1" strike="noStrike">
                <a:solidFill>
                  <a:srgbClr val="000000"/>
                </a:solidFill>
                <a:latin typeface="Arial"/>
              </a:rPr>
              <a:t>&lt;number&gt;</a:t>
            </a:fld>
            <a:endParaRPr b="0" lang="en-US" sz="9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905040" y="741240"/>
            <a:ext cx="4933800" cy="3702240"/>
          </a:xfrm>
          <a:prstGeom prst="rect">
            <a:avLst/>
          </a:prstGeom>
          <a:ln w="0">
            <a:noFill/>
          </a:ln>
        </p:spPr>
      </p:sp>
      <p:sp>
        <p:nvSpPr>
          <p:cNvPr id="496" name="PlaceHolder 2"/>
          <p:cNvSpPr>
            <a:spLocks noGrp="1"/>
          </p:cNvSpPr>
          <p:nvPr>
            <p:ph type="body"/>
          </p:nvPr>
        </p:nvSpPr>
        <p:spPr>
          <a:xfrm>
            <a:off x="674640" y="4690800"/>
            <a:ext cx="5394240" cy="444348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Tarkasteltiin kahta eri päätöstä: toisaalta  Haapaniemen polttoaineen vaihtamista turpeesta puuhun ja toisaalta energiaremonttien lisäämistä. Näillä kahdella päätöksellä on terveyteen toisiaan edistävä vaikutus. Tosin terveysvaikutukset ovat melko pienet, koska lämmitysenergia tuotetaan keskitetysti vähäpäästöisessä laitoksessa.</a:t>
            </a:r>
            <a:endParaRPr b="0" lang="en-US" sz="1200" spc="-1" strike="noStrike">
              <a:solidFill>
                <a:srgbClr val="000000"/>
              </a:solidFill>
              <a:latin typeface="Arial"/>
            </a:endParaRPr>
          </a:p>
        </p:txBody>
      </p:sp>
      <p:sp>
        <p:nvSpPr>
          <p:cNvPr id="497" name="Slide Number Placeholder 3"/>
          <p:cNvSpPr/>
          <p:nvPr/>
        </p:nvSpPr>
        <p:spPr>
          <a:xfrm>
            <a:off x="3819600" y="9380520"/>
            <a:ext cx="2922480" cy="49356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D1428364-2FA7-4FBC-8A17-43A6A7D37D52}" type="slidenum">
              <a:rPr b="0" lang="fi-FI" sz="900" spc="-1" strike="noStrike">
                <a:solidFill>
                  <a:srgbClr val="000000"/>
                </a:solidFill>
                <a:latin typeface="Arial"/>
              </a:rPr>
              <a:t>&lt;number&gt;</a:t>
            </a:fld>
            <a:endParaRPr b="0" lang="en-US" sz="9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905040" y="741240"/>
            <a:ext cx="4933800" cy="3702240"/>
          </a:xfrm>
          <a:prstGeom prst="rect">
            <a:avLst/>
          </a:prstGeom>
          <a:ln w="0">
            <a:noFill/>
          </a:ln>
        </p:spPr>
      </p:sp>
      <p:sp>
        <p:nvSpPr>
          <p:cNvPr id="499" name="PlaceHolder 2"/>
          <p:cNvSpPr>
            <a:spLocks noGrp="1"/>
          </p:cNvSpPr>
          <p:nvPr>
            <p:ph type="body"/>
          </p:nvPr>
        </p:nvSpPr>
        <p:spPr>
          <a:xfrm>
            <a:off x="674640" y="4690800"/>
            <a:ext cx="5394240" cy="444348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Avoimia nettimalleja, -työkaluja ja -datoja edistetään ja kehitetään FinICT-hankkeessa, johon suosittelen tutustumaan. Hankkeen nettisivulla esitellään useita erilaisia työkaluja. Itse keskityn tässä esityksessä pääasiassa Opasnettiin, koska se on THL:n itse kehittämä ja käyttämä verkkotyöti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0" name="Slide Number Placeholder 3"/>
          <p:cNvSpPr/>
          <p:nvPr/>
        </p:nvSpPr>
        <p:spPr>
          <a:xfrm>
            <a:off x="3819600" y="9380520"/>
            <a:ext cx="2922480" cy="49356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F052E579-0D24-4DF2-8FF6-2CCD5F672BE9}" type="slidenum">
              <a:rPr b="0" lang="fi-FI" sz="900" spc="-1" strike="noStrike">
                <a:solidFill>
                  <a:srgbClr val="000000"/>
                </a:solidFill>
                <a:latin typeface="Arial"/>
              </a:rPr>
              <a:t>&lt;number&gt;</a:t>
            </a:fld>
            <a:endParaRPr b="0" lang="en-US" sz="9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905040" y="741240"/>
            <a:ext cx="4933800" cy="3702240"/>
          </a:xfrm>
          <a:prstGeom prst="rect">
            <a:avLst/>
          </a:prstGeom>
          <a:ln w="0">
            <a:noFill/>
          </a:ln>
        </p:spPr>
      </p:sp>
      <p:sp>
        <p:nvSpPr>
          <p:cNvPr id="502" name="PlaceHolder 2"/>
          <p:cNvSpPr>
            <a:spLocks noGrp="1"/>
          </p:cNvSpPr>
          <p:nvPr>
            <p:ph type="body"/>
          </p:nvPr>
        </p:nvSpPr>
        <p:spPr>
          <a:xfrm>
            <a:off x="674640" y="4690800"/>
            <a:ext cx="5394240" cy="444348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Mitä avoin data ja algoritmit sitten ovat? Tähän olen listannut joitakin hyvyyskriteereitä, jotka mielestäni kertovat, milloin data ja algoritmit toimivat niin kuin pitääkin. Esityksessä käytän yksinkertaisuuden vuoksi näistä yhteisnimitystä nettimallinn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3" name="Slide Number Placeholder 3"/>
          <p:cNvSpPr/>
          <p:nvPr/>
        </p:nvSpPr>
        <p:spPr>
          <a:xfrm>
            <a:off x="3819600" y="9380520"/>
            <a:ext cx="2922480" cy="49356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942EAA5B-AC0E-47E4-B30B-3B01E402586D}" type="slidenum">
              <a:rPr b="0" lang="fi-FI" sz="900" spc="-1" strike="noStrike">
                <a:solidFill>
                  <a:srgbClr val="000000"/>
                </a:solidFill>
                <a:latin typeface="Arial"/>
              </a:rPr>
              <a:t>&lt;number&gt;</a:t>
            </a:fld>
            <a:endParaRPr b="0" lang="en-US" sz="9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905040" y="741240"/>
            <a:ext cx="4933800" cy="3702240"/>
          </a:xfrm>
          <a:prstGeom prst="rect">
            <a:avLst/>
          </a:prstGeom>
          <a:ln w="0">
            <a:noFill/>
          </a:ln>
        </p:spPr>
      </p:sp>
      <p:sp>
        <p:nvSpPr>
          <p:cNvPr id="505" name="PlaceHolder 2"/>
          <p:cNvSpPr>
            <a:spLocks noGrp="1"/>
          </p:cNvSpPr>
          <p:nvPr>
            <p:ph type="body"/>
          </p:nvPr>
        </p:nvSpPr>
        <p:spPr>
          <a:xfrm>
            <a:off x="674640" y="4690800"/>
            <a:ext cx="5394240" cy="444348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Kokemustemme perusteella nettimallinnus on hyvin toimiva käytäntö, jolla saadaan arvokasta tietoa päätöksenteon tueksi. Tietoisuus sen mahdollisuuksista on vasta lapsenkengissä, mutta muutamia innokkaita asian edistäjiä Suomessa jo on, ja on luultavaa, että myönteiset kokemukset ja kehittyvät tekniset mahdollisuudet yhdessä sujuvampien käyttöliittymien kanssa tekevät uudenlaiset läpimurrot mahdollisiksi tällä alalla. Erityisesti pitäisi kehittää mahdollisuuksia siihen, että lukuisat pienemmät toimijat jakavat tietoa omista päätössuunnitelmistaan muille, jotka voivat ottaa nämä huomioon omissa suunnitelmissaan ja näin tukea laajan, johdonmukaisen päätöskulttuurin syntymistä esimerkiksi kaikkien Suomen kuntien kes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Kulttuurinmuutosta tarvitaan, ja sen tekemiseen tarvitaan ihmisiä. Joko näiltä messuilta löytyy kriittinen massa ihmisiä, jotka saavat innostettua päättäjät mukaan avoimeen, nettipohjaiseen mallinnukseen ja uuden toimintakulttuurin läpimurto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6" name="Slide Number Placeholder 3"/>
          <p:cNvSpPr/>
          <p:nvPr/>
        </p:nvSpPr>
        <p:spPr>
          <a:xfrm>
            <a:off x="3819600" y="9380520"/>
            <a:ext cx="2922480" cy="49356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801D4947-F03A-4B4C-A3CE-6EB8DCCD2471}" type="slidenum">
              <a:rPr b="0" lang="fi-FI" sz="900" spc="-1" strike="noStrike">
                <a:solidFill>
                  <a:srgbClr val="000000"/>
                </a:solidFill>
                <a:latin typeface="Arial"/>
              </a:rPr>
              <a:t>&lt;number&gt;</a:t>
            </a:fld>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905040" y="741240"/>
            <a:ext cx="4933800" cy="3702240"/>
          </a:xfrm>
          <a:prstGeom prst="rect">
            <a:avLst/>
          </a:prstGeom>
          <a:ln w="0">
            <a:noFill/>
          </a:ln>
        </p:spPr>
      </p:sp>
      <p:sp>
        <p:nvSpPr>
          <p:cNvPr id="481" name="PlaceHolder 2"/>
          <p:cNvSpPr>
            <a:spLocks noGrp="1"/>
          </p:cNvSpPr>
          <p:nvPr>
            <p:ph type="body"/>
          </p:nvPr>
        </p:nvSpPr>
        <p:spPr>
          <a:xfrm>
            <a:off x="674640" y="4690800"/>
            <a:ext cx="5394240" cy="444348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Yhteiskunnallisessa päätöksenteossa nettimallinnus on erityisen lupaava alue, koska avoimuutta ja osallistumista pidetään nykyään arvossa. Lisäksi siinä on sellainen erityispiirre, että kun yksityisellä puolella jokainen firma ja toimija päättää asioita omasta puolestaan ja omaksi edukseen, jokainen kunta, valtion virasto ja muu yhteiskunnallinen toimija koettaa päättää asioita kansakunnan edun mukaisesti. Tämä vaatii paljon eri organisaatioiden väliseltä tiedonvaihdolta.</a:t>
            </a:r>
            <a:endParaRPr b="0" lang="en-US" sz="1200" spc="-1" strike="noStrike">
              <a:solidFill>
                <a:srgbClr val="000000"/>
              </a:solidFill>
              <a:latin typeface="Arial"/>
            </a:endParaRPr>
          </a:p>
        </p:txBody>
      </p:sp>
      <p:sp>
        <p:nvSpPr>
          <p:cNvPr id="482" name="Slide Number Placeholder 3"/>
          <p:cNvSpPr/>
          <p:nvPr/>
        </p:nvSpPr>
        <p:spPr>
          <a:xfrm>
            <a:off x="3819600" y="9380520"/>
            <a:ext cx="2922480" cy="49356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5A48C7C0-5462-4C8F-8687-99A578AB370E}" type="slidenum">
              <a:rPr b="0" lang="fi-FI" sz="900" spc="-1" strike="noStrike">
                <a:solidFill>
                  <a:srgbClr val="000000"/>
                </a:solidFill>
                <a:latin typeface="Arial"/>
              </a:rPr>
              <a:t>&lt;number&gt;</a:t>
            </a:fld>
            <a:endParaRPr b="0" lang="en-US" sz="9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905040" y="741240"/>
            <a:ext cx="4933800" cy="3702240"/>
          </a:xfrm>
          <a:prstGeom prst="rect">
            <a:avLst/>
          </a:prstGeom>
          <a:ln w="0">
            <a:noFill/>
          </a:ln>
        </p:spPr>
      </p:sp>
      <p:sp>
        <p:nvSpPr>
          <p:cNvPr id="484" name="PlaceHolder 2"/>
          <p:cNvSpPr>
            <a:spLocks noGrp="1"/>
          </p:cNvSpPr>
          <p:nvPr>
            <p:ph type="body"/>
          </p:nvPr>
        </p:nvSpPr>
        <p:spPr>
          <a:xfrm>
            <a:off x="674640" y="4690800"/>
            <a:ext cx="5394240" cy="444348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Kaunis tammikuinen maisema Kuopiossa paljastaa myös yhden keskeisen ilmasto-ongelman: turvetta polttava Haapaniemen voimalaitos tuottaa suurimman osan keskeisen Kuopion lämmöstä mutta myös suuren osan Kuopion hiilidioksidipäästöistä.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Kysymys kuuluukin: miten Kuopion hiilidioksidipäästöjä voisi vähentää, ja mitä vaikutuksia eri ratkaisuilla olisi?</a:t>
            </a:r>
            <a:endParaRPr b="0" lang="en-US" sz="1200" spc="-1" strike="noStrike">
              <a:solidFill>
                <a:srgbClr val="000000"/>
              </a:solidFill>
              <a:latin typeface="Arial"/>
            </a:endParaRPr>
          </a:p>
        </p:txBody>
      </p:sp>
      <p:sp>
        <p:nvSpPr>
          <p:cNvPr id="485" name="Slide Number Placeholder 3"/>
          <p:cNvSpPr/>
          <p:nvPr/>
        </p:nvSpPr>
        <p:spPr>
          <a:xfrm>
            <a:off x="3819600" y="9380520"/>
            <a:ext cx="2922480" cy="49356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2C56FA4F-5468-4507-AC8D-9850BF5EAE95}" type="slidenum">
              <a:rPr b="0" lang="fi-FI" sz="900" spc="-1" strike="noStrike">
                <a:solidFill>
                  <a:srgbClr val="000000"/>
                </a:solidFill>
                <a:latin typeface="Arial"/>
              </a:rPr>
              <a:t>&lt;number&gt;</a:t>
            </a:fld>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FFEF7C6-C8F3-4B81-A4EB-26025B20E07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31" name="PlaceHolder 2"/>
          <p:cNvSpPr>
            <a:spLocks noGrp="1"/>
          </p:cNvSpPr>
          <p:nvPr>
            <p:ph/>
          </p:nvPr>
        </p:nvSpPr>
        <p:spPr>
          <a:xfrm>
            <a:off x="456840" y="1484280"/>
            <a:ext cx="821844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 name="PlaceHolder 3"/>
          <p:cNvSpPr>
            <a:spLocks noGrp="1"/>
          </p:cNvSpPr>
          <p:nvPr>
            <p:ph/>
          </p:nvPr>
        </p:nvSpPr>
        <p:spPr>
          <a:xfrm>
            <a:off x="456840" y="3778920"/>
            <a:ext cx="821844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sldNum" idx="2"/>
          </p:nvPr>
        </p:nvSpPr>
        <p:spPr/>
        <p:txBody>
          <a:bodyPr/>
          <a:p>
            <a:fld id="{6555564E-37B2-44ED-BFB7-CCB92D567D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34"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 name="PlaceHolder 4"/>
          <p:cNvSpPr>
            <a:spLocks noGrp="1"/>
          </p:cNvSpPr>
          <p:nvPr>
            <p:ph/>
          </p:nvPr>
        </p:nvSpPr>
        <p:spPr>
          <a:xfrm>
            <a:off x="456840" y="377892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 name="PlaceHolder 5"/>
          <p:cNvSpPr>
            <a:spLocks noGrp="1"/>
          </p:cNvSpPr>
          <p:nvPr>
            <p:ph/>
          </p:nvPr>
        </p:nvSpPr>
        <p:spPr>
          <a:xfrm>
            <a:off x="4668120" y="377892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sldNum" idx="2"/>
          </p:nvPr>
        </p:nvSpPr>
        <p:spPr/>
        <p:txBody>
          <a:bodyPr/>
          <a:p>
            <a:fld id="{7445EA28-E08D-4ACE-943A-1D8A469F2D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39" name="PlaceHolder 2"/>
          <p:cNvSpPr>
            <a:spLocks noGrp="1"/>
          </p:cNvSpPr>
          <p:nvPr>
            <p:ph/>
          </p:nvPr>
        </p:nvSpPr>
        <p:spPr>
          <a:xfrm>
            <a:off x="456840" y="1484280"/>
            <a:ext cx="26460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3"/>
          <p:cNvSpPr>
            <a:spLocks noGrp="1"/>
          </p:cNvSpPr>
          <p:nvPr>
            <p:ph/>
          </p:nvPr>
        </p:nvSpPr>
        <p:spPr>
          <a:xfrm>
            <a:off x="3235680" y="1484280"/>
            <a:ext cx="26460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 name="PlaceHolder 4"/>
          <p:cNvSpPr>
            <a:spLocks noGrp="1"/>
          </p:cNvSpPr>
          <p:nvPr>
            <p:ph/>
          </p:nvPr>
        </p:nvSpPr>
        <p:spPr>
          <a:xfrm>
            <a:off x="6014160" y="1484280"/>
            <a:ext cx="26460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 name="PlaceHolder 5"/>
          <p:cNvSpPr>
            <a:spLocks noGrp="1"/>
          </p:cNvSpPr>
          <p:nvPr>
            <p:ph/>
          </p:nvPr>
        </p:nvSpPr>
        <p:spPr>
          <a:xfrm>
            <a:off x="456840" y="3778920"/>
            <a:ext cx="26460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 name="PlaceHolder 6"/>
          <p:cNvSpPr>
            <a:spLocks noGrp="1"/>
          </p:cNvSpPr>
          <p:nvPr>
            <p:ph/>
          </p:nvPr>
        </p:nvSpPr>
        <p:spPr>
          <a:xfrm>
            <a:off x="3235680" y="3778920"/>
            <a:ext cx="26460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 name="PlaceHolder 7"/>
          <p:cNvSpPr>
            <a:spLocks noGrp="1"/>
          </p:cNvSpPr>
          <p:nvPr>
            <p:ph/>
          </p:nvPr>
        </p:nvSpPr>
        <p:spPr>
          <a:xfrm>
            <a:off x="6014160" y="3778920"/>
            <a:ext cx="26460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sldNum" idx="2"/>
          </p:nvPr>
        </p:nvSpPr>
        <p:spPr/>
        <p:txBody>
          <a:bodyPr/>
          <a:p>
            <a:fld id="{19F79E84-B15F-465E-AF38-FE846727AC96}"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ECC341D-EF0A-4873-B14D-3BE4DC9D1A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57" name="PlaceHolder 2"/>
          <p:cNvSpPr>
            <a:spLocks noGrp="1"/>
          </p:cNvSpPr>
          <p:nvPr>
            <p:ph type="subTitle"/>
          </p:nvPr>
        </p:nvSpPr>
        <p:spPr>
          <a:xfrm>
            <a:off x="456840" y="1484280"/>
            <a:ext cx="8218440" cy="4392720"/>
          </a:xfrm>
          <a:prstGeom prst="rect">
            <a:avLst/>
          </a:prstGeom>
          <a:noFill/>
          <a:ln w="0">
            <a:noFill/>
          </a:ln>
        </p:spPr>
        <p:txBody>
          <a:bodyPr lIns="0" rIns="0" tIns="0" bIns="0" anchor="ctr">
            <a:noAutofit/>
          </a:bodyPr>
          <a:p>
            <a:pPr indent="0" algn="ctr">
              <a:lnSpc>
                <a:spcPct val="9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35C5CF7-C1B4-48FA-8F38-A4E970807D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59"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FCAC0E-033A-4C65-9FCB-4FE2C5F472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61" name="PlaceHolder 2"/>
          <p:cNvSpPr>
            <a:spLocks noGrp="1"/>
          </p:cNvSpPr>
          <p:nvPr>
            <p:ph/>
          </p:nvPr>
        </p:nvSpPr>
        <p:spPr>
          <a:xfrm>
            <a:off x="456840" y="1484280"/>
            <a:ext cx="4010400" cy="439272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2" name="PlaceHolder 3"/>
          <p:cNvSpPr>
            <a:spLocks noGrp="1"/>
          </p:cNvSpPr>
          <p:nvPr>
            <p:ph/>
          </p:nvPr>
        </p:nvSpPr>
        <p:spPr>
          <a:xfrm>
            <a:off x="4668120" y="1484280"/>
            <a:ext cx="4010400" cy="439272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054A53C-E500-45DD-B8CD-8BA42A09D0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82E21E-C4DB-48B5-9F7C-BD428A6165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68360" y="260280"/>
            <a:ext cx="8207280" cy="4673880"/>
          </a:xfrm>
          <a:prstGeom prst="rect">
            <a:avLst/>
          </a:prstGeom>
          <a:noFill/>
          <a:ln w="0">
            <a:noFill/>
          </a:ln>
        </p:spPr>
        <p:txBody>
          <a:bodyPr lIns="0" rIns="0" tIns="0" bIns="0" anchor="ctr">
            <a:noAutofit/>
          </a:bodyPr>
          <a:p>
            <a:pPr algn="ctr">
              <a:lnSpc>
                <a:spcPct val="9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A24E29A-4992-40D9-A4AC-7C3E09CE24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66"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7" name="PlaceHolder 3"/>
          <p:cNvSpPr>
            <a:spLocks noGrp="1"/>
          </p:cNvSpPr>
          <p:nvPr>
            <p:ph/>
          </p:nvPr>
        </p:nvSpPr>
        <p:spPr>
          <a:xfrm>
            <a:off x="4668120" y="1484280"/>
            <a:ext cx="4010400" cy="439272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8" name="PlaceHolder 4"/>
          <p:cNvSpPr>
            <a:spLocks noGrp="1"/>
          </p:cNvSpPr>
          <p:nvPr>
            <p:ph/>
          </p:nvPr>
        </p:nvSpPr>
        <p:spPr>
          <a:xfrm>
            <a:off x="456840" y="377892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5B297B-BDDB-4E70-B17E-C7833913D7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10" name="PlaceHolder 2"/>
          <p:cNvSpPr>
            <a:spLocks noGrp="1"/>
          </p:cNvSpPr>
          <p:nvPr>
            <p:ph type="subTitle"/>
          </p:nvPr>
        </p:nvSpPr>
        <p:spPr>
          <a:xfrm>
            <a:off x="456840" y="1484280"/>
            <a:ext cx="8218440" cy="4392720"/>
          </a:xfrm>
          <a:prstGeom prst="rect">
            <a:avLst/>
          </a:prstGeom>
          <a:noFill/>
          <a:ln w="0">
            <a:noFill/>
          </a:ln>
        </p:spPr>
        <p:txBody>
          <a:bodyPr lIns="0" rIns="0" tIns="0" bIns="0" anchor="ctr">
            <a:noAutofit/>
          </a:bodyPr>
          <a:p>
            <a:pPr indent="0" algn="ctr">
              <a:lnSpc>
                <a:spcPct val="9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38F57B42-B337-4284-9216-A98A5ABB7D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70" name="PlaceHolder 2"/>
          <p:cNvSpPr>
            <a:spLocks noGrp="1"/>
          </p:cNvSpPr>
          <p:nvPr>
            <p:ph/>
          </p:nvPr>
        </p:nvSpPr>
        <p:spPr>
          <a:xfrm>
            <a:off x="456840" y="1484280"/>
            <a:ext cx="4010400" cy="439272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1"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2" name="PlaceHolder 4"/>
          <p:cNvSpPr>
            <a:spLocks noGrp="1"/>
          </p:cNvSpPr>
          <p:nvPr>
            <p:ph/>
          </p:nvPr>
        </p:nvSpPr>
        <p:spPr>
          <a:xfrm>
            <a:off x="4668120" y="377892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82732B-C9AB-47F4-9C7E-DB228FC0C5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74"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5"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6" name="PlaceHolder 4"/>
          <p:cNvSpPr>
            <a:spLocks noGrp="1"/>
          </p:cNvSpPr>
          <p:nvPr>
            <p:ph/>
          </p:nvPr>
        </p:nvSpPr>
        <p:spPr>
          <a:xfrm>
            <a:off x="456840" y="3778920"/>
            <a:ext cx="821844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10C58E-6A94-4C89-9D48-E7822E722A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78" name="PlaceHolder 2"/>
          <p:cNvSpPr>
            <a:spLocks noGrp="1"/>
          </p:cNvSpPr>
          <p:nvPr>
            <p:ph/>
          </p:nvPr>
        </p:nvSpPr>
        <p:spPr>
          <a:xfrm>
            <a:off x="456840" y="1484280"/>
            <a:ext cx="821844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9" name="PlaceHolder 3"/>
          <p:cNvSpPr>
            <a:spLocks noGrp="1"/>
          </p:cNvSpPr>
          <p:nvPr>
            <p:ph/>
          </p:nvPr>
        </p:nvSpPr>
        <p:spPr>
          <a:xfrm>
            <a:off x="456840" y="3778920"/>
            <a:ext cx="821844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572A07-4E93-4CA6-B0E8-183DC060B0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81"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2"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3" name="PlaceHolder 4"/>
          <p:cNvSpPr>
            <a:spLocks noGrp="1"/>
          </p:cNvSpPr>
          <p:nvPr>
            <p:ph/>
          </p:nvPr>
        </p:nvSpPr>
        <p:spPr>
          <a:xfrm>
            <a:off x="456840" y="377892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4" name="PlaceHolder 5"/>
          <p:cNvSpPr>
            <a:spLocks noGrp="1"/>
          </p:cNvSpPr>
          <p:nvPr>
            <p:ph/>
          </p:nvPr>
        </p:nvSpPr>
        <p:spPr>
          <a:xfrm>
            <a:off x="4668120" y="377892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22C9311-BF31-40BC-87F7-B4A4D88FD2F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86" name="PlaceHolder 2"/>
          <p:cNvSpPr>
            <a:spLocks noGrp="1"/>
          </p:cNvSpPr>
          <p:nvPr>
            <p:ph/>
          </p:nvPr>
        </p:nvSpPr>
        <p:spPr>
          <a:xfrm>
            <a:off x="456840" y="1484280"/>
            <a:ext cx="26460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7" name="PlaceHolder 3"/>
          <p:cNvSpPr>
            <a:spLocks noGrp="1"/>
          </p:cNvSpPr>
          <p:nvPr>
            <p:ph/>
          </p:nvPr>
        </p:nvSpPr>
        <p:spPr>
          <a:xfrm>
            <a:off x="3235680" y="1484280"/>
            <a:ext cx="26460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8" name="PlaceHolder 4"/>
          <p:cNvSpPr>
            <a:spLocks noGrp="1"/>
          </p:cNvSpPr>
          <p:nvPr>
            <p:ph/>
          </p:nvPr>
        </p:nvSpPr>
        <p:spPr>
          <a:xfrm>
            <a:off x="6014160" y="1484280"/>
            <a:ext cx="26460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9" name="PlaceHolder 5"/>
          <p:cNvSpPr>
            <a:spLocks noGrp="1"/>
          </p:cNvSpPr>
          <p:nvPr>
            <p:ph/>
          </p:nvPr>
        </p:nvSpPr>
        <p:spPr>
          <a:xfrm>
            <a:off x="456840" y="3778920"/>
            <a:ext cx="26460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0" name="PlaceHolder 6"/>
          <p:cNvSpPr>
            <a:spLocks noGrp="1"/>
          </p:cNvSpPr>
          <p:nvPr>
            <p:ph/>
          </p:nvPr>
        </p:nvSpPr>
        <p:spPr>
          <a:xfrm>
            <a:off x="3235680" y="3778920"/>
            <a:ext cx="26460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1" name="PlaceHolder 7"/>
          <p:cNvSpPr>
            <a:spLocks noGrp="1"/>
          </p:cNvSpPr>
          <p:nvPr>
            <p:ph/>
          </p:nvPr>
        </p:nvSpPr>
        <p:spPr>
          <a:xfrm>
            <a:off x="6014160" y="3778920"/>
            <a:ext cx="26460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73E910C-A57D-4F75-A97E-46453F0914F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361FFC0-2C4C-4C6E-A73F-329728DAFD4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103" name="PlaceHolder 2"/>
          <p:cNvSpPr>
            <a:spLocks noGrp="1"/>
          </p:cNvSpPr>
          <p:nvPr>
            <p:ph type="subTitle"/>
          </p:nvPr>
        </p:nvSpPr>
        <p:spPr>
          <a:xfrm>
            <a:off x="456840" y="1484280"/>
            <a:ext cx="8218440" cy="4392720"/>
          </a:xfrm>
          <a:prstGeom prst="rect">
            <a:avLst/>
          </a:prstGeom>
          <a:noFill/>
          <a:ln w="0">
            <a:noFill/>
          </a:ln>
        </p:spPr>
        <p:txBody>
          <a:bodyPr lIns="0" rIns="0" tIns="0" bIns="0" anchor="ctr">
            <a:noAutofit/>
          </a:bodyPr>
          <a:p>
            <a:pPr indent="0" algn="ctr">
              <a:lnSpc>
                <a:spcPct val="9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ADBCB9E-A92E-4C4D-89C9-49097604795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105"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5C4D00A-4CD7-4D76-A5FE-F47B81C6444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107" name="PlaceHolder 2"/>
          <p:cNvSpPr>
            <a:spLocks noGrp="1"/>
          </p:cNvSpPr>
          <p:nvPr>
            <p:ph/>
          </p:nvPr>
        </p:nvSpPr>
        <p:spPr>
          <a:xfrm>
            <a:off x="456840" y="1484280"/>
            <a:ext cx="4010400" cy="439272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8" name="PlaceHolder 3"/>
          <p:cNvSpPr>
            <a:spLocks noGrp="1"/>
          </p:cNvSpPr>
          <p:nvPr>
            <p:ph/>
          </p:nvPr>
        </p:nvSpPr>
        <p:spPr>
          <a:xfrm>
            <a:off x="4668120" y="1484280"/>
            <a:ext cx="4010400" cy="439272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9FB1B8A-E9E8-4CD0-83A6-DCBC49F1FF4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31FF88D-87FA-4FB5-BAD8-571B1F46C9D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12"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3DA20CFF-B441-43B7-876A-E4B452A977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68360" y="260280"/>
            <a:ext cx="8207280" cy="4673880"/>
          </a:xfrm>
          <a:prstGeom prst="rect">
            <a:avLst/>
          </a:prstGeom>
          <a:noFill/>
          <a:ln w="0">
            <a:noFill/>
          </a:ln>
        </p:spPr>
        <p:txBody>
          <a:bodyPr lIns="0" rIns="0" tIns="0" bIns="0" anchor="ctr">
            <a:noAutofit/>
          </a:bodyPr>
          <a:p>
            <a:pPr algn="ctr">
              <a:lnSpc>
                <a:spcPct val="9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11AC61C-0FB3-4D82-AF6B-0466CAA06C4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112"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3" name="PlaceHolder 3"/>
          <p:cNvSpPr>
            <a:spLocks noGrp="1"/>
          </p:cNvSpPr>
          <p:nvPr>
            <p:ph/>
          </p:nvPr>
        </p:nvSpPr>
        <p:spPr>
          <a:xfrm>
            <a:off x="4668120" y="1484280"/>
            <a:ext cx="4010400" cy="439272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4" name="PlaceHolder 4"/>
          <p:cNvSpPr>
            <a:spLocks noGrp="1"/>
          </p:cNvSpPr>
          <p:nvPr>
            <p:ph/>
          </p:nvPr>
        </p:nvSpPr>
        <p:spPr>
          <a:xfrm>
            <a:off x="456840" y="377892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CE7EC8E-11B3-47C9-B6B6-AAC468E32AD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116" name="PlaceHolder 2"/>
          <p:cNvSpPr>
            <a:spLocks noGrp="1"/>
          </p:cNvSpPr>
          <p:nvPr>
            <p:ph/>
          </p:nvPr>
        </p:nvSpPr>
        <p:spPr>
          <a:xfrm>
            <a:off x="456840" y="1484280"/>
            <a:ext cx="4010400" cy="439272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7"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8" name="PlaceHolder 4"/>
          <p:cNvSpPr>
            <a:spLocks noGrp="1"/>
          </p:cNvSpPr>
          <p:nvPr>
            <p:ph/>
          </p:nvPr>
        </p:nvSpPr>
        <p:spPr>
          <a:xfrm>
            <a:off x="4668120" y="377892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0C4DDDD-3442-417C-9573-65D96F312BE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120"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1"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2" name="PlaceHolder 4"/>
          <p:cNvSpPr>
            <a:spLocks noGrp="1"/>
          </p:cNvSpPr>
          <p:nvPr>
            <p:ph/>
          </p:nvPr>
        </p:nvSpPr>
        <p:spPr>
          <a:xfrm>
            <a:off x="456840" y="3778920"/>
            <a:ext cx="821844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CF80A43-6E1C-440B-AC54-0FC6B8287EA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124" name="PlaceHolder 2"/>
          <p:cNvSpPr>
            <a:spLocks noGrp="1"/>
          </p:cNvSpPr>
          <p:nvPr>
            <p:ph/>
          </p:nvPr>
        </p:nvSpPr>
        <p:spPr>
          <a:xfrm>
            <a:off x="456840" y="1484280"/>
            <a:ext cx="821844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5" name="PlaceHolder 3"/>
          <p:cNvSpPr>
            <a:spLocks noGrp="1"/>
          </p:cNvSpPr>
          <p:nvPr>
            <p:ph/>
          </p:nvPr>
        </p:nvSpPr>
        <p:spPr>
          <a:xfrm>
            <a:off x="456840" y="3778920"/>
            <a:ext cx="821844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8AACCF9-26B0-41C2-9EFC-9DE1EFA5562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127"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8"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9" name="PlaceHolder 4"/>
          <p:cNvSpPr>
            <a:spLocks noGrp="1"/>
          </p:cNvSpPr>
          <p:nvPr>
            <p:ph/>
          </p:nvPr>
        </p:nvSpPr>
        <p:spPr>
          <a:xfrm>
            <a:off x="456840" y="377892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0" name="PlaceHolder 5"/>
          <p:cNvSpPr>
            <a:spLocks noGrp="1"/>
          </p:cNvSpPr>
          <p:nvPr>
            <p:ph/>
          </p:nvPr>
        </p:nvSpPr>
        <p:spPr>
          <a:xfrm>
            <a:off x="4668120" y="377892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04259F4-24FB-4E07-B783-D1B6F94B2FAC}"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132" name="PlaceHolder 2"/>
          <p:cNvSpPr>
            <a:spLocks noGrp="1"/>
          </p:cNvSpPr>
          <p:nvPr>
            <p:ph/>
          </p:nvPr>
        </p:nvSpPr>
        <p:spPr>
          <a:xfrm>
            <a:off x="456840" y="1484280"/>
            <a:ext cx="26460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3" name="PlaceHolder 3"/>
          <p:cNvSpPr>
            <a:spLocks noGrp="1"/>
          </p:cNvSpPr>
          <p:nvPr>
            <p:ph/>
          </p:nvPr>
        </p:nvSpPr>
        <p:spPr>
          <a:xfrm>
            <a:off x="3235680" y="1484280"/>
            <a:ext cx="26460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4" name="PlaceHolder 4"/>
          <p:cNvSpPr>
            <a:spLocks noGrp="1"/>
          </p:cNvSpPr>
          <p:nvPr>
            <p:ph/>
          </p:nvPr>
        </p:nvSpPr>
        <p:spPr>
          <a:xfrm>
            <a:off x="6014160" y="1484280"/>
            <a:ext cx="26460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5" name="PlaceHolder 5"/>
          <p:cNvSpPr>
            <a:spLocks noGrp="1"/>
          </p:cNvSpPr>
          <p:nvPr>
            <p:ph/>
          </p:nvPr>
        </p:nvSpPr>
        <p:spPr>
          <a:xfrm>
            <a:off x="456840" y="3778920"/>
            <a:ext cx="26460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6" name="PlaceHolder 6"/>
          <p:cNvSpPr>
            <a:spLocks noGrp="1"/>
          </p:cNvSpPr>
          <p:nvPr>
            <p:ph/>
          </p:nvPr>
        </p:nvSpPr>
        <p:spPr>
          <a:xfrm>
            <a:off x="3235680" y="3778920"/>
            <a:ext cx="26460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7" name="PlaceHolder 7"/>
          <p:cNvSpPr>
            <a:spLocks noGrp="1"/>
          </p:cNvSpPr>
          <p:nvPr>
            <p:ph/>
          </p:nvPr>
        </p:nvSpPr>
        <p:spPr>
          <a:xfrm>
            <a:off x="6014160" y="3778920"/>
            <a:ext cx="26460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5129ACF-DF42-4EE2-B472-48C1FAA9DBA3}"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A0CFECD4-E175-4FB8-866C-76FDD918DA3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149" name="PlaceHolder 2"/>
          <p:cNvSpPr>
            <a:spLocks noGrp="1"/>
          </p:cNvSpPr>
          <p:nvPr>
            <p:ph type="subTitle"/>
          </p:nvPr>
        </p:nvSpPr>
        <p:spPr>
          <a:xfrm>
            <a:off x="456840" y="1484280"/>
            <a:ext cx="8218440" cy="4392720"/>
          </a:xfrm>
          <a:prstGeom prst="rect">
            <a:avLst/>
          </a:prstGeom>
          <a:noFill/>
          <a:ln w="0">
            <a:noFill/>
          </a:ln>
        </p:spPr>
        <p:txBody>
          <a:bodyPr lIns="0" rIns="0" tIns="0" bIns="0" anchor="ctr">
            <a:noAutofit/>
          </a:bodyPr>
          <a:p>
            <a:pPr indent="0" algn="ctr">
              <a:lnSpc>
                <a:spcPct val="9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EAA58F6-4502-4775-9567-9C552922E35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151"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49E80DB-69E3-4C14-8695-637775E5629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14" name="PlaceHolder 2"/>
          <p:cNvSpPr>
            <a:spLocks noGrp="1"/>
          </p:cNvSpPr>
          <p:nvPr>
            <p:ph/>
          </p:nvPr>
        </p:nvSpPr>
        <p:spPr>
          <a:xfrm>
            <a:off x="456840" y="1484280"/>
            <a:ext cx="4010400" cy="439272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 name="PlaceHolder 3"/>
          <p:cNvSpPr>
            <a:spLocks noGrp="1"/>
          </p:cNvSpPr>
          <p:nvPr>
            <p:ph/>
          </p:nvPr>
        </p:nvSpPr>
        <p:spPr>
          <a:xfrm>
            <a:off x="4668120" y="1484280"/>
            <a:ext cx="4010400" cy="439272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sldNum" idx="2"/>
          </p:nvPr>
        </p:nvSpPr>
        <p:spPr/>
        <p:txBody>
          <a:bodyPr/>
          <a:p>
            <a:fld id="{43590927-6CEF-48A9-9874-BE865442D9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153" name="PlaceHolder 2"/>
          <p:cNvSpPr>
            <a:spLocks noGrp="1"/>
          </p:cNvSpPr>
          <p:nvPr>
            <p:ph/>
          </p:nvPr>
        </p:nvSpPr>
        <p:spPr>
          <a:xfrm>
            <a:off x="456840" y="1484280"/>
            <a:ext cx="4010400" cy="439272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4" name="PlaceHolder 3"/>
          <p:cNvSpPr>
            <a:spLocks noGrp="1"/>
          </p:cNvSpPr>
          <p:nvPr>
            <p:ph/>
          </p:nvPr>
        </p:nvSpPr>
        <p:spPr>
          <a:xfrm>
            <a:off x="4668120" y="1484280"/>
            <a:ext cx="4010400" cy="439272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3ACF4CB-D160-4A51-9167-956FC8FB4FD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3DCB006-13E0-42F6-8EC8-2969E65309F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468360" y="260280"/>
            <a:ext cx="8207280" cy="4673880"/>
          </a:xfrm>
          <a:prstGeom prst="rect">
            <a:avLst/>
          </a:prstGeom>
          <a:noFill/>
          <a:ln w="0">
            <a:noFill/>
          </a:ln>
        </p:spPr>
        <p:txBody>
          <a:bodyPr lIns="0" rIns="0" tIns="0" bIns="0" anchor="ctr">
            <a:noAutofit/>
          </a:bodyPr>
          <a:p>
            <a:pPr algn="ctr">
              <a:lnSpc>
                <a:spcPct val="9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80D3642-8C47-4C33-88FB-4F9533246B3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158"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9" name="PlaceHolder 3"/>
          <p:cNvSpPr>
            <a:spLocks noGrp="1"/>
          </p:cNvSpPr>
          <p:nvPr>
            <p:ph/>
          </p:nvPr>
        </p:nvSpPr>
        <p:spPr>
          <a:xfrm>
            <a:off x="4668120" y="1484280"/>
            <a:ext cx="4010400" cy="439272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0" name="PlaceHolder 4"/>
          <p:cNvSpPr>
            <a:spLocks noGrp="1"/>
          </p:cNvSpPr>
          <p:nvPr>
            <p:ph/>
          </p:nvPr>
        </p:nvSpPr>
        <p:spPr>
          <a:xfrm>
            <a:off x="456840" y="377892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ABF8FA2-25A8-4C07-9E5F-5B21614DDB3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162" name="PlaceHolder 2"/>
          <p:cNvSpPr>
            <a:spLocks noGrp="1"/>
          </p:cNvSpPr>
          <p:nvPr>
            <p:ph/>
          </p:nvPr>
        </p:nvSpPr>
        <p:spPr>
          <a:xfrm>
            <a:off x="456840" y="1484280"/>
            <a:ext cx="4010400" cy="439272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3"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4" name="PlaceHolder 4"/>
          <p:cNvSpPr>
            <a:spLocks noGrp="1"/>
          </p:cNvSpPr>
          <p:nvPr>
            <p:ph/>
          </p:nvPr>
        </p:nvSpPr>
        <p:spPr>
          <a:xfrm>
            <a:off x="4668120" y="377892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0791B99-A2F9-42FB-920E-69CB385E061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166"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7"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8" name="PlaceHolder 4"/>
          <p:cNvSpPr>
            <a:spLocks noGrp="1"/>
          </p:cNvSpPr>
          <p:nvPr>
            <p:ph/>
          </p:nvPr>
        </p:nvSpPr>
        <p:spPr>
          <a:xfrm>
            <a:off x="456840" y="3778920"/>
            <a:ext cx="821844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08CD268-A4AC-4FA5-9464-8437E33F53E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170" name="PlaceHolder 2"/>
          <p:cNvSpPr>
            <a:spLocks noGrp="1"/>
          </p:cNvSpPr>
          <p:nvPr>
            <p:ph/>
          </p:nvPr>
        </p:nvSpPr>
        <p:spPr>
          <a:xfrm>
            <a:off x="456840" y="1484280"/>
            <a:ext cx="821844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1" name="PlaceHolder 3"/>
          <p:cNvSpPr>
            <a:spLocks noGrp="1"/>
          </p:cNvSpPr>
          <p:nvPr>
            <p:ph/>
          </p:nvPr>
        </p:nvSpPr>
        <p:spPr>
          <a:xfrm>
            <a:off x="456840" y="3778920"/>
            <a:ext cx="821844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39FA8CB-E263-41E6-9554-BBBD7D105EC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173"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4"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5" name="PlaceHolder 4"/>
          <p:cNvSpPr>
            <a:spLocks noGrp="1"/>
          </p:cNvSpPr>
          <p:nvPr>
            <p:ph/>
          </p:nvPr>
        </p:nvSpPr>
        <p:spPr>
          <a:xfrm>
            <a:off x="456840" y="377892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6" name="PlaceHolder 5"/>
          <p:cNvSpPr>
            <a:spLocks noGrp="1"/>
          </p:cNvSpPr>
          <p:nvPr>
            <p:ph/>
          </p:nvPr>
        </p:nvSpPr>
        <p:spPr>
          <a:xfrm>
            <a:off x="4668120" y="377892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E6C5B1D-89A1-470D-9E8F-97AEB448291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178" name="PlaceHolder 2"/>
          <p:cNvSpPr>
            <a:spLocks noGrp="1"/>
          </p:cNvSpPr>
          <p:nvPr>
            <p:ph/>
          </p:nvPr>
        </p:nvSpPr>
        <p:spPr>
          <a:xfrm>
            <a:off x="456840" y="1484280"/>
            <a:ext cx="26460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9" name="PlaceHolder 3"/>
          <p:cNvSpPr>
            <a:spLocks noGrp="1"/>
          </p:cNvSpPr>
          <p:nvPr>
            <p:ph/>
          </p:nvPr>
        </p:nvSpPr>
        <p:spPr>
          <a:xfrm>
            <a:off x="3235680" y="1484280"/>
            <a:ext cx="26460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0" name="PlaceHolder 4"/>
          <p:cNvSpPr>
            <a:spLocks noGrp="1"/>
          </p:cNvSpPr>
          <p:nvPr>
            <p:ph/>
          </p:nvPr>
        </p:nvSpPr>
        <p:spPr>
          <a:xfrm>
            <a:off x="6014160" y="1484280"/>
            <a:ext cx="26460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1" name="PlaceHolder 5"/>
          <p:cNvSpPr>
            <a:spLocks noGrp="1"/>
          </p:cNvSpPr>
          <p:nvPr>
            <p:ph/>
          </p:nvPr>
        </p:nvSpPr>
        <p:spPr>
          <a:xfrm>
            <a:off x="456840" y="3778920"/>
            <a:ext cx="26460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2" name="PlaceHolder 6"/>
          <p:cNvSpPr>
            <a:spLocks noGrp="1"/>
          </p:cNvSpPr>
          <p:nvPr>
            <p:ph/>
          </p:nvPr>
        </p:nvSpPr>
        <p:spPr>
          <a:xfrm>
            <a:off x="3235680" y="3778920"/>
            <a:ext cx="26460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3" name="PlaceHolder 7"/>
          <p:cNvSpPr>
            <a:spLocks noGrp="1"/>
          </p:cNvSpPr>
          <p:nvPr>
            <p:ph/>
          </p:nvPr>
        </p:nvSpPr>
        <p:spPr>
          <a:xfrm>
            <a:off x="6014160" y="3778920"/>
            <a:ext cx="26460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C00CF13A-AE11-4687-8A9A-A658636ACEF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3" name="PlaceHolder 2"/>
          <p:cNvSpPr>
            <a:spLocks noGrp="1"/>
          </p:cNvSpPr>
          <p:nvPr>
            <p:ph type="sldNum" idx="2"/>
          </p:nvPr>
        </p:nvSpPr>
        <p:spPr/>
        <p:txBody>
          <a:bodyPr/>
          <a:p>
            <a:fld id="{8D98057F-46A3-40CB-934F-9CDBF79A3C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68360" y="260280"/>
            <a:ext cx="8207280" cy="4673880"/>
          </a:xfrm>
          <a:prstGeom prst="rect">
            <a:avLst/>
          </a:prstGeom>
          <a:noFill/>
          <a:ln w="0">
            <a:noFill/>
          </a:ln>
        </p:spPr>
        <p:txBody>
          <a:bodyPr lIns="0" rIns="0" tIns="0" bIns="0" anchor="ctr">
            <a:noAutofit/>
          </a:bodyPr>
          <a:p>
            <a:pPr algn="ctr">
              <a:lnSpc>
                <a:spcPct val="9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51234BC9-DB0F-4F2C-B9AA-E4FF10F4C3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19"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 name="PlaceHolder 3"/>
          <p:cNvSpPr>
            <a:spLocks noGrp="1"/>
          </p:cNvSpPr>
          <p:nvPr>
            <p:ph/>
          </p:nvPr>
        </p:nvSpPr>
        <p:spPr>
          <a:xfrm>
            <a:off x="4668120" y="1484280"/>
            <a:ext cx="4010400" cy="439272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 name="PlaceHolder 4"/>
          <p:cNvSpPr>
            <a:spLocks noGrp="1"/>
          </p:cNvSpPr>
          <p:nvPr>
            <p:ph/>
          </p:nvPr>
        </p:nvSpPr>
        <p:spPr>
          <a:xfrm>
            <a:off x="456840" y="377892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sldNum" idx="2"/>
          </p:nvPr>
        </p:nvSpPr>
        <p:spPr/>
        <p:txBody>
          <a:bodyPr/>
          <a:p>
            <a:fld id="{DD30204E-334D-433C-A734-ACF4C3BCC8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23" name="PlaceHolder 2"/>
          <p:cNvSpPr>
            <a:spLocks noGrp="1"/>
          </p:cNvSpPr>
          <p:nvPr>
            <p:ph/>
          </p:nvPr>
        </p:nvSpPr>
        <p:spPr>
          <a:xfrm>
            <a:off x="456840" y="1484280"/>
            <a:ext cx="4010400" cy="439272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 name="PlaceHolder 4"/>
          <p:cNvSpPr>
            <a:spLocks noGrp="1"/>
          </p:cNvSpPr>
          <p:nvPr>
            <p:ph/>
          </p:nvPr>
        </p:nvSpPr>
        <p:spPr>
          <a:xfrm>
            <a:off x="4668120" y="377892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sldNum" idx="2"/>
          </p:nvPr>
        </p:nvSpPr>
        <p:spPr/>
        <p:txBody>
          <a:bodyPr/>
          <a:p>
            <a:fld id="{8DF14438-9C3D-4996-9EC3-26A1F4B537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27"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 name="PlaceHolder 4"/>
          <p:cNvSpPr>
            <a:spLocks noGrp="1"/>
          </p:cNvSpPr>
          <p:nvPr>
            <p:ph/>
          </p:nvPr>
        </p:nvSpPr>
        <p:spPr>
          <a:xfrm>
            <a:off x="456840" y="3778920"/>
            <a:ext cx="821844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sldNum" idx="2"/>
          </p:nvPr>
        </p:nvSpPr>
        <p:spPr/>
        <p:txBody>
          <a:bodyPr/>
          <a:p>
            <a:fld id="{629D2104-5BEB-4751-BC1B-7E577A7E9CA7}"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1"/>
          <p:cNvSpPr/>
          <p:nvPr/>
        </p:nvSpPr>
        <p:spPr>
          <a:xfrm>
            <a:off x="0" y="6561000"/>
            <a:ext cx="9144000" cy="297000"/>
          </a:xfrm>
          <a:prstGeom prst="rect">
            <a:avLst/>
          </a:prstGeom>
          <a:solidFill>
            <a:srgbClr val="7bc14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bc143"/>
                </a:solidFill>
                <a:latin typeface="Arial"/>
              </a:rPr>
              <a:t>Click to edit the title text format</a:t>
            </a:r>
            <a:endParaRPr b="1" lang="en-US" sz="2800" spc="-1" strike="noStrike">
              <a:solidFill>
                <a:srgbClr val="7bc143"/>
              </a:solidFill>
              <a:latin typeface="Arial"/>
            </a:endParaRPr>
          </a:p>
        </p:txBody>
      </p:sp>
      <p:sp>
        <p:nvSpPr>
          <p:cNvPr id="2" name="PlaceHolder 2"/>
          <p:cNvSpPr>
            <a:spLocks noGrp="1"/>
          </p:cNvSpPr>
          <p:nvPr>
            <p:ph type="body"/>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625320" indent="-264960">
              <a:lnSpc>
                <a:spcPct val="9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00000" indent="-27468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165320" indent="-265320">
              <a:lnSpc>
                <a:spcPct val="9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430280" indent="-264960">
              <a:lnSpc>
                <a:spcPct val="9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430280" indent="-264960">
              <a:lnSpc>
                <a:spcPct val="9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430280" indent="-264960">
              <a:lnSpc>
                <a:spcPct val="9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3" name="PlaceHolder 3"/>
          <p:cNvSpPr>
            <a:spLocks noGrp="1"/>
          </p:cNvSpPr>
          <p:nvPr>
            <p:ph type="dt" idx="1"/>
          </p:nvPr>
        </p:nvSpPr>
        <p:spPr>
          <a:xfrm>
            <a:off x="456840" y="6589800"/>
            <a:ext cx="1090440" cy="2239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5B4C6-A754-4A00-BD14-CA1FC947D4D8}" type="datetime">
              <a:rPr b="0" lang="fi-FI" sz="1000" spc="-1" strike="noStrike">
                <a:solidFill>
                  <a:srgbClr val="ffffff"/>
                </a:solidFill>
                <a:latin typeface="Times New Roman"/>
              </a:rPr>
              <a:t>29.07.26</a:t>
            </a:fld>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7596360" y="6597720"/>
            <a:ext cx="107928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7C1F8-DCE0-4972-A811-07EAA428297B}" type="slidenum">
              <a:rPr b="0" lang="fi-FI" sz="1000" spc="-1" strike="noStrike">
                <a:solidFill>
                  <a:srgbClr val="ffffff"/>
                </a:solidFill>
                <a:latin typeface="Times New Roman"/>
              </a:rPr>
              <a:t>&lt;number&gt;</a:t>
            </a:fld>
            <a:endParaRPr b="0" lang="en-US" sz="1000" spc="-1" strike="noStrike">
              <a:solidFill>
                <a:srgbClr val="000000"/>
              </a:solidFill>
              <a:latin typeface="Times New Roman"/>
            </a:endParaRPr>
          </a:p>
        </p:txBody>
      </p:sp>
      <p:grpSp>
        <p:nvGrpSpPr>
          <p:cNvPr id="5" name="Group 29"/>
          <p:cNvGrpSpPr/>
          <p:nvPr/>
        </p:nvGrpSpPr>
        <p:grpSpPr>
          <a:xfrm>
            <a:off x="5867280" y="6324480"/>
            <a:ext cx="2773440" cy="104760"/>
            <a:chOff x="5867280" y="6324480"/>
            <a:chExt cx="2773440" cy="104760"/>
          </a:xfrm>
        </p:grpSpPr>
        <p:sp>
          <p:nvSpPr>
            <p:cNvPr id="6" name="Freeform 27"/>
            <p:cNvSpPr/>
            <p:nvPr/>
          </p:nvSpPr>
          <p:spPr>
            <a:xfrm>
              <a:off x="6978600" y="6324480"/>
              <a:ext cx="1662120" cy="104760"/>
            </a:xfrm>
            <a:custGeom>
              <a:avLst/>
              <a:gdLst>
                <a:gd name="textAreaLeft" fmla="*/ 0 w 1662120"/>
                <a:gd name="textAreaRight" fmla="*/ 1662480 w 1662120"/>
                <a:gd name="textAreaTop" fmla="*/ 0 h 104760"/>
                <a:gd name="textAreaBottom" fmla="*/ 105120 h 104760"/>
              </a:gdLst>
              <a:ahLst/>
              <a:rect l="textAreaLeft" t="textAreaTop" r="textAreaRight" b="textAreaBottom"/>
              <a:pathLst>
                <a:path w="11514" h="728">
                  <a:moveTo>
                    <a:pt x="545" y="715"/>
                  </a:moveTo>
                  <a:lnTo>
                    <a:pt x="545" y="15"/>
                  </a:lnTo>
                  <a:lnTo>
                    <a:pt x="441" y="15"/>
                  </a:lnTo>
                  <a:lnTo>
                    <a:pt x="441" y="301"/>
                  </a:lnTo>
                  <a:lnTo>
                    <a:pt x="102" y="301"/>
                  </a:lnTo>
                  <a:lnTo>
                    <a:pt x="102" y="15"/>
                  </a:lnTo>
                  <a:lnTo>
                    <a:pt x="0" y="15"/>
                  </a:lnTo>
                  <a:lnTo>
                    <a:pt x="0" y="715"/>
                  </a:lnTo>
                  <a:lnTo>
                    <a:pt x="102" y="715"/>
                  </a:lnTo>
                  <a:lnTo>
                    <a:pt x="102" y="391"/>
                  </a:lnTo>
                  <a:lnTo>
                    <a:pt x="441" y="391"/>
                  </a:lnTo>
                  <a:lnTo>
                    <a:pt x="441" y="715"/>
                  </a:lnTo>
                  <a:lnTo>
                    <a:pt x="545" y="715"/>
                  </a:lnTo>
                  <a:close/>
                  <a:moveTo>
                    <a:pt x="1316" y="15"/>
                  </a:moveTo>
                  <a:lnTo>
                    <a:pt x="1199" y="15"/>
                  </a:lnTo>
                  <a:lnTo>
                    <a:pt x="988" y="328"/>
                  </a:lnTo>
                  <a:lnTo>
                    <a:pt x="779" y="15"/>
                  </a:lnTo>
                  <a:lnTo>
                    <a:pt x="661" y="15"/>
                  </a:lnTo>
                  <a:lnTo>
                    <a:pt x="936" y="427"/>
                  </a:lnTo>
                  <a:lnTo>
                    <a:pt x="936" y="715"/>
                  </a:lnTo>
                  <a:lnTo>
                    <a:pt x="1039" y="715"/>
                  </a:lnTo>
                  <a:lnTo>
                    <a:pt x="1039" y="427"/>
                  </a:lnTo>
                  <a:lnTo>
                    <a:pt x="1316" y="15"/>
                  </a:lnTo>
                  <a:close/>
                  <a:moveTo>
                    <a:pt x="2035" y="15"/>
                  </a:moveTo>
                  <a:lnTo>
                    <a:pt x="1926" y="15"/>
                  </a:lnTo>
                  <a:lnTo>
                    <a:pt x="1710" y="610"/>
                  </a:lnTo>
                  <a:lnTo>
                    <a:pt x="1496" y="15"/>
                  </a:lnTo>
                  <a:lnTo>
                    <a:pt x="1384" y="15"/>
                  </a:lnTo>
                  <a:lnTo>
                    <a:pt x="1642" y="715"/>
                  </a:lnTo>
                  <a:lnTo>
                    <a:pt x="1780" y="715"/>
                  </a:lnTo>
                  <a:lnTo>
                    <a:pt x="2035" y="15"/>
                  </a:lnTo>
                  <a:close/>
                  <a:moveTo>
                    <a:pt x="2305" y="715"/>
                  </a:moveTo>
                  <a:lnTo>
                    <a:pt x="2305" y="15"/>
                  </a:lnTo>
                  <a:lnTo>
                    <a:pt x="2203" y="15"/>
                  </a:lnTo>
                  <a:lnTo>
                    <a:pt x="2203" y="715"/>
                  </a:lnTo>
                  <a:lnTo>
                    <a:pt x="2305" y="715"/>
                  </a:lnTo>
                  <a:close/>
                  <a:moveTo>
                    <a:pt x="3101" y="715"/>
                  </a:moveTo>
                  <a:lnTo>
                    <a:pt x="3101" y="15"/>
                  </a:lnTo>
                  <a:lnTo>
                    <a:pt x="2998" y="15"/>
                  </a:lnTo>
                  <a:lnTo>
                    <a:pt x="2998" y="575"/>
                  </a:lnTo>
                  <a:lnTo>
                    <a:pt x="2993" y="575"/>
                  </a:lnTo>
                  <a:lnTo>
                    <a:pt x="2689" y="15"/>
                  </a:lnTo>
                  <a:lnTo>
                    <a:pt x="2556" y="15"/>
                  </a:lnTo>
                  <a:lnTo>
                    <a:pt x="2556" y="715"/>
                  </a:lnTo>
                  <a:lnTo>
                    <a:pt x="2658" y="715"/>
                  </a:lnTo>
                  <a:lnTo>
                    <a:pt x="2658" y="153"/>
                  </a:lnTo>
                  <a:lnTo>
                    <a:pt x="2662" y="153"/>
                  </a:lnTo>
                  <a:lnTo>
                    <a:pt x="2968" y="715"/>
                  </a:lnTo>
                  <a:lnTo>
                    <a:pt x="3101" y="715"/>
                  </a:lnTo>
                  <a:close/>
                  <a:moveTo>
                    <a:pt x="3886" y="15"/>
                  </a:moveTo>
                  <a:lnTo>
                    <a:pt x="3776" y="15"/>
                  </a:lnTo>
                  <a:lnTo>
                    <a:pt x="3562" y="610"/>
                  </a:lnTo>
                  <a:lnTo>
                    <a:pt x="3348" y="15"/>
                  </a:lnTo>
                  <a:lnTo>
                    <a:pt x="3235" y="15"/>
                  </a:lnTo>
                  <a:lnTo>
                    <a:pt x="3494" y="715"/>
                  </a:lnTo>
                  <a:lnTo>
                    <a:pt x="3630" y="715"/>
                  </a:lnTo>
                  <a:lnTo>
                    <a:pt x="3886" y="15"/>
                  </a:lnTo>
                  <a:close/>
                  <a:moveTo>
                    <a:pt x="4643" y="365"/>
                  </a:moveTo>
                  <a:lnTo>
                    <a:pt x="4642" y="326"/>
                  </a:lnTo>
                  <a:lnTo>
                    <a:pt x="4638" y="290"/>
                  </a:lnTo>
                  <a:lnTo>
                    <a:pt x="4631" y="255"/>
                  </a:lnTo>
                  <a:lnTo>
                    <a:pt x="4621" y="222"/>
                  </a:lnTo>
                  <a:lnTo>
                    <a:pt x="4609" y="191"/>
                  </a:lnTo>
                  <a:lnTo>
                    <a:pt x="4594" y="161"/>
                  </a:lnTo>
                  <a:lnTo>
                    <a:pt x="4577" y="134"/>
                  </a:lnTo>
                  <a:lnTo>
                    <a:pt x="4558" y="108"/>
                  </a:lnTo>
                  <a:lnTo>
                    <a:pt x="4534" y="83"/>
                  </a:lnTo>
                  <a:lnTo>
                    <a:pt x="4507" y="61"/>
                  </a:lnTo>
                  <a:lnTo>
                    <a:pt x="4479" y="43"/>
                  </a:lnTo>
                  <a:lnTo>
                    <a:pt x="4448" y="28"/>
                  </a:lnTo>
                  <a:lnTo>
                    <a:pt x="4416" y="17"/>
                  </a:lnTo>
                  <a:lnTo>
                    <a:pt x="4382" y="8"/>
                  </a:lnTo>
                  <a:lnTo>
                    <a:pt x="4346" y="3"/>
                  </a:lnTo>
                  <a:lnTo>
                    <a:pt x="4307" y="2"/>
                  </a:lnTo>
                  <a:lnTo>
                    <a:pt x="4268" y="3"/>
                  </a:lnTo>
                  <a:lnTo>
                    <a:pt x="4231" y="8"/>
                  </a:lnTo>
                  <a:lnTo>
                    <a:pt x="4197" y="17"/>
                  </a:lnTo>
                  <a:lnTo>
                    <a:pt x="4164" y="28"/>
                  </a:lnTo>
                  <a:lnTo>
                    <a:pt x="4134" y="43"/>
                  </a:lnTo>
                  <a:lnTo>
                    <a:pt x="4106" y="61"/>
                  </a:lnTo>
                  <a:lnTo>
                    <a:pt x="4080" y="83"/>
                  </a:lnTo>
                  <a:lnTo>
                    <a:pt x="4056" y="108"/>
                  </a:lnTo>
                  <a:lnTo>
                    <a:pt x="4037" y="133"/>
                  </a:lnTo>
                  <a:lnTo>
                    <a:pt x="4019" y="161"/>
                  </a:lnTo>
                  <a:lnTo>
                    <a:pt x="4004" y="190"/>
                  </a:lnTo>
                  <a:lnTo>
                    <a:pt x="3992" y="221"/>
                  </a:lnTo>
                  <a:lnTo>
                    <a:pt x="3984" y="255"/>
                  </a:lnTo>
                  <a:lnTo>
                    <a:pt x="3977" y="289"/>
                  </a:lnTo>
                  <a:lnTo>
                    <a:pt x="3973" y="326"/>
                  </a:lnTo>
                  <a:lnTo>
                    <a:pt x="3972" y="365"/>
                  </a:lnTo>
                  <a:lnTo>
                    <a:pt x="3973" y="404"/>
                  </a:lnTo>
                  <a:lnTo>
                    <a:pt x="3977" y="441"/>
                  </a:lnTo>
                  <a:lnTo>
                    <a:pt x="3984" y="475"/>
                  </a:lnTo>
                  <a:lnTo>
                    <a:pt x="3993" y="509"/>
                  </a:lnTo>
                  <a:lnTo>
                    <a:pt x="4005" y="539"/>
                  </a:lnTo>
                  <a:lnTo>
                    <a:pt x="4019" y="568"/>
                  </a:lnTo>
                  <a:lnTo>
                    <a:pt x="4037" y="596"/>
                  </a:lnTo>
                  <a:lnTo>
                    <a:pt x="4056" y="621"/>
                  </a:lnTo>
                  <a:lnTo>
                    <a:pt x="4080" y="647"/>
                  </a:lnTo>
                  <a:lnTo>
                    <a:pt x="4106" y="669"/>
                  </a:lnTo>
                  <a:lnTo>
                    <a:pt x="4134" y="687"/>
                  </a:lnTo>
                  <a:lnTo>
                    <a:pt x="4164" y="701"/>
                  </a:lnTo>
                  <a:lnTo>
                    <a:pt x="4197" y="713"/>
                  </a:lnTo>
                  <a:lnTo>
                    <a:pt x="4231" y="722"/>
                  </a:lnTo>
                  <a:lnTo>
                    <a:pt x="4268" y="726"/>
                  </a:lnTo>
                  <a:lnTo>
                    <a:pt x="4307" y="728"/>
                  </a:lnTo>
                  <a:lnTo>
                    <a:pt x="4346" y="726"/>
                  </a:lnTo>
                  <a:lnTo>
                    <a:pt x="4382" y="722"/>
                  </a:lnTo>
                  <a:lnTo>
                    <a:pt x="4416" y="713"/>
                  </a:lnTo>
                  <a:lnTo>
                    <a:pt x="4448" y="701"/>
                  </a:lnTo>
                  <a:lnTo>
                    <a:pt x="4479" y="687"/>
                  </a:lnTo>
                  <a:lnTo>
                    <a:pt x="4507" y="669"/>
                  </a:lnTo>
                  <a:lnTo>
                    <a:pt x="4534" y="647"/>
                  </a:lnTo>
                  <a:lnTo>
                    <a:pt x="4558" y="621"/>
                  </a:lnTo>
                  <a:lnTo>
                    <a:pt x="4577" y="595"/>
                  </a:lnTo>
                  <a:lnTo>
                    <a:pt x="4594" y="568"/>
                  </a:lnTo>
                  <a:lnTo>
                    <a:pt x="4609" y="539"/>
                  </a:lnTo>
                  <a:lnTo>
                    <a:pt x="4621" y="508"/>
                  </a:lnTo>
                  <a:lnTo>
                    <a:pt x="4631" y="475"/>
                  </a:lnTo>
                  <a:lnTo>
                    <a:pt x="4638" y="441"/>
                  </a:lnTo>
                  <a:lnTo>
                    <a:pt x="4642" y="404"/>
                  </a:lnTo>
                  <a:lnTo>
                    <a:pt x="4643" y="365"/>
                  </a:lnTo>
                  <a:close/>
                  <a:moveTo>
                    <a:pt x="4537" y="365"/>
                  </a:moveTo>
                  <a:lnTo>
                    <a:pt x="4536" y="394"/>
                  </a:lnTo>
                  <a:lnTo>
                    <a:pt x="4534" y="422"/>
                  </a:lnTo>
                  <a:lnTo>
                    <a:pt x="4528" y="448"/>
                  </a:lnTo>
                  <a:lnTo>
                    <a:pt x="4522" y="473"/>
                  </a:lnTo>
                  <a:lnTo>
                    <a:pt x="4514" y="497"/>
                  </a:lnTo>
                  <a:lnTo>
                    <a:pt x="4504" y="519"/>
                  </a:lnTo>
                  <a:lnTo>
                    <a:pt x="4492" y="540"/>
                  </a:lnTo>
                  <a:lnTo>
                    <a:pt x="4477" y="561"/>
                  </a:lnTo>
                  <a:lnTo>
                    <a:pt x="4460" y="579"/>
                  </a:lnTo>
                  <a:lnTo>
                    <a:pt x="4443" y="594"/>
                  </a:lnTo>
                  <a:lnTo>
                    <a:pt x="4424" y="608"/>
                  </a:lnTo>
                  <a:lnTo>
                    <a:pt x="4403" y="619"/>
                  </a:lnTo>
                  <a:lnTo>
                    <a:pt x="4381" y="628"/>
                  </a:lnTo>
                  <a:lnTo>
                    <a:pt x="4358" y="634"/>
                  </a:lnTo>
                  <a:lnTo>
                    <a:pt x="4333" y="637"/>
                  </a:lnTo>
                  <a:lnTo>
                    <a:pt x="4307" y="638"/>
                  </a:lnTo>
                  <a:lnTo>
                    <a:pt x="4281" y="637"/>
                  </a:lnTo>
                  <a:lnTo>
                    <a:pt x="4256" y="634"/>
                  </a:lnTo>
                  <a:lnTo>
                    <a:pt x="4232" y="628"/>
                  </a:lnTo>
                  <a:lnTo>
                    <a:pt x="4211" y="619"/>
                  </a:lnTo>
                  <a:lnTo>
                    <a:pt x="4190" y="608"/>
                  </a:lnTo>
                  <a:lnTo>
                    <a:pt x="4171" y="594"/>
                  </a:lnTo>
                  <a:lnTo>
                    <a:pt x="4153" y="579"/>
                  </a:lnTo>
                  <a:lnTo>
                    <a:pt x="4137" y="561"/>
                  </a:lnTo>
                  <a:lnTo>
                    <a:pt x="4122" y="540"/>
                  </a:lnTo>
                  <a:lnTo>
                    <a:pt x="4110" y="519"/>
                  </a:lnTo>
                  <a:lnTo>
                    <a:pt x="4099" y="497"/>
                  </a:lnTo>
                  <a:lnTo>
                    <a:pt x="4091" y="473"/>
                  </a:lnTo>
                  <a:lnTo>
                    <a:pt x="4084" y="448"/>
                  </a:lnTo>
                  <a:lnTo>
                    <a:pt x="4079" y="422"/>
                  </a:lnTo>
                  <a:lnTo>
                    <a:pt x="4077" y="394"/>
                  </a:lnTo>
                  <a:lnTo>
                    <a:pt x="4076" y="365"/>
                  </a:lnTo>
                  <a:lnTo>
                    <a:pt x="4077" y="336"/>
                  </a:lnTo>
                  <a:lnTo>
                    <a:pt x="4079" y="309"/>
                  </a:lnTo>
                  <a:lnTo>
                    <a:pt x="4084" y="282"/>
                  </a:lnTo>
                  <a:lnTo>
                    <a:pt x="4091" y="257"/>
                  </a:lnTo>
                  <a:lnTo>
                    <a:pt x="4099" y="233"/>
                  </a:lnTo>
                  <a:lnTo>
                    <a:pt x="4110" y="212"/>
                  </a:lnTo>
                  <a:lnTo>
                    <a:pt x="4122" y="190"/>
                  </a:lnTo>
                  <a:lnTo>
                    <a:pt x="4137" y="171"/>
                  </a:lnTo>
                  <a:lnTo>
                    <a:pt x="4153" y="152"/>
                  </a:lnTo>
                  <a:lnTo>
                    <a:pt x="4172" y="136"/>
                  </a:lnTo>
                  <a:lnTo>
                    <a:pt x="4190" y="122"/>
                  </a:lnTo>
                  <a:lnTo>
                    <a:pt x="4211" y="111"/>
                  </a:lnTo>
                  <a:lnTo>
                    <a:pt x="4233" y="102"/>
                  </a:lnTo>
                  <a:lnTo>
                    <a:pt x="4256" y="96"/>
                  </a:lnTo>
                  <a:lnTo>
                    <a:pt x="4281" y="93"/>
                  </a:lnTo>
                  <a:lnTo>
                    <a:pt x="4307" y="92"/>
                  </a:lnTo>
                  <a:lnTo>
                    <a:pt x="4333" y="93"/>
                  </a:lnTo>
                  <a:lnTo>
                    <a:pt x="4358" y="96"/>
                  </a:lnTo>
                  <a:lnTo>
                    <a:pt x="4380" y="102"/>
                  </a:lnTo>
                  <a:lnTo>
                    <a:pt x="4402" y="111"/>
                  </a:lnTo>
                  <a:lnTo>
                    <a:pt x="4422" y="122"/>
                  </a:lnTo>
                  <a:lnTo>
                    <a:pt x="4442" y="136"/>
                  </a:lnTo>
                  <a:lnTo>
                    <a:pt x="4460" y="152"/>
                  </a:lnTo>
                  <a:lnTo>
                    <a:pt x="4477" y="171"/>
                  </a:lnTo>
                  <a:lnTo>
                    <a:pt x="4492" y="190"/>
                  </a:lnTo>
                  <a:lnTo>
                    <a:pt x="4504" y="212"/>
                  </a:lnTo>
                  <a:lnTo>
                    <a:pt x="4514" y="233"/>
                  </a:lnTo>
                  <a:lnTo>
                    <a:pt x="4522" y="257"/>
                  </a:lnTo>
                  <a:lnTo>
                    <a:pt x="4528" y="282"/>
                  </a:lnTo>
                  <a:lnTo>
                    <a:pt x="4534" y="309"/>
                  </a:lnTo>
                  <a:lnTo>
                    <a:pt x="4536" y="336"/>
                  </a:lnTo>
                  <a:lnTo>
                    <a:pt x="4537" y="365"/>
                  </a:lnTo>
                  <a:close/>
                  <a:moveTo>
                    <a:pt x="4939" y="715"/>
                  </a:moveTo>
                  <a:lnTo>
                    <a:pt x="4939" y="15"/>
                  </a:lnTo>
                  <a:lnTo>
                    <a:pt x="4838" y="15"/>
                  </a:lnTo>
                  <a:lnTo>
                    <a:pt x="4838" y="715"/>
                  </a:lnTo>
                  <a:lnTo>
                    <a:pt x="4939" y="715"/>
                  </a:lnTo>
                  <a:close/>
                  <a:moveTo>
                    <a:pt x="5734" y="715"/>
                  </a:moveTo>
                  <a:lnTo>
                    <a:pt x="5734" y="15"/>
                  </a:lnTo>
                  <a:lnTo>
                    <a:pt x="5631" y="15"/>
                  </a:lnTo>
                  <a:lnTo>
                    <a:pt x="5631" y="575"/>
                  </a:lnTo>
                  <a:lnTo>
                    <a:pt x="5627" y="575"/>
                  </a:lnTo>
                  <a:lnTo>
                    <a:pt x="5322" y="15"/>
                  </a:lnTo>
                  <a:lnTo>
                    <a:pt x="5189" y="15"/>
                  </a:lnTo>
                  <a:lnTo>
                    <a:pt x="5189" y="715"/>
                  </a:lnTo>
                  <a:lnTo>
                    <a:pt x="5292" y="715"/>
                  </a:lnTo>
                  <a:lnTo>
                    <a:pt x="5292" y="153"/>
                  </a:lnTo>
                  <a:lnTo>
                    <a:pt x="5295" y="153"/>
                  </a:lnTo>
                  <a:lnTo>
                    <a:pt x="5601" y="715"/>
                  </a:lnTo>
                  <a:lnTo>
                    <a:pt x="5734" y="715"/>
                  </a:lnTo>
                  <a:close/>
                  <a:moveTo>
                    <a:pt x="6496" y="715"/>
                  </a:moveTo>
                  <a:lnTo>
                    <a:pt x="6496" y="15"/>
                  </a:lnTo>
                  <a:lnTo>
                    <a:pt x="6393" y="15"/>
                  </a:lnTo>
                  <a:lnTo>
                    <a:pt x="6393" y="575"/>
                  </a:lnTo>
                  <a:lnTo>
                    <a:pt x="6390" y="575"/>
                  </a:lnTo>
                  <a:lnTo>
                    <a:pt x="6085" y="15"/>
                  </a:lnTo>
                  <a:lnTo>
                    <a:pt x="5952" y="15"/>
                  </a:lnTo>
                  <a:lnTo>
                    <a:pt x="5952" y="715"/>
                  </a:lnTo>
                  <a:lnTo>
                    <a:pt x="6055" y="715"/>
                  </a:lnTo>
                  <a:lnTo>
                    <a:pt x="6055" y="153"/>
                  </a:lnTo>
                  <a:lnTo>
                    <a:pt x="6057" y="153"/>
                  </a:lnTo>
                  <a:lnTo>
                    <a:pt x="6363" y="715"/>
                  </a:lnTo>
                  <a:lnTo>
                    <a:pt x="6496" y="715"/>
                  </a:lnTo>
                  <a:close/>
                  <a:moveTo>
                    <a:pt x="6829" y="715"/>
                  </a:moveTo>
                  <a:lnTo>
                    <a:pt x="6829" y="15"/>
                  </a:lnTo>
                  <a:lnTo>
                    <a:pt x="6727" y="15"/>
                  </a:lnTo>
                  <a:lnTo>
                    <a:pt x="6727" y="715"/>
                  </a:lnTo>
                  <a:lnTo>
                    <a:pt x="6829" y="715"/>
                  </a:lnTo>
                  <a:close/>
                  <a:moveTo>
                    <a:pt x="7590" y="715"/>
                  </a:moveTo>
                  <a:lnTo>
                    <a:pt x="7590" y="15"/>
                  </a:lnTo>
                  <a:lnTo>
                    <a:pt x="7487" y="15"/>
                  </a:lnTo>
                  <a:lnTo>
                    <a:pt x="7487" y="575"/>
                  </a:lnTo>
                  <a:lnTo>
                    <a:pt x="7483" y="575"/>
                  </a:lnTo>
                  <a:lnTo>
                    <a:pt x="7178" y="15"/>
                  </a:lnTo>
                  <a:lnTo>
                    <a:pt x="7045" y="15"/>
                  </a:lnTo>
                  <a:lnTo>
                    <a:pt x="7045" y="715"/>
                  </a:lnTo>
                  <a:lnTo>
                    <a:pt x="7148" y="715"/>
                  </a:lnTo>
                  <a:lnTo>
                    <a:pt x="7148" y="153"/>
                  </a:lnTo>
                  <a:lnTo>
                    <a:pt x="7151" y="153"/>
                  </a:lnTo>
                  <a:lnTo>
                    <a:pt x="7457" y="715"/>
                  </a:lnTo>
                  <a:lnTo>
                    <a:pt x="7590" y="715"/>
                  </a:lnTo>
                  <a:close/>
                  <a:moveTo>
                    <a:pt x="8516" y="715"/>
                  </a:moveTo>
                  <a:lnTo>
                    <a:pt x="8516" y="625"/>
                  </a:lnTo>
                  <a:lnTo>
                    <a:pt x="8228" y="625"/>
                  </a:lnTo>
                  <a:lnTo>
                    <a:pt x="8228" y="15"/>
                  </a:lnTo>
                  <a:lnTo>
                    <a:pt x="8127" y="15"/>
                  </a:lnTo>
                  <a:lnTo>
                    <a:pt x="8127" y="715"/>
                  </a:lnTo>
                  <a:lnTo>
                    <a:pt x="8516" y="715"/>
                  </a:lnTo>
                  <a:close/>
                  <a:moveTo>
                    <a:pt x="9326" y="715"/>
                  </a:moveTo>
                  <a:lnTo>
                    <a:pt x="9020" y="15"/>
                  </a:lnTo>
                  <a:lnTo>
                    <a:pt x="8922" y="15"/>
                  </a:lnTo>
                  <a:lnTo>
                    <a:pt x="8617" y="715"/>
                  </a:lnTo>
                  <a:lnTo>
                    <a:pt x="8727" y="715"/>
                  </a:lnTo>
                  <a:lnTo>
                    <a:pt x="8799" y="536"/>
                  </a:lnTo>
                  <a:lnTo>
                    <a:pt x="9142" y="536"/>
                  </a:lnTo>
                  <a:lnTo>
                    <a:pt x="9216" y="715"/>
                  </a:lnTo>
                  <a:lnTo>
                    <a:pt x="9326" y="715"/>
                  </a:lnTo>
                  <a:close/>
                  <a:moveTo>
                    <a:pt x="9110" y="456"/>
                  </a:moveTo>
                  <a:lnTo>
                    <a:pt x="8833" y="456"/>
                  </a:lnTo>
                  <a:lnTo>
                    <a:pt x="8971" y="111"/>
                  </a:lnTo>
                  <a:lnTo>
                    <a:pt x="9110" y="456"/>
                  </a:lnTo>
                  <a:close/>
                  <a:moveTo>
                    <a:pt x="9559" y="715"/>
                  </a:moveTo>
                  <a:lnTo>
                    <a:pt x="9559" y="15"/>
                  </a:lnTo>
                  <a:lnTo>
                    <a:pt x="9457" y="15"/>
                  </a:lnTo>
                  <a:lnTo>
                    <a:pt x="9457" y="715"/>
                  </a:lnTo>
                  <a:lnTo>
                    <a:pt x="9559" y="715"/>
                  </a:lnTo>
                  <a:close/>
                  <a:moveTo>
                    <a:pt x="10228" y="102"/>
                  </a:moveTo>
                  <a:lnTo>
                    <a:pt x="10228" y="15"/>
                  </a:lnTo>
                  <a:lnTo>
                    <a:pt x="9699" y="15"/>
                  </a:lnTo>
                  <a:lnTo>
                    <a:pt x="9699" y="102"/>
                  </a:lnTo>
                  <a:lnTo>
                    <a:pt x="9913" y="102"/>
                  </a:lnTo>
                  <a:lnTo>
                    <a:pt x="9913" y="715"/>
                  </a:lnTo>
                  <a:lnTo>
                    <a:pt x="10015" y="715"/>
                  </a:lnTo>
                  <a:lnTo>
                    <a:pt x="10015" y="102"/>
                  </a:lnTo>
                  <a:lnTo>
                    <a:pt x="10228" y="102"/>
                  </a:lnTo>
                  <a:close/>
                  <a:moveTo>
                    <a:pt x="10971" y="365"/>
                  </a:moveTo>
                  <a:lnTo>
                    <a:pt x="10970" y="326"/>
                  </a:lnTo>
                  <a:lnTo>
                    <a:pt x="10965" y="290"/>
                  </a:lnTo>
                  <a:lnTo>
                    <a:pt x="10959" y="255"/>
                  </a:lnTo>
                  <a:lnTo>
                    <a:pt x="10949" y="222"/>
                  </a:lnTo>
                  <a:lnTo>
                    <a:pt x="10937" y="191"/>
                  </a:lnTo>
                  <a:lnTo>
                    <a:pt x="10922" y="161"/>
                  </a:lnTo>
                  <a:lnTo>
                    <a:pt x="10906" y="134"/>
                  </a:lnTo>
                  <a:lnTo>
                    <a:pt x="10885" y="108"/>
                  </a:lnTo>
                  <a:lnTo>
                    <a:pt x="10862" y="83"/>
                  </a:lnTo>
                  <a:lnTo>
                    <a:pt x="10836" y="61"/>
                  </a:lnTo>
                  <a:lnTo>
                    <a:pt x="10808" y="43"/>
                  </a:lnTo>
                  <a:lnTo>
                    <a:pt x="10777" y="28"/>
                  </a:lnTo>
                  <a:lnTo>
                    <a:pt x="10745" y="17"/>
                  </a:lnTo>
                  <a:lnTo>
                    <a:pt x="10710" y="8"/>
                  </a:lnTo>
                  <a:lnTo>
                    <a:pt x="10674" y="3"/>
                  </a:lnTo>
                  <a:lnTo>
                    <a:pt x="10635" y="2"/>
                  </a:lnTo>
                  <a:lnTo>
                    <a:pt x="10596" y="3"/>
                  </a:lnTo>
                  <a:lnTo>
                    <a:pt x="10559" y="8"/>
                  </a:lnTo>
                  <a:lnTo>
                    <a:pt x="10524" y="17"/>
                  </a:lnTo>
                  <a:lnTo>
                    <a:pt x="10492" y="28"/>
                  </a:lnTo>
                  <a:lnTo>
                    <a:pt x="10462" y="43"/>
                  </a:lnTo>
                  <a:lnTo>
                    <a:pt x="10434" y="61"/>
                  </a:lnTo>
                  <a:lnTo>
                    <a:pt x="10408" y="83"/>
                  </a:lnTo>
                  <a:lnTo>
                    <a:pt x="10384" y="108"/>
                  </a:lnTo>
                  <a:lnTo>
                    <a:pt x="10364" y="133"/>
                  </a:lnTo>
                  <a:lnTo>
                    <a:pt x="10347" y="161"/>
                  </a:lnTo>
                  <a:lnTo>
                    <a:pt x="10332" y="190"/>
                  </a:lnTo>
                  <a:lnTo>
                    <a:pt x="10320" y="221"/>
                  </a:lnTo>
                  <a:lnTo>
                    <a:pt x="10311" y="255"/>
                  </a:lnTo>
                  <a:lnTo>
                    <a:pt x="10305" y="289"/>
                  </a:lnTo>
                  <a:lnTo>
                    <a:pt x="10301" y="326"/>
                  </a:lnTo>
                  <a:lnTo>
                    <a:pt x="10300" y="365"/>
                  </a:lnTo>
                  <a:lnTo>
                    <a:pt x="10301" y="404"/>
                  </a:lnTo>
                  <a:lnTo>
                    <a:pt x="10305" y="441"/>
                  </a:lnTo>
                  <a:lnTo>
                    <a:pt x="10311" y="475"/>
                  </a:lnTo>
                  <a:lnTo>
                    <a:pt x="10321" y="509"/>
                  </a:lnTo>
                  <a:lnTo>
                    <a:pt x="10333" y="539"/>
                  </a:lnTo>
                  <a:lnTo>
                    <a:pt x="10347" y="568"/>
                  </a:lnTo>
                  <a:lnTo>
                    <a:pt x="10364" y="596"/>
                  </a:lnTo>
                  <a:lnTo>
                    <a:pt x="10384" y="621"/>
                  </a:lnTo>
                  <a:lnTo>
                    <a:pt x="10408" y="647"/>
                  </a:lnTo>
                  <a:lnTo>
                    <a:pt x="10434" y="669"/>
                  </a:lnTo>
                  <a:lnTo>
                    <a:pt x="10462" y="687"/>
                  </a:lnTo>
                  <a:lnTo>
                    <a:pt x="10492" y="701"/>
                  </a:lnTo>
                  <a:lnTo>
                    <a:pt x="10524" y="713"/>
                  </a:lnTo>
                  <a:lnTo>
                    <a:pt x="10559" y="722"/>
                  </a:lnTo>
                  <a:lnTo>
                    <a:pt x="10596" y="726"/>
                  </a:lnTo>
                  <a:lnTo>
                    <a:pt x="10635" y="728"/>
                  </a:lnTo>
                  <a:lnTo>
                    <a:pt x="10674" y="726"/>
                  </a:lnTo>
                  <a:lnTo>
                    <a:pt x="10710" y="722"/>
                  </a:lnTo>
                  <a:lnTo>
                    <a:pt x="10745" y="713"/>
                  </a:lnTo>
                  <a:lnTo>
                    <a:pt x="10777" y="701"/>
                  </a:lnTo>
                  <a:lnTo>
                    <a:pt x="10808" y="687"/>
                  </a:lnTo>
                  <a:lnTo>
                    <a:pt x="10836" y="669"/>
                  </a:lnTo>
                  <a:lnTo>
                    <a:pt x="10862" y="647"/>
                  </a:lnTo>
                  <a:lnTo>
                    <a:pt x="10885" y="621"/>
                  </a:lnTo>
                  <a:lnTo>
                    <a:pt x="10906" y="595"/>
                  </a:lnTo>
                  <a:lnTo>
                    <a:pt x="10922" y="568"/>
                  </a:lnTo>
                  <a:lnTo>
                    <a:pt x="10937" y="539"/>
                  </a:lnTo>
                  <a:lnTo>
                    <a:pt x="10949" y="508"/>
                  </a:lnTo>
                  <a:lnTo>
                    <a:pt x="10959" y="475"/>
                  </a:lnTo>
                  <a:lnTo>
                    <a:pt x="10965" y="441"/>
                  </a:lnTo>
                  <a:lnTo>
                    <a:pt x="10970" y="404"/>
                  </a:lnTo>
                  <a:lnTo>
                    <a:pt x="10971" y="365"/>
                  </a:lnTo>
                  <a:close/>
                  <a:moveTo>
                    <a:pt x="10866" y="365"/>
                  </a:moveTo>
                  <a:lnTo>
                    <a:pt x="10865" y="394"/>
                  </a:lnTo>
                  <a:lnTo>
                    <a:pt x="10862" y="422"/>
                  </a:lnTo>
                  <a:lnTo>
                    <a:pt x="10857" y="448"/>
                  </a:lnTo>
                  <a:lnTo>
                    <a:pt x="10851" y="473"/>
                  </a:lnTo>
                  <a:lnTo>
                    <a:pt x="10842" y="497"/>
                  </a:lnTo>
                  <a:lnTo>
                    <a:pt x="10831" y="519"/>
                  </a:lnTo>
                  <a:lnTo>
                    <a:pt x="10819" y="540"/>
                  </a:lnTo>
                  <a:lnTo>
                    <a:pt x="10805" y="561"/>
                  </a:lnTo>
                  <a:lnTo>
                    <a:pt x="10788" y="579"/>
                  </a:lnTo>
                  <a:lnTo>
                    <a:pt x="10771" y="594"/>
                  </a:lnTo>
                  <a:lnTo>
                    <a:pt x="10751" y="608"/>
                  </a:lnTo>
                  <a:lnTo>
                    <a:pt x="10731" y="619"/>
                  </a:lnTo>
                  <a:lnTo>
                    <a:pt x="10709" y="628"/>
                  </a:lnTo>
                  <a:lnTo>
                    <a:pt x="10685" y="634"/>
                  </a:lnTo>
                  <a:lnTo>
                    <a:pt x="10661" y="637"/>
                  </a:lnTo>
                  <a:lnTo>
                    <a:pt x="10635" y="638"/>
                  </a:lnTo>
                  <a:lnTo>
                    <a:pt x="10609" y="637"/>
                  </a:lnTo>
                  <a:lnTo>
                    <a:pt x="10584" y="634"/>
                  </a:lnTo>
                  <a:lnTo>
                    <a:pt x="10561" y="628"/>
                  </a:lnTo>
                  <a:lnTo>
                    <a:pt x="10538" y="619"/>
                  </a:lnTo>
                  <a:lnTo>
                    <a:pt x="10518" y="608"/>
                  </a:lnTo>
                  <a:lnTo>
                    <a:pt x="10498" y="594"/>
                  </a:lnTo>
                  <a:lnTo>
                    <a:pt x="10481" y="579"/>
                  </a:lnTo>
                  <a:lnTo>
                    <a:pt x="10465" y="561"/>
                  </a:lnTo>
                  <a:lnTo>
                    <a:pt x="10451" y="540"/>
                  </a:lnTo>
                  <a:lnTo>
                    <a:pt x="10438" y="519"/>
                  </a:lnTo>
                  <a:lnTo>
                    <a:pt x="10427" y="497"/>
                  </a:lnTo>
                  <a:lnTo>
                    <a:pt x="10418" y="473"/>
                  </a:lnTo>
                  <a:lnTo>
                    <a:pt x="10412" y="448"/>
                  </a:lnTo>
                  <a:lnTo>
                    <a:pt x="10408" y="422"/>
                  </a:lnTo>
                  <a:lnTo>
                    <a:pt x="10404" y="394"/>
                  </a:lnTo>
                  <a:lnTo>
                    <a:pt x="10403" y="365"/>
                  </a:lnTo>
                  <a:lnTo>
                    <a:pt x="10404" y="336"/>
                  </a:lnTo>
                  <a:lnTo>
                    <a:pt x="10408" y="309"/>
                  </a:lnTo>
                  <a:lnTo>
                    <a:pt x="10412" y="282"/>
                  </a:lnTo>
                  <a:lnTo>
                    <a:pt x="10418" y="257"/>
                  </a:lnTo>
                  <a:lnTo>
                    <a:pt x="10427" y="233"/>
                  </a:lnTo>
                  <a:lnTo>
                    <a:pt x="10438" y="212"/>
                  </a:lnTo>
                  <a:lnTo>
                    <a:pt x="10451" y="190"/>
                  </a:lnTo>
                  <a:lnTo>
                    <a:pt x="10465" y="171"/>
                  </a:lnTo>
                  <a:lnTo>
                    <a:pt x="10481" y="152"/>
                  </a:lnTo>
                  <a:lnTo>
                    <a:pt x="10499" y="136"/>
                  </a:lnTo>
                  <a:lnTo>
                    <a:pt x="10518" y="122"/>
                  </a:lnTo>
                  <a:lnTo>
                    <a:pt x="10538" y="111"/>
                  </a:lnTo>
                  <a:lnTo>
                    <a:pt x="10561" y="102"/>
                  </a:lnTo>
                  <a:lnTo>
                    <a:pt x="10584" y="96"/>
                  </a:lnTo>
                  <a:lnTo>
                    <a:pt x="10609" y="93"/>
                  </a:lnTo>
                  <a:lnTo>
                    <a:pt x="10635" y="92"/>
                  </a:lnTo>
                  <a:lnTo>
                    <a:pt x="10661" y="93"/>
                  </a:lnTo>
                  <a:lnTo>
                    <a:pt x="10685" y="96"/>
                  </a:lnTo>
                  <a:lnTo>
                    <a:pt x="10708" y="102"/>
                  </a:lnTo>
                  <a:lnTo>
                    <a:pt x="10730" y="111"/>
                  </a:lnTo>
                  <a:lnTo>
                    <a:pt x="10750" y="122"/>
                  </a:lnTo>
                  <a:lnTo>
                    <a:pt x="10770" y="136"/>
                  </a:lnTo>
                  <a:lnTo>
                    <a:pt x="10788" y="152"/>
                  </a:lnTo>
                  <a:lnTo>
                    <a:pt x="10805" y="171"/>
                  </a:lnTo>
                  <a:lnTo>
                    <a:pt x="10819" y="190"/>
                  </a:lnTo>
                  <a:lnTo>
                    <a:pt x="10831" y="212"/>
                  </a:lnTo>
                  <a:lnTo>
                    <a:pt x="10842" y="233"/>
                  </a:lnTo>
                  <a:lnTo>
                    <a:pt x="10851" y="257"/>
                  </a:lnTo>
                  <a:lnTo>
                    <a:pt x="10857" y="282"/>
                  </a:lnTo>
                  <a:lnTo>
                    <a:pt x="10862" y="309"/>
                  </a:lnTo>
                  <a:lnTo>
                    <a:pt x="10865" y="336"/>
                  </a:lnTo>
                  <a:lnTo>
                    <a:pt x="10866" y="365"/>
                  </a:lnTo>
                  <a:close/>
                  <a:moveTo>
                    <a:pt x="11514" y="526"/>
                  </a:moveTo>
                  <a:lnTo>
                    <a:pt x="11513" y="501"/>
                  </a:lnTo>
                  <a:lnTo>
                    <a:pt x="11510" y="478"/>
                  </a:lnTo>
                  <a:lnTo>
                    <a:pt x="11504" y="456"/>
                  </a:lnTo>
                  <a:lnTo>
                    <a:pt x="11495" y="434"/>
                  </a:lnTo>
                  <a:lnTo>
                    <a:pt x="11484" y="415"/>
                  </a:lnTo>
                  <a:lnTo>
                    <a:pt x="11471" y="395"/>
                  </a:lnTo>
                  <a:lnTo>
                    <a:pt x="11455" y="377"/>
                  </a:lnTo>
                  <a:lnTo>
                    <a:pt x="11437" y="360"/>
                  </a:lnTo>
                  <a:lnTo>
                    <a:pt x="11417" y="347"/>
                  </a:lnTo>
                  <a:lnTo>
                    <a:pt x="11387" y="328"/>
                  </a:lnTo>
                  <a:lnTo>
                    <a:pt x="11291" y="274"/>
                  </a:lnTo>
                  <a:lnTo>
                    <a:pt x="11272" y="263"/>
                  </a:lnTo>
                  <a:lnTo>
                    <a:pt x="11256" y="253"/>
                  </a:lnTo>
                  <a:lnTo>
                    <a:pt x="11242" y="242"/>
                  </a:lnTo>
                  <a:lnTo>
                    <a:pt x="11231" y="231"/>
                  </a:lnTo>
                  <a:lnTo>
                    <a:pt x="11223" y="221"/>
                  </a:lnTo>
                  <a:lnTo>
                    <a:pt x="11216" y="211"/>
                  </a:lnTo>
                  <a:lnTo>
                    <a:pt x="11214" y="205"/>
                  </a:lnTo>
                  <a:lnTo>
                    <a:pt x="11212" y="200"/>
                  </a:lnTo>
                  <a:lnTo>
                    <a:pt x="11211" y="190"/>
                  </a:lnTo>
                  <a:lnTo>
                    <a:pt x="11213" y="171"/>
                  </a:lnTo>
                  <a:lnTo>
                    <a:pt x="11219" y="153"/>
                  </a:lnTo>
                  <a:lnTo>
                    <a:pt x="11230" y="136"/>
                  </a:lnTo>
                  <a:lnTo>
                    <a:pt x="11238" y="128"/>
                  </a:lnTo>
                  <a:lnTo>
                    <a:pt x="11245" y="121"/>
                  </a:lnTo>
                  <a:lnTo>
                    <a:pt x="11264" y="107"/>
                  </a:lnTo>
                  <a:lnTo>
                    <a:pt x="11273" y="101"/>
                  </a:lnTo>
                  <a:lnTo>
                    <a:pt x="11284" y="97"/>
                  </a:lnTo>
                  <a:lnTo>
                    <a:pt x="11307" y="92"/>
                  </a:lnTo>
                  <a:lnTo>
                    <a:pt x="11333" y="90"/>
                  </a:lnTo>
                  <a:lnTo>
                    <a:pt x="11356" y="92"/>
                  </a:lnTo>
                  <a:lnTo>
                    <a:pt x="11386" y="97"/>
                  </a:lnTo>
                  <a:lnTo>
                    <a:pt x="11471" y="122"/>
                  </a:lnTo>
                  <a:lnTo>
                    <a:pt x="11489" y="25"/>
                  </a:lnTo>
                  <a:lnTo>
                    <a:pt x="11450" y="14"/>
                  </a:lnTo>
                  <a:lnTo>
                    <a:pt x="11411" y="6"/>
                  </a:lnTo>
                  <a:lnTo>
                    <a:pt x="11372" y="1"/>
                  </a:lnTo>
                  <a:lnTo>
                    <a:pt x="11333" y="0"/>
                  </a:lnTo>
                  <a:lnTo>
                    <a:pt x="11311" y="1"/>
                  </a:lnTo>
                  <a:lnTo>
                    <a:pt x="11291" y="3"/>
                  </a:lnTo>
                  <a:lnTo>
                    <a:pt x="11270" y="6"/>
                  </a:lnTo>
                  <a:lnTo>
                    <a:pt x="11251" y="11"/>
                  </a:lnTo>
                  <a:lnTo>
                    <a:pt x="11214" y="26"/>
                  </a:lnTo>
                  <a:lnTo>
                    <a:pt x="11197" y="35"/>
                  </a:lnTo>
                  <a:lnTo>
                    <a:pt x="11179" y="46"/>
                  </a:lnTo>
                  <a:lnTo>
                    <a:pt x="11162" y="60"/>
                  </a:lnTo>
                  <a:lnTo>
                    <a:pt x="11148" y="74"/>
                  </a:lnTo>
                  <a:lnTo>
                    <a:pt x="11135" y="91"/>
                  </a:lnTo>
                  <a:lnTo>
                    <a:pt x="11124" y="109"/>
                  </a:lnTo>
                  <a:lnTo>
                    <a:pt x="11117" y="127"/>
                  </a:lnTo>
                  <a:lnTo>
                    <a:pt x="11111" y="147"/>
                  </a:lnTo>
                  <a:lnTo>
                    <a:pt x="11107" y="167"/>
                  </a:lnTo>
                  <a:lnTo>
                    <a:pt x="11106" y="190"/>
                  </a:lnTo>
                  <a:lnTo>
                    <a:pt x="11108" y="215"/>
                  </a:lnTo>
                  <a:lnTo>
                    <a:pt x="11111" y="227"/>
                  </a:lnTo>
                  <a:lnTo>
                    <a:pt x="11115" y="239"/>
                  </a:lnTo>
                  <a:lnTo>
                    <a:pt x="11125" y="262"/>
                  </a:lnTo>
                  <a:lnTo>
                    <a:pt x="11139" y="284"/>
                  </a:lnTo>
                  <a:lnTo>
                    <a:pt x="11158" y="306"/>
                  </a:lnTo>
                  <a:lnTo>
                    <a:pt x="11182" y="326"/>
                  </a:lnTo>
                  <a:lnTo>
                    <a:pt x="11209" y="346"/>
                  </a:lnTo>
                  <a:lnTo>
                    <a:pt x="11239" y="364"/>
                  </a:lnTo>
                  <a:lnTo>
                    <a:pt x="11276" y="383"/>
                  </a:lnTo>
                  <a:lnTo>
                    <a:pt x="11312" y="402"/>
                  </a:lnTo>
                  <a:lnTo>
                    <a:pt x="11352" y="428"/>
                  </a:lnTo>
                  <a:lnTo>
                    <a:pt x="11369" y="440"/>
                  </a:lnTo>
                  <a:lnTo>
                    <a:pt x="11380" y="451"/>
                  </a:lnTo>
                  <a:lnTo>
                    <a:pt x="11387" y="460"/>
                  </a:lnTo>
                  <a:lnTo>
                    <a:pt x="11393" y="469"/>
                  </a:lnTo>
                  <a:lnTo>
                    <a:pt x="11403" y="486"/>
                  </a:lnTo>
                  <a:lnTo>
                    <a:pt x="11409" y="505"/>
                  </a:lnTo>
                  <a:lnTo>
                    <a:pt x="11411" y="526"/>
                  </a:lnTo>
                  <a:lnTo>
                    <a:pt x="11407" y="549"/>
                  </a:lnTo>
                  <a:lnTo>
                    <a:pt x="11400" y="570"/>
                  </a:lnTo>
                  <a:lnTo>
                    <a:pt x="11387" y="590"/>
                  </a:lnTo>
                  <a:lnTo>
                    <a:pt x="11369" y="606"/>
                  </a:lnTo>
                  <a:lnTo>
                    <a:pt x="11346" y="620"/>
                  </a:lnTo>
                  <a:lnTo>
                    <a:pt x="11333" y="625"/>
                  </a:lnTo>
                  <a:lnTo>
                    <a:pt x="11320" y="631"/>
                  </a:lnTo>
                  <a:lnTo>
                    <a:pt x="11306" y="634"/>
                  </a:lnTo>
                  <a:lnTo>
                    <a:pt x="11291" y="636"/>
                  </a:lnTo>
                  <a:lnTo>
                    <a:pt x="11259" y="638"/>
                  </a:lnTo>
                  <a:lnTo>
                    <a:pt x="11224" y="636"/>
                  </a:lnTo>
                  <a:lnTo>
                    <a:pt x="11208" y="633"/>
                  </a:lnTo>
                  <a:lnTo>
                    <a:pt x="11190" y="630"/>
                  </a:lnTo>
                  <a:lnTo>
                    <a:pt x="11159" y="619"/>
                  </a:lnTo>
                  <a:lnTo>
                    <a:pt x="11129" y="604"/>
                  </a:lnTo>
                  <a:lnTo>
                    <a:pt x="11115" y="700"/>
                  </a:lnTo>
                  <a:lnTo>
                    <a:pt x="11160" y="715"/>
                  </a:lnTo>
                  <a:lnTo>
                    <a:pt x="11189" y="723"/>
                  </a:lnTo>
                  <a:lnTo>
                    <a:pt x="11202" y="725"/>
                  </a:lnTo>
                  <a:lnTo>
                    <a:pt x="11219" y="727"/>
                  </a:lnTo>
                  <a:lnTo>
                    <a:pt x="11259" y="728"/>
                  </a:lnTo>
                  <a:lnTo>
                    <a:pt x="11284" y="727"/>
                  </a:lnTo>
                  <a:lnTo>
                    <a:pt x="11308" y="725"/>
                  </a:lnTo>
                  <a:lnTo>
                    <a:pt x="11331" y="722"/>
                  </a:lnTo>
                  <a:lnTo>
                    <a:pt x="11352" y="717"/>
                  </a:lnTo>
                  <a:lnTo>
                    <a:pt x="11373" y="711"/>
                  </a:lnTo>
                  <a:lnTo>
                    <a:pt x="11392" y="703"/>
                  </a:lnTo>
                  <a:lnTo>
                    <a:pt x="11412" y="695"/>
                  </a:lnTo>
                  <a:lnTo>
                    <a:pt x="11429" y="684"/>
                  </a:lnTo>
                  <a:lnTo>
                    <a:pt x="11450" y="669"/>
                  </a:lnTo>
                  <a:lnTo>
                    <a:pt x="11467" y="653"/>
                  </a:lnTo>
                  <a:lnTo>
                    <a:pt x="11482" y="635"/>
                  </a:lnTo>
                  <a:lnTo>
                    <a:pt x="11494" y="617"/>
                  </a:lnTo>
                  <a:lnTo>
                    <a:pt x="11503" y="596"/>
                  </a:lnTo>
                  <a:lnTo>
                    <a:pt x="11510" y="575"/>
                  </a:lnTo>
                  <a:lnTo>
                    <a:pt x="11513" y="551"/>
                  </a:lnTo>
                  <a:lnTo>
                    <a:pt x="11514" y="526"/>
                  </a:lnTo>
                  <a:close/>
                </a:path>
              </a:pathLst>
            </a:custGeom>
            <a:solidFill>
              <a:srgbClr val="807f8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Freeform 28"/>
            <p:cNvSpPr/>
            <p:nvPr/>
          </p:nvSpPr>
          <p:spPr>
            <a:xfrm>
              <a:off x="5867280" y="6324480"/>
              <a:ext cx="1049400" cy="103320"/>
            </a:xfrm>
            <a:custGeom>
              <a:avLst/>
              <a:gdLst>
                <a:gd name="textAreaLeft" fmla="*/ 0 w 1049400"/>
                <a:gd name="textAreaRight" fmla="*/ 1049760 w 1049400"/>
                <a:gd name="textAreaTop" fmla="*/ 0 h 103320"/>
                <a:gd name="textAreaBottom" fmla="*/ 103680 h 103320"/>
              </a:gdLst>
              <a:ahLst/>
              <a:rect l="textAreaLeft" t="textAreaTop" r="textAreaRight" b="textAreaBottom"/>
              <a:pathLst>
                <a:path w="7274" h="713">
                  <a:moveTo>
                    <a:pt x="530" y="88"/>
                  </a:moveTo>
                  <a:lnTo>
                    <a:pt x="530" y="0"/>
                  </a:lnTo>
                  <a:lnTo>
                    <a:pt x="0" y="0"/>
                  </a:lnTo>
                  <a:lnTo>
                    <a:pt x="0" y="88"/>
                  </a:lnTo>
                  <a:lnTo>
                    <a:pt x="214" y="88"/>
                  </a:lnTo>
                  <a:lnTo>
                    <a:pt x="214" y="700"/>
                  </a:lnTo>
                  <a:lnTo>
                    <a:pt x="316" y="700"/>
                  </a:lnTo>
                  <a:lnTo>
                    <a:pt x="316" y="88"/>
                  </a:lnTo>
                  <a:lnTo>
                    <a:pt x="530" y="88"/>
                  </a:lnTo>
                  <a:close/>
                  <a:moveTo>
                    <a:pt x="1069" y="88"/>
                  </a:moveTo>
                  <a:lnTo>
                    <a:pt x="1069" y="0"/>
                  </a:lnTo>
                  <a:lnTo>
                    <a:pt x="675" y="0"/>
                  </a:lnTo>
                  <a:lnTo>
                    <a:pt x="675" y="700"/>
                  </a:lnTo>
                  <a:lnTo>
                    <a:pt x="1068" y="700"/>
                  </a:lnTo>
                  <a:lnTo>
                    <a:pt x="1068" y="611"/>
                  </a:lnTo>
                  <a:lnTo>
                    <a:pt x="776" y="611"/>
                  </a:lnTo>
                  <a:lnTo>
                    <a:pt x="776" y="381"/>
                  </a:lnTo>
                  <a:lnTo>
                    <a:pt x="1043" y="381"/>
                  </a:lnTo>
                  <a:lnTo>
                    <a:pt x="1043" y="291"/>
                  </a:lnTo>
                  <a:lnTo>
                    <a:pt x="776" y="291"/>
                  </a:lnTo>
                  <a:lnTo>
                    <a:pt x="776" y="88"/>
                  </a:lnTo>
                  <a:lnTo>
                    <a:pt x="1069" y="88"/>
                  </a:lnTo>
                  <a:close/>
                  <a:moveTo>
                    <a:pt x="1763" y="700"/>
                  </a:moveTo>
                  <a:lnTo>
                    <a:pt x="1763" y="611"/>
                  </a:lnTo>
                  <a:lnTo>
                    <a:pt x="1742" y="611"/>
                  </a:lnTo>
                  <a:lnTo>
                    <a:pt x="1738" y="611"/>
                  </a:lnTo>
                  <a:lnTo>
                    <a:pt x="1734" y="610"/>
                  </a:lnTo>
                  <a:lnTo>
                    <a:pt x="1728" y="608"/>
                  </a:lnTo>
                  <a:lnTo>
                    <a:pt x="1724" y="605"/>
                  </a:lnTo>
                  <a:lnTo>
                    <a:pt x="1720" y="602"/>
                  </a:lnTo>
                  <a:lnTo>
                    <a:pt x="1714" y="598"/>
                  </a:lnTo>
                  <a:lnTo>
                    <a:pt x="1710" y="594"/>
                  </a:lnTo>
                  <a:lnTo>
                    <a:pt x="1705" y="587"/>
                  </a:lnTo>
                  <a:lnTo>
                    <a:pt x="1700" y="582"/>
                  </a:lnTo>
                  <a:lnTo>
                    <a:pt x="1695" y="574"/>
                  </a:lnTo>
                  <a:lnTo>
                    <a:pt x="1685" y="558"/>
                  </a:lnTo>
                  <a:lnTo>
                    <a:pt x="1674" y="538"/>
                  </a:lnTo>
                  <a:lnTo>
                    <a:pt x="1662" y="517"/>
                  </a:lnTo>
                  <a:lnTo>
                    <a:pt x="1650" y="488"/>
                  </a:lnTo>
                  <a:lnTo>
                    <a:pt x="1635" y="462"/>
                  </a:lnTo>
                  <a:lnTo>
                    <a:pt x="1624" y="437"/>
                  </a:lnTo>
                  <a:lnTo>
                    <a:pt x="1611" y="416"/>
                  </a:lnTo>
                  <a:lnTo>
                    <a:pt x="1599" y="397"/>
                  </a:lnTo>
                  <a:lnTo>
                    <a:pt x="1588" y="381"/>
                  </a:lnTo>
                  <a:lnTo>
                    <a:pt x="1577" y="368"/>
                  </a:lnTo>
                  <a:lnTo>
                    <a:pt x="1567" y="357"/>
                  </a:lnTo>
                  <a:lnTo>
                    <a:pt x="1584" y="348"/>
                  </a:lnTo>
                  <a:lnTo>
                    <a:pt x="1600" y="341"/>
                  </a:lnTo>
                  <a:lnTo>
                    <a:pt x="1614" y="331"/>
                  </a:lnTo>
                  <a:lnTo>
                    <a:pt x="1628" y="322"/>
                  </a:lnTo>
                  <a:lnTo>
                    <a:pt x="1641" y="313"/>
                  </a:lnTo>
                  <a:lnTo>
                    <a:pt x="1646" y="308"/>
                  </a:lnTo>
                  <a:lnTo>
                    <a:pt x="1652" y="303"/>
                  </a:lnTo>
                  <a:lnTo>
                    <a:pt x="1662" y="293"/>
                  </a:lnTo>
                  <a:lnTo>
                    <a:pt x="1671" y="282"/>
                  </a:lnTo>
                  <a:lnTo>
                    <a:pt x="1675" y="277"/>
                  </a:lnTo>
                  <a:lnTo>
                    <a:pt x="1680" y="270"/>
                  </a:lnTo>
                  <a:lnTo>
                    <a:pt x="1686" y="260"/>
                  </a:lnTo>
                  <a:lnTo>
                    <a:pt x="1693" y="248"/>
                  </a:lnTo>
                  <a:lnTo>
                    <a:pt x="1697" y="235"/>
                  </a:lnTo>
                  <a:lnTo>
                    <a:pt x="1701" y="223"/>
                  </a:lnTo>
                  <a:lnTo>
                    <a:pt x="1704" y="210"/>
                  </a:lnTo>
                  <a:lnTo>
                    <a:pt x="1705" y="204"/>
                  </a:lnTo>
                  <a:lnTo>
                    <a:pt x="1706" y="196"/>
                  </a:lnTo>
                  <a:lnTo>
                    <a:pt x="1706" y="183"/>
                  </a:lnTo>
                  <a:lnTo>
                    <a:pt x="1706" y="172"/>
                  </a:lnTo>
                  <a:lnTo>
                    <a:pt x="1705" y="162"/>
                  </a:lnTo>
                  <a:lnTo>
                    <a:pt x="1704" y="152"/>
                  </a:lnTo>
                  <a:lnTo>
                    <a:pt x="1702" y="143"/>
                  </a:lnTo>
                  <a:lnTo>
                    <a:pt x="1700" y="133"/>
                  </a:lnTo>
                  <a:lnTo>
                    <a:pt x="1697" y="125"/>
                  </a:lnTo>
                  <a:lnTo>
                    <a:pt x="1695" y="116"/>
                  </a:lnTo>
                  <a:lnTo>
                    <a:pt x="1691" y="107"/>
                  </a:lnTo>
                  <a:lnTo>
                    <a:pt x="1686" y="99"/>
                  </a:lnTo>
                  <a:lnTo>
                    <a:pt x="1682" y="91"/>
                  </a:lnTo>
                  <a:lnTo>
                    <a:pt x="1678" y="84"/>
                  </a:lnTo>
                  <a:lnTo>
                    <a:pt x="1671" y="76"/>
                  </a:lnTo>
                  <a:lnTo>
                    <a:pt x="1666" y="70"/>
                  </a:lnTo>
                  <a:lnTo>
                    <a:pt x="1659" y="62"/>
                  </a:lnTo>
                  <a:lnTo>
                    <a:pt x="1652" y="56"/>
                  </a:lnTo>
                  <a:lnTo>
                    <a:pt x="1644" y="50"/>
                  </a:lnTo>
                  <a:lnTo>
                    <a:pt x="1637" y="44"/>
                  </a:lnTo>
                  <a:lnTo>
                    <a:pt x="1629" y="38"/>
                  </a:lnTo>
                  <a:lnTo>
                    <a:pt x="1620" y="33"/>
                  </a:lnTo>
                  <a:lnTo>
                    <a:pt x="1613" y="28"/>
                  </a:lnTo>
                  <a:lnTo>
                    <a:pt x="1604" y="23"/>
                  </a:lnTo>
                  <a:lnTo>
                    <a:pt x="1594" y="20"/>
                  </a:lnTo>
                  <a:lnTo>
                    <a:pt x="1576" y="12"/>
                  </a:lnTo>
                  <a:lnTo>
                    <a:pt x="1566" y="10"/>
                  </a:lnTo>
                  <a:lnTo>
                    <a:pt x="1557" y="7"/>
                  </a:lnTo>
                  <a:lnTo>
                    <a:pt x="1546" y="5"/>
                  </a:lnTo>
                  <a:lnTo>
                    <a:pt x="1535" y="4"/>
                  </a:lnTo>
                  <a:lnTo>
                    <a:pt x="1524" y="3"/>
                  </a:lnTo>
                  <a:lnTo>
                    <a:pt x="1513" y="1"/>
                  </a:lnTo>
                  <a:lnTo>
                    <a:pt x="1491" y="0"/>
                  </a:lnTo>
                  <a:lnTo>
                    <a:pt x="1257" y="0"/>
                  </a:lnTo>
                  <a:lnTo>
                    <a:pt x="1257" y="700"/>
                  </a:lnTo>
                  <a:lnTo>
                    <a:pt x="1360" y="700"/>
                  </a:lnTo>
                  <a:lnTo>
                    <a:pt x="1360" y="390"/>
                  </a:lnTo>
                  <a:lnTo>
                    <a:pt x="1438" y="390"/>
                  </a:lnTo>
                  <a:lnTo>
                    <a:pt x="1444" y="391"/>
                  </a:lnTo>
                  <a:lnTo>
                    <a:pt x="1451" y="391"/>
                  </a:lnTo>
                  <a:lnTo>
                    <a:pt x="1457" y="394"/>
                  </a:lnTo>
                  <a:lnTo>
                    <a:pt x="1464" y="396"/>
                  </a:lnTo>
                  <a:lnTo>
                    <a:pt x="1470" y="399"/>
                  </a:lnTo>
                  <a:lnTo>
                    <a:pt x="1477" y="402"/>
                  </a:lnTo>
                  <a:lnTo>
                    <a:pt x="1482" y="407"/>
                  </a:lnTo>
                  <a:lnTo>
                    <a:pt x="1488" y="411"/>
                  </a:lnTo>
                  <a:lnTo>
                    <a:pt x="1494" y="416"/>
                  </a:lnTo>
                  <a:lnTo>
                    <a:pt x="1500" y="423"/>
                  </a:lnTo>
                  <a:lnTo>
                    <a:pt x="1506" y="429"/>
                  </a:lnTo>
                  <a:lnTo>
                    <a:pt x="1508" y="433"/>
                  </a:lnTo>
                  <a:lnTo>
                    <a:pt x="1511" y="436"/>
                  </a:lnTo>
                  <a:lnTo>
                    <a:pt x="1517" y="444"/>
                  </a:lnTo>
                  <a:lnTo>
                    <a:pt x="1522" y="452"/>
                  </a:lnTo>
                  <a:lnTo>
                    <a:pt x="1532" y="471"/>
                  </a:lnTo>
                  <a:lnTo>
                    <a:pt x="1568" y="546"/>
                  </a:lnTo>
                  <a:lnTo>
                    <a:pt x="1604" y="621"/>
                  </a:lnTo>
                  <a:lnTo>
                    <a:pt x="1611" y="630"/>
                  </a:lnTo>
                  <a:lnTo>
                    <a:pt x="1618" y="639"/>
                  </a:lnTo>
                  <a:lnTo>
                    <a:pt x="1626" y="648"/>
                  </a:lnTo>
                  <a:lnTo>
                    <a:pt x="1633" y="655"/>
                  </a:lnTo>
                  <a:lnTo>
                    <a:pt x="1641" y="663"/>
                  </a:lnTo>
                  <a:lnTo>
                    <a:pt x="1648" y="669"/>
                  </a:lnTo>
                  <a:lnTo>
                    <a:pt x="1657" y="675"/>
                  </a:lnTo>
                  <a:lnTo>
                    <a:pt x="1666" y="680"/>
                  </a:lnTo>
                  <a:lnTo>
                    <a:pt x="1674" y="685"/>
                  </a:lnTo>
                  <a:lnTo>
                    <a:pt x="1683" y="690"/>
                  </a:lnTo>
                  <a:lnTo>
                    <a:pt x="1693" y="693"/>
                  </a:lnTo>
                  <a:lnTo>
                    <a:pt x="1701" y="695"/>
                  </a:lnTo>
                  <a:lnTo>
                    <a:pt x="1711" y="697"/>
                  </a:lnTo>
                  <a:lnTo>
                    <a:pt x="1722" y="699"/>
                  </a:lnTo>
                  <a:lnTo>
                    <a:pt x="1732" y="700"/>
                  </a:lnTo>
                  <a:lnTo>
                    <a:pt x="1742" y="700"/>
                  </a:lnTo>
                  <a:lnTo>
                    <a:pt x="1763" y="700"/>
                  </a:lnTo>
                  <a:close/>
                  <a:moveTo>
                    <a:pt x="1599" y="183"/>
                  </a:moveTo>
                  <a:lnTo>
                    <a:pt x="1598" y="194"/>
                  </a:lnTo>
                  <a:lnTo>
                    <a:pt x="1597" y="206"/>
                  </a:lnTo>
                  <a:lnTo>
                    <a:pt x="1594" y="211"/>
                  </a:lnTo>
                  <a:lnTo>
                    <a:pt x="1593" y="216"/>
                  </a:lnTo>
                  <a:lnTo>
                    <a:pt x="1589" y="227"/>
                  </a:lnTo>
                  <a:lnTo>
                    <a:pt x="1584" y="237"/>
                  </a:lnTo>
                  <a:lnTo>
                    <a:pt x="1577" y="248"/>
                  </a:lnTo>
                  <a:lnTo>
                    <a:pt x="1570" y="256"/>
                  </a:lnTo>
                  <a:lnTo>
                    <a:pt x="1565" y="262"/>
                  </a:lnTo>
                  <a:lnTo>
                    <a:pt x="1561" y="266"/>
                  </a:lnTo>
                  <a:lnTo>
                    <a:pt x="1552" y="275"/>
                  </a:lnTo>
                  <a:lnTo>
                    <a:pt x="1542" y="281"/>
                  </a:lnTo>
                  <a:lnTo>
                    <a:pt x="1532" y="288"/>
                  </a:lnTo>
                  <a:lnTo>
                    <a:pt x="1521" y="293"/>
                  </a:lnTo>
                  <a:lnTo>
                    <a:pt x="1515" y="295"/>
                  </a:lnTo>
                  <a:lnTo>
                    <a:pt x="1510" y="298"/>
                  </a:lnTo>
                  <a:lnTo>
                    <a:pt x="1505" y="299"/>
                  </a:lnTo>
                  <a:lnTo>
                    <a:pt x="1498" y="300"/>
                  </a:lnTo>
                  <a:lnTo>
                    <a:pt x="1486" y="302"/>
                  </a:lnTo>
                  <a:lnTo>
                    <a:pt x="1473" y="302"/>
                  </a:lnTo>
                  <a:lnTo>
                    <a:pt x="1360" y="302"/>
                  </a:lnTo>
                  <a:lnTo>
                    <a:pt x="1360" y="88"/>
                  </a:lnTo>
                  <a:lnTo>
                    <a:pt x="1473" y="88"/>
                  </a:lnTo>
                  <a:lnTo>
                    <a:pt x="1486" y="88"/>
                  </a:lnTo>
                  <a:lnTo>
                    <a:pt x="1497" y="89"/>
                  </a:lnTo>
                  <a:lnTo>
                    <a:pt x="1509" y="91"/>
                  </a:lnTo>
                  <a:lnTo>
                    <a:pt x="1520" y="94"/>
                  </a:lnTo>
                  <a:lnTo>
                    <a:pt x="1531" y="98"/>
                  </a:lnTo>
                  <a:lnTo>
                    <a:pt x="1540" y="102"/>
                  </a:lnTo>
                  <a:lnTo>
                    <a:pt x="1550" y="106"/>
                  </a:lnTo>
                  <a:lnTo>
                    <a:pt x="1559" y="112"/>
                  </a:lnTo>
                  <a:lnTo>
                    <a:pt x="1568" y="119"/>
                  </a:lnTo>
                  <a:lnTo>
                    <a:pt x="1573" y="122"/>
                  </a:lnTo>
                  <a:lnTo>
                    <a:pt x="1576" y="127"/>
                  </a:lnTo>
                  <a:lnTo>
                    <a:pt x="1582" y="134"/>
                  </a:lnTo>
                  <a:lnTo>
                    <a:pt x="1586" y="139"/>
                  </a:lnTo>
                  <a:lnTo>
                    <a:pt x="1589" y="143"/>
                  </a:lnTo>
                  <a:lnTo>
                    <a:pt x="1593" y="152"/>
                  </a:lnTo>
                  <a:lnTo>
                    <a:pt x="1594" y="157"/>
                  </a:lnTo>
                  <a:lnTo>
                    <a:pt x="1595" y="161"/>
                  </a:lnTo>
                  <a:lnTo>
                    <a:pt x="1598" y="172"/>
                  </a:lnTo>
                  <a:lnTo>
                    <a:pt x="1599" y="178"/>
                  </a:lnTo>
                  <a:lnTo>
                    <a:pt x="1599" y="183"/>
                  </a:lnTo>
                  <a:close/>
                  <a:moveTo>
                    <a:pt x="2466" y="0"/>
                  </a:moveTo>
                  <a:lnTo>
                    <a:pt x="2355" y="0"/>
                  </a:lnTo>
                  <a:lnTo>
                    <a:pt x="2141" y="596"/>
                  </a:lnTo>
                  <a:lnTo>
                    <a:pt x="1926" y="0"/>
                  </a:lnTo>
                  <a:lnTo>
                    <a:pt x="1814" y="0"/>
                  </a:lnTo>
                  <a:lnTo>
                    <a:pt x="2072" y="700"/>
                  </a:lnTo>
                  <a:lnTo>
                    <a:pt x="2209" y="700"/>
                  </a:lnTo>
                  <a:lnTo>
                    <a:pt x="2466" y="0"/>
                  </a:lnTo>
                  <a:close/>
                  <a:moveTo>
                    <a:pt x="3002" y="88"/>
                  </a:moveTo>
                  <a:lnTo>
                    <a:pt x="3002" y="0"/>
                  </a:lnTo>
                  <a:lnTo>
                    <a:pt x="2607" y="0"/>
                  </a:lnTo>
                  <a:lnTo>
                    <a:pt x="2607" y="700"/>
                  </a:lnTo>
                  <a:lnTo>
                    <a:pt x="3000" y="700"/>
                  </a:lnTo>
                  <a:lnTo>
                    <a:pt x="3000" y="611"/>
                  </a:lnTo>
                  <a:lnTo>
                    <a:pt x="2709" y="611"/>
                  </a:lnTo>
                  <a:lnTo>
                    <a:pt x="2709" y="381"/>
                  </a:lnTo>
                  <a:lnTo>
                    <a:pt x="2976" y="381"/>
                  </a:lnTo>
                  <a:lnTo>
                    <a:pt x="2976" y="291"/>
                  </a:lnTo>
                  <a:lnTo>
                    <a:pt x="2709" y="291"/>
                  </a:lnTo>
                  <a:lnTo>
                    <a:pt x="2709" y="88"/>
                  </a:lnTo>
                  <a:lnTo>
                    <a:pt x="3002" y="88"/>
                  </a:lnTo>
                  <a:close/>
                  <a:moveTo>
                    <a:pt x="3752" y="0"/>
                  </a:moveTo>
                  <a:lnTo>
                    <a:pt x="3635" y="0"/>
                  </a:lnTo>
                  <a:lnTo>
                    <a:pt x="3425" y="315"/>
                  </a:lnTo>
                  <a:lnTo>
                    <a:pt x="3216" y="0"/>
                  </a:lnTo>
                  <a:lnTo>
                    <a:pt x="3098" y="0"/>
                  </a:lnTo>
                  <a:lnTo>
                    <a:pt x="3374" y="412"/>
                  </a:lnTo>
                  <a:lnTo>
                    <a:pt x="3374" y="700"/>
                  </a:lnTo>
                  <a:lnTo>
                    <a:pt x="3476" y="700"/>
                  </a:lnTo>
                  <a:lnTo>
                    <a:pt x="3476" y="412"/>
                  </a:lnTo>
                  <a:lnTo>
                    <a:pt x="3752" y="0"/>
                  </a:lnTo>
                  <a:close/>
                  <a:moveTo>
                    <a:pt x="4443" y="354"/>
                  </a:moveTo>
                  <a:lnTo>
                    <a:pt x="4443" y="335"/>
                  </a:lnTo>
                  <a:lnTo>
                    <a:pt x="4442" y="318"/>
                  </a:lnTo>
                  <a:lnTo>
                    <a:pt x="4439" y="300"/>
                  </a:lnTo>
                  <a:lnTo>
                    <a:pt x="4437" y="283"/>
                  </a:lnTo>
                  <a:lnTo>
                    <a:pt x="4434" y="266"/>
                  </a:lnTo>
                  <a:lnTo>
                    <a:pt x="4430" y="250"/>
                  </a:lnTo>
                  <a:lnTo>
                    <a:pt x="4425" y="234"/>
                  </a:lnTo>
                  <a:lnTo>
                    <a:pt x="4420" y="219"/>
                  </a:lnTo>
                  <a:lnTo>
                    <a:pt x="4413" y="204"/>
                  </a:lnTo>
                  <a:lnTo>
                    <a:pt x="4407" y="188"/>
                  </a:lnTo>
                  <a:lnTo>
                    <a:pt x="4399" y="173"/>
                  </a:lnTo>
                  <a:lnTo>
                    <a:pt x="4392" y="159"/>
                  </a:lnTo>
                  <a:lnTo>
                    <a:pt x="4382" y="145"/>
                  </a:lnTo>
                  <a:lnTo>
                    <a:pt x="4378" y="139"/>
                  </a:lnTo>
                  <a:lnTo>
                    <a:pt x="4372" y="132"/>
                  </a:lnTo>
                  <a:lnTo>
                    <a:pt x="4363" y="119"/>
                  </a:lnTo>
                  <a:lnTo>
                    <a:pt x="4351" y="106"/>
                  </a:lnTo>
                  <a:lnTo>
                    <a:pt x="4339" y="93"/>
                  </a:lnTo>
                  <a:lnTo>
                    <a:pt x="4327" y="81"/>
                  </a:lnTo>
                  <a:lnTo>
                    <a:pt x="4314" y="71"/>
                  </a:lnTo>
                  <a:lnTo>
                    <a:pt x="4300" y="60"/>
                  </a:lnTo>
                  <a:lnTo>
                    <a:pt x="4286" y="50"/>
                  </a:lnTo>
                  <a:lnTo>
                    <a:pt x="4272" y="41"/>
                  </a:lnTo>
                  <a:lnTo>
                    <a:pt x="4258" y="34"/>
                  </a:lnTo>
                  <a:lnTo>
                    <a:pt x="4243" y="26"/>
                  </a:lnTo>
                  <a:lnTo>
                    <a:pt x="4226" y="21"/>
                  </a:lnTo>
                  <a:lnTo>
                    <a:pt x="4211" y="16"/>
                  </a:lnTo>
                  <a:lnTo>
                    <a:pt x="4195" y="11"/>
                  </a:lnTo>
                  <a:lnTo>
                    <a:pt x="4178" y="7"/>
                  </a:lnTo>
                  <a:lnTo>
                    <a:pt x="4161" y="4"/>
                  </a:lnTo>
                  <a:lnTo>
                    <a:pt x="4143" y="3"/>
                  </a:lnTo>
                  <a:lnTo>
                    <a:pt x="4125" y="0"/>
                  </a:lnTo>
                  <a:lnTo>
                    <a:pt x="4106" y="0"/>
                  </a:lnTo>
                  <a:lnTo>
                    <a:pt x="3859" y="0"/>
                  </a:lnTo>
                  <a:lnTo>
                    <a:pt x="3859" y="700"/>
                  </a:lnTo>
                  <a:lnTo>
                    <a:pt x="4106" y="700"/>
                  </a:lnTo>
                  <a:lnTo>
                    <a:pt x="4125" y="700"/>
                  </a:lnTo>
                  <a:lnTo>
                    <a:pt x="4143" y="699"/>
                  </a:lnTo>
                  <a:lnTo>
                    <a:pt x="4161" y="697"/>
                  </a:lnTo>
                  <a:lnTo>
                    <a:pt x="4178" y="694"/>
                  </a:lnTo>
                  <a:lnTo>
                    <a:pt x="4195" y="691"/>
                  </a:lnTo>
                  <a:lnTo>
                    <a:pt x="4211" y="686"/>
                  </a:lnTo>
                  <a:lnTo>
                    <a:pt x="4226" y="681"/>
                  </a:lnTo>
                  <a:lnTo>
                    <a:pt x="4243" y="675"/>
                  </a:lnTo>
                  <a:lnTo>
                    <a:pt x="4258" y="668"/>
                  </a:lnTo>
                  <a:lnTo>
                    <a:pt x="4272" y="661"/>
                  </a:lnTo>
                  <a:lnTo>
                    <a:pt x="4286" y="652"/>
                  </a:lnTo>
                  <a:lnTo>
                    <a:pt x="4300" y="643"/>
                  </a:lnTo>
                  <a:lnTo>
                    <a:pt x="4314" y="632"/>
                  </a:lnTo>
                  <a:lnTo>
                    <a:pt x="4327" y="622"/>
                  </a:lnTo>
                  <a:lnTo>
                    <a:pt x="4339" y="611"/>
                  </a:lnTo>
                  <a:lnTo>
                    <a:pt x="4351" y="598"/>
                  </a:lnTo>
                  <a:lnTo>
                    <a:pt x="4363" y="586"/>
                  </a:lnTo>
                  <a:lnTo>
                    <a:pt x="4372" y="573"/>
                  </a:lnTo>
                  <a:lnTo>
                    <a:pt x="4382" y="559"/>
                  </a:lnTo>
                  <a:lnTo>
                    <a:pt x="4392" y="546"/>
                  </a:lnTo>
                  <a:lnTo>
                    <a:pt x="4395" y="538"/>
                  </a:lnTo>
                  <a:lnTo>
                    <a:pt x="4399" y="532"/>
                  </a:lnTo>
                  <a:lnTo>
                    <a:pt x="4407" y="518"/>
                  </a:lnTo>
                  <a:lnTo>
                    <a:pt x="4413" y="503"/>
                  </a:lnTo>
                  <a:lnTo>
                    <a:pt x="4420" y="488"/>
                  </a:lnTo>
                  <a:lnTo>
                    <a:pt x="4425" y="473"/>
                  </a:lnTo>
                  <a:lnTo>
                    <a:pt x="4430" y="456"/>
                  </a:lnTo>
                  <a:lnTo>
                    <a:pt x="4434" y="440"/>
                  </a:lnTo>
                  <a:lnTo>
                    <a:pt x="4437" y="424"/>
                  </a:lnTo>
                  <a:lnTo>
                    <a:pt x="4439" y="407"/>
                  </a:lnTo>
                  <a:lnTo>
                    <a:pt x="4442" y="389"/>
                  </a:lnTo>
                  <a:lnTo>
                    <a:pt x="4443" y="372"/>
                  </a:lnTo>
                  <a:lnTo>
                    <a:pt x="4443" y="354"/>
                  </a:lnTo>
                  <a:close/>
                  <a:moveTo>
                    <a:pt x="4341" y="354"/>
                  </a:moveTo>
                  <a:lnTo>
                    <a:pt x="4341" y="367"/>
                  </a:lnTo>
                  <a:lnTo>
                    <a:pt x="4340" y="380"/>
                  </a:lnTo>
                  <a:lnTo>
                    <a:pt x="4339" y="393"/>
                  </a:lnTo>
                  <a:lnTo>
                    <a:pt x="4337" y="404"/>
                  </a:lnTo>
                  <a:lnTo>
                    <a:pt x="4335" y="417"/>
                  </a:lnTo>
                  <a:lnTo>
                    <a:pt x="4332" y="429"/>
                  </a:lnTo>
                  <a:lnTo>
                    <a:pt x="4328" y="441"/>
                  </a:lnTo>
                  <a:lnTo>
                    <a:pt x="4325" y="452"/>
                  </a:lnTo>
                  <a:lnTo>
                    <a:pt x="4320" y="464"/>
                  </a:lnTo>
                  <a:lnTo>
                    <a:pt x="4316" y="475"/>
                  </a:lnTo>
                  <a:lnTo>
                    <a:pt x="4311" y="485"/>
                  </a:lnTo>
                  <a:lnTo>
                    <a:pt x="4304" y="495"/>
                  </a:lnTo>
                  <a:lnTo>
                    <a:pt x="4298" y="506"/>
                  </a:lnTo>
                  <a:lnTo>
                    <a:pt x="4291" y="516"/>
                  </a:lnTo>
                  <a:lnTo>
                    <a:pt x="4285" y="525"/>
                  </a:lnTo>
                  <a:lnTo>
                    <a:pt x="4276" y="534"/>
                  </a:lnTo>
                  <a:lnTo>
                    <a:pt x="4269" y="544"/>
                  </a:lnTo>
                  <a:lnTo>
                    <a:pt x="4260" y="552"/>
                  </a:lnTo>
                  <a:lnTo>
                    <a:pt x="4250" y="561"/>
                  </a:lnTo>
                  <a:lnTo>
                    <a:pt x="4242" y="569"/>
                  </a:lnTo>
                  <a:lnTo>
                    <a:pt x="4232" y="575"/>
                  </a:lnTo>
                  <a:lnTo>
                    <a:pt x="4222" y="582"/>
                  </a:lnTo>
                  <a:lnTo>
                    <a:pt x="4211" y="587"/>
                  </a:lnTo>
                  <a:lnTo>
                    <a:pt x="4202" y="592"/>
                  </a:lnTo>
                  <a:lnTo>
                    <a:pt x="4191" y="597"/>
                  </a:lnTo>
                  <a:lnTo>
                    <a:pt x="4179" y="600"/>
                  </a:lnTo>
                  <a:lnTo>
                    <a:pt x="4168" y="603"/>
                  </a:lnTo>
                  <a:lnTo>
                    <a:pt x="4156" y="606"/>
                  </a:lnTo>
                  <a:lnTo>
                    <a:pt x="4144" y="609"/>
                  </a:lnTo>
                  <a:lnTo>
                    <a:pt x="4132" y="610"/>
                  </a:lnTo>
                  <a:lnTo>
                    <a:pt x="4119" y="611"/>
                  </a:lnTo>
                  <a:lnTo>
                    <a:pt x="4106" y="611"/>
                  </a:lnTo>
                  <a:lnTo>
                    <a:pt x="3963" y="611"/>
                  </a:lnTo>
                  <a:lnTo>
                    <a:pt x="3963" y="90"/>
                  </a:lnTo>
                  <a:lnTo>
                    <a:pt x="4106" y="90"/>
                  </a:lnTo>
                  <a:lnTo>
                    <a:pt x="4119" y="90"/>
                  </a:lnTo>
                  <a:lnTo>
                    <a:pt x="4132" y="91"/>
                  </a:lnTo>
                  <a:lnTo>
                    <a:pt x="4144" y="92"/>
                  </a:lnTo>
                  <a:lnTo>
                    <a:pt x="4156" y="94"/>
                  </a:lnTo>
                  <a:lnTo>
                    <a:pt x="4168" y="98"/>
                  </a:lnTo>
                  <a:lnTo>
                    <a:pt x="4179" y="101"/>
                  </a:lnTo>
                  <a:lnTo>
                    <a:pt x="4191" y="105"/>
                  </a:lnTo>
                  <a:lnTo>
                    <a:pt x="4202" y="110"/>
                  </a:lnTo>
                  <a:lnTo>
                    <a:pt x="4211" y="115"/>
                  </a:lnTo>
                  <a:lnTo>
                    <a:pt x="4222" y="121"/>
                  </a:lnTo>
                  <a:lnTo>
                    <a:pt x="4232" y="128"/>
                  </a:lnTo>
                  <a:lnTo>
                    <a:pt x="4236" y="131"/>
                  </a:lnTo>
                  <a:lnTo>
                    <a:pt x="4242" y="135"/>
                  </a:lnTo>
                  <a:lnTo>
                    <a:pt x="4250" y="143"/>
                  </a:lnTo>
                  <a:lnTo>
                    <a:pt x="4260" y="152"/>
                  </a:lnTo>
                  <a:lnTo>
                    <a:pt x="4269" y="160"/>
                  </a:lnTo>
                  <a:lnTo>
                    <a:pt x="4276" y="170"/>
                  </a:lnTo>
                  <a:lnTo>
                    <a:pt x="4285" y="180"/>
                  </a:lnTo>
                  <a:lnTo>
                    <a:pt x="4291" y="189"/>
                  </a:lnTo>
                  <a:lnTo>
                    <a:pt x="4298" y="200"/>
                  </a:lnTo>
                  <a:lnTo>
                    <a:pt x="4304" y="210"/>
                  </a:lnTo>
                  <a:lnTo>
                    <a:pt x="4311" y="221"/>
                  </a:lnTo>
                  <a:lnTo>
                    <a:pt x="4316" y="232"/>
                  </a:lnTo>
                  <a:lnTo>
                    <a:pt x="4320" y="242"/>
                  </a:lnTo>
                  <a:lnTo>
                    <a:pt x="4325" y="254"/>
                  </a:lnTo>
                  <a:lnTo>
                    <a:pt x="4328" y="265"/>
                  </a:lnTo>
                  <a:lnTo>
                    <a:pt x="4332" y="277"/>
                  </a:lnTo>
                  <a:lnTo>
                    <a:pt x="4335" y="290"/>
                  </a:lnTo>
                  <a:lnTo>
                    <a:pt x="4337" y="302"/>
                  </a:lnTo>
                  <a:lnTo>
                    <a:pt x="4339" y="315"/>
                  </a:lnTo>
                  <a:lnTo>
                    <a:pt x="4340" y="327"/>
                  </a:lnTo>
                  <a:lnTo>
                    <a:pt x="4341" y="341"/>
                  </a:lnTo>
                  <a:lnTo>
                    <a:pt x="4341" y="354"/>
                  </a:lnTo>
                  <a:close/>
                  <a:moveTo>
                    <a:pt x="4995" y="88"/>
                  </a:moveTo>
                  <a:lnTo>
                    <a:pt x="4995" y="0"/>
                  </a:lnTo>
                  <a:lnTo>
                    <a:pt x="4600" y="0"/>
                  </a:lnTo>
                  <a:lnTo>
                    <a:pt x="4600" y="700"/>
                  </a:lnTo>
                  <a:lnTo>
                    <a:pt x="4993" y="700"/>
                  </a:lnTo>
                  <a:lnTo>
                    <a:pt x="4993" y="611"/>
                  </a:lnTo>
                  <a:lnTo>
                    <a:pt x="4702" y="611"/>
                  </a:lnTo>
                  <a:lnTo>
                    <a:pt x="4702" y="381"/>
                  </a:lnTo>
                  <a:lnTo>
                    <a:pt x="4969" y="381"/>
                  </a:lnTo>
                  <a:lnTo>
                    <a:pt x="4969" y="291"/>
                  </a:lnTo>
                  <a:lnTo>
                    <a:pt x="4702" y="291"/>
                  </a:lnTo>
                  <a:lnTo>
                    <a:pt x="4702" y="88"/>
                  </a:lnTo>
                  <a:lnTo>
                    <a:pt x="4995" y="88"/>
                  </a:lnTo>
                  <a:close/>
                  <a:moveTo>
                    <a:pt x="5735" y="700"/>
                  </a:moveTo>
                  <a:lnTo>
                    <a:pt x="5735" y="0"/>
                  </a:lnTo>
                  <a:lnTo>
                    <a:pt x="5633" y="0"/>
                  </a:lnTo>
                  <a:lnTo>
                    <a:pt x="5633" y="561"/>
                  </a:lnTo>
                  <a:lnTo>
                    <a:pt x="5628" y="561"/>
                  </a:lnTo>
                  <a:lnTo>
                    <a:pt x="5324" y="0"/>
                  </a:lnTo>
                  <a:lnTo>
                    <a:pt x="5191" y="0"/>
                  </a:lnTo>
                  <a:lnTo>
                    <a:pt x="5191" y="700"/>
                  </a:lnTo>
                  <a:lnTo>
                    <a:pt x="5293" y="700"/>
                  </a:lnTo>
                  <a:lnTo>
                    <a:pt x="5293" y="139"/>
                  </a:lnTo>
                  <a:lnTo>
                    <a:pt x="5297" y="139"/>
                  </a:lnTo>
                  <a:lnTo>
                    <a:pt x="5602" y="700"/>
                  </a:lnTo>
                  <a:lnTo>
                    <a:pt x="5735" y="700"/>
                  </a:lnTo>
                  <a:close/>
                  <a:moveTo>
                    <a:pt x="6451" y="507"/>
                  </a:moveTo>
                  <a:lnTo>
                    <a:pt x="6451" y="0"/>
                  </a:lnTo>
                  <a:lnTo>
                    <a:pt x="6348" y="0"/>
                  </a:lnTo>
                  <a:lnTo>
                    <a:pt x="6348" y="507"/>
                  </a:lnTo>
                  <a:lnTo>
                    <a:pt x="6348" y="520"/>
                  </a:lnTo>
                  <a:lnTo>
                    <a:pt x="6346" y="533"/>
                  </a:lnTo>
                  <a:lnTo>
                    <a:pt x="6345" y="538"/>
                  </a:lnTo>
                  <a:lnTo>
                    <a:pt x="6344" y="544"/>
                  </a:lnTo>
                  <a:lnTo>
                    <a:pt x="6343" y="549"/>
                  </a:lnTo>
                  <a:lnTo>
                    <a:pt x="6341" y="555"/>
                  </a:lnTo>
                  <a:lnTo>
                    <a:pt x="6336" y="565"/>
                  </a:lnTo>
                  <a:lnTo>
                    <a:pt x="6331" y="575"/>
                  </a:lnTo>
                  <a:lnTo>
                    <a:pt x="6326" y="584"/>
                  </a:lnTo>
                  <a:lnTo>
                    <a:pt x="6318" y="591"/>
                  </a:lnTo>
                  <a:lnTo>
                    <a:pt x="6310" y="599"/>
                  </a:lnTo>
                  <a:lnTo>
                    <a:pt x="6302" y="605"/>
                  </a:lnTo>
                  <a:lnTo>
                    <a:pt x="6298" y="608"/>
                  </a:lnTo>
                  <a:lnTo>
                    <a:pt x="6293" y="611"/>
                  </a:lnTo>
                  <a:lnTo>
                    <a:pt x="6283" y="615"/>
                  </a:lnTo>
                  <a:lnTo>
                    <a:pt x="6273" y="618"/>
                  </a:lnTo>
                  <a:lnTo>
                    <a:pt x="6261" y="621"/>
                  </a:lnTo>
                  <a:lnTo>
                    <a:pt x="6249" y="623"/>
                  </a:lnTo>
                  <a:lnTo>
                    <a:pt x="6236" y="624"/>
                  </a:lnTo>
                  <a:lnTo>
                    <a:pt x="6214" y="624"/>
                  </a:lnTo>
                  <a:lnTo>
                    <a:pt x="6205" y="624"/>
                  </a:lnTo>
                  <a:lnTo>
                    <a:pt x="6196" y="623"/>
                  </a:lnTo>
                  <a:lnTo>
                    <a:pt x="6187" y="621"/>
                  </a:lnTo>
                  <a:lnTo>
                    <a:pt x="6181" y="618"/>
                  </a:lnTo>
                  <a:lnTo>
                    <a:pt x="6174" y="616"/>
                  </a:lnTo>
                  <a:lnTo>
                    <a:pt x="6168" y="613"/>
                  </a:lnTo>
                  <a:lnTo>
                    <a:pt x="6168" y="694"/>
                  </a:lnTo>
                  <a:lnTo>
                    <a:pt x="6176" y="699"/>
                  </a:lnTo>
                  <a:lnTo>
                    <a:pt x="6185" y="703"/>
                  </a:lnTo>
                  <a:lnTo>
                    <a:pt x="6196" y="706"/>
                  </a:lnTo>
                  <a:lnTo>
                    <a:pt x="6207" y="709"/>
                  </a:lnTo>
                  <a:lnTo>
                    <a:pt x="6220" y="711"/>
                  </a:lnTo>
                  <a:lnTo>
                    <a:pt x="6233" y="712"/>
                  </a:lnTo>
                  <a:lnTo>
                    <a:pt x="6247" y="713"/>
                  </a:lnTo>
                  <a:lnTo>
                    <a:pt x="6262" y="713"/>
                  </a:lnTo>
                  <a:lnTo>
                    <a:pt x="6273" y="713"/>
                  </a:lnTo>
                  <a:lnTo>
                    <a:pt x="6283" y="712"/>
                  </a:lnTo>
                  <a:lnTo>
                    <a:pt x="6293" y="711"/>
                  </a:lnTo>
                  <a:lnTo>
                    <a:pt x="6303" y="709"/>
                  </a:lnTo>
                  <a:lnTo>
                    <a:pt x="6322" y="705"/>
                  </a:lnTo>
                  <a:lnTo>
                    <a:pt x="6332" y="702"/>
                  </a:lnTo>
                  <a:lnTo>
                    <a:pt x="6341" y="698"/>
                  </a:lnTo>
                  <a:lnTo>
                    <a:pt x="6349" y="694"/>
                  </a:lnTo>
                  <a:lnTo>
                    <a:pt x="6357" y="690"/>
                  </a:lnTo>
                  <a:lnTo>
                    <a:pt x="6366" y="685"/>
                  </a:lnTo>
                  <a:lnTo>
                    <a:pt x="6373" y="680"/>
                  </a:lnTo>
                  <a:lnTo>
                    <a:pt x="6381" y="675"/>
                  </a:lnTo>
                  <a:lnTo>
                    <a:pt x="6388" y="668"/>
                  </a:lnTo>
                  <a:lnTo>
                    <a:pt x="6395" y="662"/>
                  </a:lnTo>
                  <a:lnTo>
                    <a:pt x="6401" y="654"/>
                  </a:lnTo>
                  <a:lnTo>
                    <a:pt x="6408" y="648"/>
                  </a:lnTo>
                  <a:lnTo>
                    <a:pt x="6413" y="640"/>
                  </a:lnTo>
                  <a:lnTo>
                    <a:pt x="6419" y="632"/>
                  </a:lnTo>
                  <a:lnTo>
                    <a:pt x="6424" y="624"/>
                  </a:lnTo>
                  <a:lnTo>
                    <a:pt x="6428" y="616"/>
                  </a:lnTo>
                  <a:lnTo>
                    <a:pt x="6432" y="608"/>
                  </a:lnTo>
                  <a:lnTo>
                    <a:pt x="6439" y="589"/>
                  </a:lnTo>
                  <a:lnTo>
                    <a:pt x="6441" y="581"/>
                  </a:lnTo>
                  <a:lnTo>
                    <a:pt x="6445" y="571"/>
                  </a:lnTo>
                  <a:lnTo>
                    <a:pt x="6447" y="561"/>
                  </a:lnTo>
                  <a:lnTo>
                    <a:pt x="6448" y="550"/>
                  </a:lnTo>
                  <a:lnTo>
                    <a:pt x="6449" y="541"/>
                  </a:lnTo>
                  <a:lnTo>
                    <a:pt x="6450" y="530"/>
                  </a:lnTo>
                  <a:lnTo>
                    <a:pt x="6451" y="519"/>
                  </a:lnTo>
                  <a:lnTo>
                    <a:pt x="6451" y="507"/>
                  </a:lnTo>
                  <a:close/>
                  <a:moveTo>
                    <a:pt x="7274" y="700"/>
                  </a:moveTo>
                  <a:lnTo>
                    <a:pt x="6968" y="0"/>
                  </a:lnTo>
                  <a:lnTo>
                    <a:pt x="6870" y="0"/>
                  </a:lnTo>
                  <a:lnTo>
                    <a:pt x="6565" y="700"/>
                  </a:lnTo>
                  <a:lnTo>
                    <a:pt x="6675" y="700"/>
                  </a:lnTo>
                  <a:lnTo>
                    <a:pt x="6747" y="521"/>
                  </a:lnTo>
                  <a:lnTo>
                    <a:pt x="7091" y="521"/>
                  </a:lnTo>
                  <a:lnTo>
                    <a:pt x="7163" y="700"/>
                  </a:lnTo>
                  <a:lnTo>
                    <a:pt x="7274" y="700"/>
                  </a:lnTo>
                  <a:close/>
                  <a:moveTo>
                    <a:pt x="7058" y="441"/>
                  </a:moveTo>
                  <a:lnTo>
                    <a:pt x="6781" y="441"/>
                  </a:lnTo>
                  <a:lnTo>
                    <a:pt x="6919" y="97"/>
                  </a:lnTo>
                  <a:lnTo>
                    <a:pt x="7058" y="441"/>
                  </a:lnTo>
                  <a:close/>
                </a:path>
              </a:pathLst>
            </a:custGeom>
            <a:solidFill>
              <a:srgbClr val="807f8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8" name="Picture 11" descr="SHORT_THL_LOGO_WEB_186x80px.jpg"/>
          <p:cNvPicPr/>
          <p:nvPr/>
        </p:nvPicPr>
        <p:blipFill>
          <a:blip r:embed="rId2"/>
          <a:srcRect l="0" t="9674" r="0" b="12828"/>
          <a:stretch/>
        </p:blipFill>
        <p:spPr>
          <a:xfrm>
            <a:off x="152280" y="5994360"/>
            <a:ext cx="1524240" cy="507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2"/>
          <p:cNvSpPr/>
          <p:nvPr/>
        </p:nvSpPr>
        <p:spPr>
          <a:xfrm>
            <a:off x="0" y="6553080"/>
            <a:ext cx="9144000" cy="304920"/>
          </a:xfrm>
          <a:prstGeom prst="rect">
            <a:avLst/>
          </a:prstGeom>
          <a:solidFill>
            <a:srgbClr val="7bc14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Group 36"/>
          <p:cNvGrpSpPr/>
          <p:nvPr/>
        </p:nvGrpSpPr>
        <p:grpSpPr>
          <a:xfrm>
            <a:off x="2897280" y="5270400"/>
            <a:ext cx="3274560" cy="123840"/>
            <a:chOff x="2897280" y="5270400"/>
            <a:chExt cx="3274560" cy="123840"/>
          </a:xfrm>
        </p:grpSpPr>
        <p:sp>
          <p:nvSpPr>
            <p:cNvPr id="47" name="Freeform 34"/>
            <p:cNvSpPr/>
            <p:nvPr/>
          </p:nvSpPr>
          <p:spPr>
            <a:xfrm>
              <a:off x="4209840" y="5270400"/>
              <a:ext cx="1962000" cy="123840"/>
            </a:xfrm>
            <a:custGeom>
              <a:avLst/>
              <a:gdLst>
                <a:gd name="textAreaLeft" fmla="*/ 0 w 1962000"/>
                <a:gd name="textAreaRight" fmla="*/ 1962360 w 1962000"/>
                <a:gd name="textAreaTop" fmla="*/ 0 h 123840"/>
                <a:gd name="textAreaBottom" fmla="*/ 124200 h 123840"/>
              </a:gdLst>
              <a:ahLst/>
              <a:rect l="textAreaLeft" t="textAreaTop" r="textAreaRight" b="textAreaBottom"/>
              <a:pathLst>
                <a:path w="12075" h="758">
                  <a:moveTo>
                    <a:pt x="571" y="745"/>
                  </a:moveTo>
                  <a:lnTo>
                    <a:pt x="571" y="16"/>
                  </a:lnTo>
                  <a:lnTo>
                    <a:pt x="462" y="16"/>
                  </a:lnTo>
                  <a:lnTo>
                    <a:pt x="462" y="314"/>
                  </a:lnTo>
                  <a:lnTo>
                    <a:pt x="106" y="314"/>
                  </a:lnTo>
                  <a:lnTo>
                    <a:pt x="106" y="16"/>
                  </a:lnTo>
                  <a:lnTo>
                    <a:pt x="0" y="16"/>
                  </a:lnTo>
                  <a:lnTo>
                    <a:pt x="0" y="745"/>
                  </a:lnTo>
                  <a:lnTo>
                    <a:pt x="106" y="745"/>
                  </a:lnTo>
                  <a:lnTo>
                    <a:pt x="106" y="407"/>
                  </a:lnTo>
                  <a:lnTo>
                    <a:pt x="462" y="407"/>
                  </a:lnTo>
                  <a:lnTo>
                    <a:pt x="462" y="745"/>
                  </a:lnTo>
                  <a:lnTo>
                    <a:pt x="571" y="745"/>
                  </a:lnTo>
                  <a:close/>
                  <a:moveTo>
                    <a:pt x="1379" y="16"/>
                  </a:moveTo>
                  <a:lnTo>
                    <a:pt x="1257" y="16"/>
                  </a:lnTo>
                  <a:lnTo>
                    <a:pt x="1036" y="342"/>
                  </a:lnTo>
                  <a:lnTo>
                    <a:pt x="816" y="16"/>
                  </a:lnTo>
                  <a:lnTo>
                    <a:pt x="692" y="16"/>
                  </a:lnTo>
                  <a:lnTo>
                    <a:pt x="981" y="444"/>
                  </a:lnTo>
                  <a:lnTo>
                    <a:pt x="981" y="745"/>
                  </a:lnTo>
                  <a:lnTo>
                    <a:pt x="1089" y="745"/>
                  </a:lnTo>
                  <a:lnTo>
                    <a:pt x="1089" y="444"/>
                  </a:lnTo>
                  <a:lnTo>
                    <a:pt x="1379" y="16"/>
                  </a:lnTo>
                  <a:close/>
                  <a:moveTo>
                    <a:pt x="2133" y="16"/>
                  </a:moveTo>
                  <a:lnTo>
                    <a:pt x="2019" y="16"/>
                  </a:lnTo>
                  <a:lnTo>
                    <a:pt x="1793" y="635"/>
                  </a:lnTo>
                  <a:lnTo>
                    <a:pt x="1568" y="16"/>
                  </a:lnTo>
                  <a:lnTo>
                    <a:pt x="1451" y="16"/>
                  </a:lnTo>
                  <a:lnTo>
                    <a:pt x="1722" y="745"/>
                  </a:lnTo>
                  <a:lnTo>
                    <a:pt x="1866" y="745"/>
                  </a:lnTo>
                  <a:lnTo>
                    <a:pt x="2133" y="16"/>
                  </a:lnTo>
                  <a:close/>
                  <a:moveTo>
                    <a:pt x="2416" y="745"/>
                  </a:moveTo>
                  <a:lnTo>
                    <a:pt x="2416" y="16"/>
                  </a:lnTo>
                  <a:lnTo>
                    <a:pt x="2310" y="16"/>
                  </a:lnTo>
                  <a:lnTo>
                    <a:pt x="2310" y="745"/>
                  </a:lnTo>
                  <a:lnTo>
                    <a:pt x="2416" y="745"/>
                  </a:lnTo>
                  <a:close/>
                  <a:moveTo>
                    <a:pt x="3251" y="745"/>
                  </a:moveTo>
                  <a:lnTo>
                    <a:pt x="3251" y="16"/>
                  </a:lnTo>
                  <a:lnTo>
                    <a:pt x="3143" y="16"/>
                  </a:lnTo>
                  <a:lnTo>
                    <a:pt x="3143" y="598"/>
                  </a:lnTo>
                  <a:lnTo>
                    <a:pt x="3139" y="598"/>
                  </a:lnTo>
                  <a:lnTo>
                    <a:pt x="2819" y="16"/>
                  </a:lnTo>
                  <a:lnTo>
                    <a:pt x="2679" y="16"/>
                  </a:lnTo>
                  <a:lnTo>
                    <a:pt x="2679" y="745"/>
                  </a:lnTo>
                  <a:lnTo>
                    <a:pt x="2787" y="745"/>
                  </a:lnTo>
                  <a:lnTo>
                    <a:pt x="2787" y="160"/>
                  </a:lnTo>
                  <a:lnTo>
                    <a:pt x="2791" y="160"/>
                  </a:lnTo>
                  <a:lnTo>
                    <a:pt x="3111" y="745"/>
                  </a:lnTo>
                  <a:lnTo>
                    <a:pt x="3251" y="745"/>
                  </a:lnTo>
                  <a:close/>
                  <a:moveTo>
                    <a:pt x="4075" y="16"/>
                  </a:moveTo>
                  <a:lnTo>
                    <a:pt x="3959" y="16"/>
                  </a:lnTo>
                  <a:lnTo>
                    <a:pt x="3735" y="635"/>
                  </a:lnTo>
                  <a:lnTo>
                    <a:pt x="3510" y="16"/>
                  </a:lnTo>
                  <a:lnTo>
                    <a:pt x="3391" y="16"/>
                  </a:lnTo>
                  <a:lnTo>
                    <a:pt x="3663" y="745"/>
                  </a:lnTo>
                  <a:lnTo>
                    <a:pt x="3806" y="745"/>
                  </a:lnTo>
                  <a:lnTo>
                    <a:pt x="4075" y="16"/>
                  </a:lnTo>
                  <a:close/>
                  <a:moveTo>
                    <a:pt x="4868" y="380"/>
                  </a:moveTo>
                  <a:lnTo>
                    <a:pt x="4867" y="340"/>
                  </a:lnTo>
                  <a:lnTo>
                    <a:pt x="4863" y="302"/>
                  </a:lnTo>
                  <a:lnTo>
                    <a:pt x="4856" y="265"/>
                  </a:lnTo>
                  <a:lnTo>
                    <a:pt x="4846" y="232"/>
                  </a:lnTo>
                  <a:lnTo>
                    <a:pt x="4833" y="199"/>
                  </a:lnTo>
                  <a:lnTo>
                    <a:pt x="4817" y="167"/>
                  </a:lnTo>
                  <a:lnTo>
                    <a:pt x="4799" y="139"/>
                  </a:lnTo>
                  <a:lnTo>
                    <a:pt x="4779" y="112"/>
                  </a:lnTo>
                  <a:lnTo>
                    <a:pt x="4754" y="86"/>
                  </a:lnTo>
                  <a:lnTo>
                    <a:pt x="4726" y="64"/>
                  </a:lnTo>
                  <a:lnTo>
                    <a:pt x="4696" y="45"/>
                  </a:lnTo>
                  <a:lnTo>
                    <a:pt x="4664" y="29"/>
                  </a:lnTo>
                  <a:lnTo>
                    <a:pt x="4630" y="18"/>
                  </a:lnTo>
                  <a:lnTo>
                    <a:pt x="4595" y="9"/>
                  </a:lnTo>
                  <a:lnTo>
                    <a:pt x="4557" y="3"/>
                  </a:lnTo>
                  <a:lnTo>
                    <a:pt x="4516" y="2"/>
                  </a:lnTo>
                  <a:lnTo>
                    <a:pt x="4475" y="3"/>
                  </a:lnTo>
                  <a:lnTo>
                    <a:pt x="4437" y="9"/>
                  </a:lnTo>
                  <a:lnTo>
                    <a:pt x="4400" y="18"/>
                  </a:lnTo>
                  <a:lnTo>
                    <a:pt x="4366" y="29"/>
                  </a:lnTo>
                  <a:lnTo>
                    <a:pt x="4335" y="45"/>
                  </a:lnTo>
                  <a:lnTo>
                    <a:pt x="4305" y="64"/>
                  </a:lnTo>
                  <a:lnTo>
                    <a:pt x="4278" y="86"/>
                  </a:lnTo>
                  <a:lnTo>
                    <a:pt x="4253" y="112"/>
                  </a:lnTo>
                  <a:lnTo>
                    <a:pt x="4232" y="138"/>
                  </a:lnTo>
                  <a:lnTo>
                    <a:pt x="4214" y="167"/>
                  </a:lnTo>
                  <a:lnTo>
                    <a:pt x="4198" y="198"/>
                  </a:lnTo>
                  <a:lnTo>
                    <a:pt x="4186" y="230"/>
                  </a:lnTo>
                  <a:lnTo>
                    <a:pt x="4177" y="265"/>
                  </a:lnTo>
                  <a:lnTo>
                    <a:pt x="4170" y="301"/>
                  </a:lnTo>
                  <a:lnTo>
                    <a:pt x="4166" y="340"/>
                  </a:lnTo>
                  <a:lnTo>
                    <a:pt x="4164" y="380"/>
                  </a:lnTo>
                  <a:lnTo>
                    <a:pt x="4166" y="421"/>
                  </a:lnTo>
                  <a:lnTo>
                    <a:pt x="4170" y="459"/>
                  </a:lnTo>
                  <a:lnTo>
                    <a:pt x="4177" y="495"/>
                  </a:lnTo>
                  <a:lnTo>
                    <a:pt x="4187" y="530"/>
                  </a:lnTo>
                  <a:lnTo>
                    <a:pt x="4200" y="561"/>
                  </a:lnTo>
                  <a:lnTo>
                    <a:pt x="4214" y="592"/>
                  </a:lnTo>
                  <a:lnTo>
                    <a:pt x="4232" y="621"/>
                  </a:lnTo>
                  <a:lnTo>
                    <a:pt x="4253" y="647"/>
                  </a:lnTo>
                  <a:lnTo>
                    <a:pt x="4278" y="674"/>
                  </a:lnTo>
                  <a:lnTo>
                    <a:pt x="4305" y="696"/>
                  </a:lnTo>
                  <a:lnTo>
                    <a:pt x="4335" y="715"/>
                  </a:lnTo>
                  <a:lnTo>
                    <a:pt x="4366" y="730"/>
                  </a:lnTo>
                  <a:lnTo>
                    <a:pt x="4400" y="742"/>
                  </a:lnTo>
                  <a:lnTo>
                    <a:pt x="4437" y="751"/>
                  </a:lnTo>
                  <a:lnTo>
                    <a:pt x="4475" y="756"/>
                  </a:lnTo>
                  <a:lnTo>
                    <a:pt x="4516" y="758"/>
                  </a:lnTo>
                  <a:lnTo>
                    <a:pt x="4557" y="756"/>
                  </a:lnTo>
                  <a:lnTo>
                    <a:pt x="4595" y="751"/>
                  </a:lnTo>
                  <a:lnTo>
                    <a:pt x="4630" y="742"/>
                  </a:lnTo>
                  <a:lnTo>
                    <a:pt x="4664" y="730"/>
                  </a:lnTo>
                  <a:lnTo>
                    <a:pt x="4696" y="715"/>
                  </a:lnTo>
                  <a:lnTo>
                    <a:pt x="4726" y="696"/>
                  </a:lnTo>
                  <a:lnTo>
                    <a:pt x="4754" y="674"/>
                  </a:lnTo>
                  <a:lnTo>
                    <a:pt x="4779" y="647"/>
                  </a:lnTo>
                  <a:lnTo>
                    <a:pt x="4799" y="620"/>
                  </a:lnTo>
                  <a:lnTo>
                    <a:pt x="4817" y="592"/>
                  </a:lnTo>
                  <a:lnTo>
                    <a:pt x="4833" y="561"/>
                  </a:lnTo>
                  <a:lnTo>
                    <a:pt x="4846" y="529"/>
                  </a:lnTo>
                  <a:lnTo>
                    <a:pt x="4856" y="495"/>
                  </a:lnTo>
                  <a:lnTo>
                    <a:pt x="4863" y="459"/>
                  </a:lnTo>
                  <a:lnTo>
                    <a:pt x="4867" y="421"/>
                  </a:lnTo>
                  <a:lnTo>
                    <a:pt x="4868" y="380"/>
                  </a:lnTo>
                  <a:close/>
                  <a:moveTo>
                    <a:pt x="4757" y="380"/>
                  </a:moveTo>
                  <a:lnTo>
                    <a:pt x="4756" y="410"/>
                  </a:lnTo>
                  <a:lnTo>
                    <a:pt x="4754" y="440"/>
                  </a:lnTo>
                  <a:lnTo>
                    <a:pt x="4748" y="467"/>
                  </a:lnTo>
                  <a:lnTo>
                    <a:pt x="4741" y="493"/>
                  </a:lnTo>
                  <a:lnTo>
                    <a:pt x="4734" y="517"/>
                  </a:lnTo>
                  <a:lnTo>
                    <a:pt x="4722" y="541"/>
                  </a:lnTo>
                  <a:lnTo>
                    <a:pt x="4710" y="562"/>
                  </a:lnTo>
                  <a:lnTo>
                    <a:pt x="4694" y="584"/>
                  </a:lnTo>
                  <a:lnTo>
                    <a:pt x="4677" y="603"/>
                  </a:lnTo>
                  <a:lnTo>
                    <a:pt x="4659" y="619"/>
                  </a:lnTo>
                  <a:lnTo>
                    <a:pt x="4638" y="633"/>
                  </a:lnTo>
                  <a:lnTo>
                    <a:pt x="4617" y="644"/>
                  </a:lnTo>
                  <a:lnTo>
                    <a:pt x="4594" y="653"/>
                  </a:lnTo>
                  <a:lnTo>
                    <a:pt x="4569" y="660"/>
                  </a:lnTo>
                  <a:lnTo>
                    <a:pt x="4543" y="664"/>
                  </a:lnTo>
                  <a:lnTo>
                    <a:pt x="4516" y="665"/>
                  </a:lnTo>
                  <a:lnTo>
                    <a:pt x="4489" y="664"/>
                  </a:lnTo>
                  <a:lnTo>
                    <a:pt x="4463" y="660"/>
                  </a:lnTo>
                  <a:lnTo>
                    <a:pt x="4438" y="653"/>
                  </a:lnTo>
                  <a:lnTo>
                    <a:pt x="4415" y="644"/>
                  </a:lnTo>
                  <a:lnTo>
                    <a:pt x="4393" y="633"/>
                  </a:lnTo>
                  <a:lnTo>
                    <a:pt x="4373" y="619"/>
                  </a:lnTo>
                  <a:lnTo>
                    <a:pt x="4355" y="603"/>
                  </a:lnTo>
                  <a:lnTo>
                    <a:pt x="4338" y="584"/>
                  </a:lnTo>
                  <a:lnTo>
                    <a:pt x="4322" y="562"/>
                  </a:lnTo>
                  <a:lnTo>
                    <a:pt x="4310" y="541"/>
                  </a:lnTo>
                  <a:lnTo>
                    <a:pt x="4298" y="517"/>
                  </a:lnTo>
                  <a:lnTo>
                    <a:pt x="4289" y="493"/>
                  </a:lnTo>
                  <a:lnTo>
                    <a:pt x="4282" y="467"/>
                  </a:lnTo>
                  <a:lnTo>
                    <a:pt x="4277" y="440"/>
                  </a:lnTo>
                  <a:lnTo>
                    <a:pt x="4274" y="410"/>
                  </a:lnTo>
                  <a:lnTo>
                    <a:pt x="4273" y="380"/>
                  </a:lnTo>
                  <a:lnTo>
                    <a:pt x="4274" y="350"/>
                  </a:lnTo>
                  <a:lnTo>
                    <a:pt x="4277" y="322"/>
                  </a:lnTo>
                  <a:lnTo>
                    <a:pt x="4282" y="293"/>
                  </a:lnTo>
                  <a:lnTo>
                    <a:pt x="4289" y="268"/>
                  </a:lnTo>
                  <a:lnTo>
                    <a:pt x="4298" y="243"/>
                  </a:lnTo>
                  <a:lnTo>
                    <a:pt x="4310" y="220"/>
                  </a:lnTo>
                  <a:lnTo>
                    <a:pt x="4322" y="198"/>
                  </a:lnTo>
                  <a:lnTo>
                    <a:pt x="4338" y="178"/>
                  </a:lnTo>
                  <a:lnTo>
                    <a:pt x="4355" y="158"/>
                  </a:lnTo>
                  <a:lnTo>
                    <a:pt x="4374" y="142"/>
                  </a:lnTo>
                  <a:lnTo>
                    <a:pt x="4393" y="127"/>
                  </a:lnTo>
                  <a:lnTo>
                    <a:pt x="4415" y="116"/>
                  </a:lnTo>
                  <a:lnTo>
                    <a:pt x="4439" y="107"/>
                  </a:lnTo>
                  <a:lnTo>
                    <a:pt x="4463" y="100"/>
                  </a:lnTo>
                  <a:lnTo>
                    <a:pt x="4489" y="97"/>
                  </a:lnTo>
                  <a:lnTo>
                    <a:pt x="4516" y="95"/>
                  </a:lnTo>
                  <a:lnTo>
                    <a:pt x="4543" y="97"/>
                  </a:lnTo>
                  <a:lnTo>
                    <a:pt x="4569" y="100"/>
                  </a:lnTo>
                  <a:lnTo>
                    <a:pt x="4593" y="107"/>
                  </a:lnTo>
                  <a:lnTo>
                    <a:pt x="4616" y="116"/>
                  </a:lnTo>
                  <a:lnTo>
                    <a:pt x="4637" y="127"/>
                  </a:lnTo>
                  <a:lnTo>
                    <a:pt x="4658" y="142"/>
                  </a:lnTo>
                  <a:lnTo>
                    <a:pt x="4677" y="158"/>
                  </a:lnTo>
                  <a:lnTo>
                    <a:pt x="4694" y="178"/>
                  </a:lnTo>
                  <a:lnTo>
                    <a:pt x="4710" y="198"/>
                  </a:lnTo>
                  <a:lnTo>
                    <a:pt x="4722" y="220"/>
                  </a:lnTo>
                  <a:lnTo>
                    <a:pt x="4734" y="243"/>
                  </a:lnTo>
                  <a:lnTo>
                    <a:pt x="4741" y="268"/>
                  </a:lnTo>
                  <a:lnTo>
                    <a:pt x="4748" y="293"/>
                  </a:lnTo>
                  <a:lnTo>
                    <a:pt x="4754" y="322"/>
                  </a:lnTo>
                  <a:lnTo>
                    <a:pt x="4756" y="350"/>
                  </a:lnTo>
                  <a:lnTo>
                    <a:pt x="4757" y="380"/>
                  </a:lnTo>
                  <a:close/>
                  <a:moveTo>
                    <a:pt x="5179" y="745"/>
                  </a:moveTo>
                  <a:lnTo>
                    <a:pt x="5179" y="16"/>
                  </a:lnTo>
                  <a:lnTo>
                    <a:pt x="5072" y="16"/>
                  </a:lnTo>
                  <a:lnTo>
                    <a:pt x="5072" y="745"/>
                  </a:lnTo>
                  <a:lnTo>
                    <a:pt x="5179" y="745"/>
                  </a:lnTo>
                  <a:close/>
                  <a:moveTo>
                    <a:pt x="6012" y="745"/>
                  </a:moveTo>
                  <a:lnTo>
                    <a:pt x="6012" y="16"/>
                  </a:lnTo>
                  <a:lnTo>
                    <a:pt x="5905" y="16"/>
                  </a:lnTo>
                  <a:lnTo>
                    <a:pt x="5905" y="598"/>
                  </a:lnTo>
                  <a:lnTo>
                    <a:pt x="5900" y="598"/>
                  </a:lnTo>
                  <a:lnTo>
                    <a:pt x="5580" y="16"/>
                  </a:lnTo>
                  <a:lnTo>
                    <a:pt x="5441" y="16"/>
                  </a:lnTo>
                  <a:lnTo>
                    <a:pt x="5441" y="745"/>
                  </a:lnTo>
                  <a:lnTo>
                    <a:pt x="5549" y="745"/>
                  </a:lnTo>
                  <a:lnTo>
                    <a:pt x="5549" y="160"/>
                  </a:lnTo>
                  <a:lnTo>
                    <a:pt x="5552" y="160"/>
                  </a:lnTo>
                  <a:lnTo>
                    <a:pt x="5873" y="745"/>
                  </a:lnTo>
                  <a:lnTo>
                    <a:pt x="6012" y="745"/>
                  </a:lnTo>
                  <a:close/>
                  <a:moveTo>
                    <a:pt x="6811" y="745"/>
                  </a:moveTo>
                  <a:lnTo>
                    <a:pt x="6811" y="16"/>
                  </a:lnTo>
                  <a:lnTo>
                    <a:pt x="6704" y="16"/>
                  </a:lnTo>
                  <a:lnTo>
                    <a:pt x="6704" y="598"/>
                  </a:lnTo>
                  <a:lnTo>
                    <a:pt x="6700" y="598"/>
                  </a:lnTo>
                  <a:lnTo>
                    <a:pt x="6381" y="16"/>
                  </a:lnTo>
                  <a:lnTo>
                    <a:pt x="6241" y="16"/>
                  </a:lnTo>
                  <a:lnTo>
                    <a:pt x="6241" y="745"/>
                  </a:lnTo>
                  <a:lnTo>
                    <a:pt x="6349" y="745"/>
                  </a:lnTo>
                  <a:lnTo>
                    <a:pt x="6349" y="160"/>
                  </a:lnTo>
                  <a:lnTo>
                    <a:pt x="6351" y="160"/>
                  </a:lnTo>
                  <a:lnTo>
                    <a:pt x="6672" y="745"/>
                  </a:lnTo>
                  <a:lnTo>
                    <a:pt x="6811" y="745"/>
                  </a:lnTo>
                  <a:close/>
                  <a:moveTo>
                    <a:pt x="7161" y="745"/>
                  </a:moveTo>
                  <a:lnTo>
                    <a:pt x="7161" y="16"/>
                  </a:lnTo>
                  <a:lnTo>
                    <a:pt x="7054" y="16"/>
                  </a:lnTo>
                  <a:lnTo>
                    <a:pt x="7054" y="745"/>
                  </a:lnTo>
                  <a:lnTo>
                    <a:pt x="7161" y="745"/>
                  </a:lnTo>
                  <a:close/>
                  <a:moveTo>
                    <a:pt x="7959" y="745"/>
                  </a:moveTo>
                  <a:lnTo>
                    <a:pt x="7959" y="16"/>
                  </a:lnTo>
                  <a:lnTo>
                    <a:pt x="7851" y="16"/>
                  </a:lnTo>
                  <a:lnTo>
                    <a:pt x="7851" y="598"/>
                  </a:lnTo>
                  <a:lnTo>
                    <a:pt x="7846" y="598"/>
                  </a:lnTo>
                  <a:lnTo>
                    <a:pt x="7527" y="16"/>
                  </a:lnTo>
                  <a:lnTo>
                    <a:pt x="7387" y="16"/>
                  </a:lnTo>
                  <a:lnTo>
                    <a:pt x="7387" y="745"/>
                  </a:lnTo>
                  <a:lnTo>
                    <a:pt x="7495" y="745"/>
                  </a:lnTo>
                  <a:lnTo>
                    <a:pt x="7495" y="160"/>
                  </a:lnTo>
                  <a:lnTo>
                    <a:pt x="7498" y="160"/>
                  </a:lnTo>
                  <a:lnTo>
                    <a:pt x="7819" y="745"/>
                  </a:lnTo>
                  <a:lnTo>
                    <a:pt x="7959" y="745"/>
                  </a:lnTo>
                  <a:close/>
                  <a:moveTo>
                    <a:pt x="8930" y="745"/>
                  </a:moveTo>
                  <a:lnTo>
                    <a:pt x="8930" y="651"/>
                  </a:lnTo>
                  <a:lnTo>
                    <a:pt x="8629" y="651"/>
                  </a:lnTo>
                  <a:lnTo>
                    <a:pt x="8629" y="16"/>
                  </a:lnTo>
                  <a:lnTo>
                    <a:pt x="8522" y="16"/>
                  </a:lnTo>
                  <a:lnTo>
                    <a:pt x="8522" y="745"/>
                  </a:lnTo>
                  <a:lnTo>
                    <a:pt x="8930" y="745"/>
                  </a:lnTo>
                  <a:close/>
                  <a:moveTo>
                    <a:pt x="9779" y="745"/>
                  </a:moveTo>
                  <a:lnTo>
                    <a:pt x="9458" y="16"/>
                  </a:lnTo>
                  <a:lnTo>
                    <a:pt x="9356" y="16"/>
                  </a:lnTo>
                  <a:lnTo>
                    <a:pt x="9036" y="745"/>
                  </a:lnTo>
                  <a:lnTo>
                    <a:pt x="9151" y="745"/>
                  </a:lnTo>
                  <a:lnTo>
                    <a:pt x="9227" y="558"/>
                  </a:lnTo>
                  <a:lnTo>
                    <a:pt x="9587" y="558"/>
                  </a:lnTo>
                  <a:lnTo>
                    <a:pt x="9665" y="745"/>
                  </a:lnTo>
                  <a:lnTo>
                    <a:pt x="9779" y="745"/>
                  </a:lnTo>
                  <a:close/>
                  <a:moveTo>
                    <a:pt x="9554" y="475"/>
                  </a:moveTo>
                  <a:lnTo>
                    <a:pt x="9262" y="475"/>
                  </a:lnTo>
                  <a:lnTo>
                    <a:pt x="9407" y="116"/>
                  </a:lnTo>
                  <a:lnTo>
                    <a:pt x="9554" y="475"/>
                  </a:lnTo>
                  <a:close/>
                  <a:moveTo>
                    <a:pt x="10024" y="745"/>
                  </a:moveTo>
                  <a:lnTo>
                    <a:pt x="10024" y="16"/>
                  </a:lnTo>
                  <a:lnTo>
                    <a:pt x="9918" y="16"/>
                  </a:lnTo>
                  <a:lnTo>
                    <a:pt x="9918" y="745"/>
                  </a:lnTo>
                  <a:lnTo>
                    <a:pt x="10024" y="745"/>
                  </a:lnTo>
                  <a:close/>
                  <a:moveTo>
                    <a:pt x="10726" y="107"/>
                  </a:moveTo>
                  <a:lnTo>
                    <a:pt x="10726" y="16"/>
                  </a:lnTo>
                  <a:lnTo>
                    <a:pt x="10170" y="16"/>
                  </a:lnTo>
                  <a:lnTo>
                    <a:pt x="10170" y="107"/>
                  </a:lnTo>
                  <a:lnTo>
                    <a:pt x="10395" y="107"/>
                  </a:lnTo>
                  <a:lnTo>
                    <a:pt x="10395" y="745"/>
                  </a:lnTo>
                  <a:lnTo>
                    <a:pt x="10502" y="745"/>
                  </a:lnTo>
                  <a:lnTo>
                    <a:pt x="10502" y="107"/>
                  </a:lnTo>
                  <a:lnTo>
                    <a:pt x="10726" y="107"/>
                  </a:lnTo>
                  <a:close/>
                  <a:moveTo>
                    <a:pt x="11505" y="380"/>
                  </a:moveTo>
                  <a:lnTo>
                    <a:pt x="11503" y="340"/>
                  </a:lnTo>
                  <a:lnTo>
                    <a:pt x="11499" y="302"/>
                  </a:lnTo>
                  <a:lnTo>
                    <a:pt x="11492" y="265"/>
                  </a:lnTo>
                  <a:lnTo>
                    <a:pt x="11482" y="232"/>
                  </a:lnTo>
                  <a:lnTo>
                    <a:pt x="11469" y="199"/>
                  </a:lnTo>
                  <a:lnTo>
                    <a:pt x="11454" y="167"/>
                  </a:lnTo>
                  <a:lnTo>
                    <a:pt x="11437" y="139"/>
                  </a:lnTo>
                  <a:lnTo>
                    <a:pt x="11415" y="112"/>
                  </a:lnTo>
                  <a:lnTo>
                    <a:pt x="11390" y="86"/>
                  </a:lnTo>
                  <a:lnTo>
                    <a:pt x="11363" y="64"/>
                  </a:lnTo>
                  <a:lnTo>
                    <a:pt x="11333" y="45"/>
                  </a:lnTo>
                  <a:lnTo>
                    <a:pt x="11302" y="29"/>
                  </a:lnTo>
                  <a:lnTo>
                    <a:pt x="11268" y="18"/>
                  </a:lnTo>
                  <a:lnTo>
                    <a:pt x="11231" y="9"/>
                  </a:lnTo>
                  <a:lnTo>
                    <a:pt x="11193" y="3"/>
                  </a:lnTo>
                  <a:lnTo>
                    <a:pt x="11152" y="2"/>
                  </a:lnTo>
                  <a:lnTo>
                    <a:pt x="11111" y="3"/>
                  </a:lnTo>
                  <a:lnTo>
                    <a:pt x="11073" y="9"/>
                  </a:lnTo>
                  <a:lnTo>
                    <a:pt x="11036" y="18"/>
                  </a:lnTo>
                  <a:lnTo>
                    <a:pt x="11002" y="29"/>
                  </a:lnTo>
                  <a:lnTo>
                    <a:pt x="10971" y="45"/>
                  </a:lnTo>
                  <a:lnTo>
                    <a:pt x="10941" y="64"/>
                  </a:lnTo>
                  <a:lnTo>
                    <a:pt x="10914" y="86"/>
                  </a:lnTo>
                  <a:lnTo>
                    <a:pt x="10889" y="112"/>
                  </a:lnTo>
                  <a:lnTo>
                    <a:pt x="10869" y="138"/>
                  </a:lnTo>
                  <a:lnTo>
                    <a:pt x="10851" y="167"/>
                  </a:lnTo>
                  <a:lnTo>
                    <a:pt x="10835" y="198"/>
                  </a:lnTo>
                  <a:lnTo>
                    <a:pt x="10822" y="230"/>
                  </a:lnTo>
                  <a:lnTo>
                    <a:pt x="10813" y="265"/>
                  </a:lnTo>
                  <a:lnTo>
                    <a:pt x="10806" y="301"/>
                  </a:lnTo>
                  <a:lnTo>
                    <a:pt x="10802" y="340"/>
                  </a:lnTo>
                  <a:lnTo>
                    <a:pt x="10801" y="380"/>
                  </a:lnTo>
                  <a:lnTo>
                    <a:pt x="10802" y="421"/>
                  </a:lnTo>
                  <a:lnTo>
                    <a:pt x="10806" y="459"/>
                  </a:lnTo>
                  <a:lnTo>
                    <a:pt x="10813" y="495"/>
                  </a:lnTo>
                  <a:lnTo>
                    <a:pt x="10823" y="530"/>
                  </a:lnTo>
                  <a:lnTo>
                    <a:pt x="10836" y="561"/>
                  </a:lnTo>
                  <a:lnTo>
                    <a:pt x="10851" y="592"/>
                  </a:lnTo>
                  <a:lnTo>
                    <a:pt x="10869" y="621"/>
                  </a:lnTo>
                  <a:lnTo>
                    <a:pt x="10889" y="647"/>
                  </a:lnTo>
                  <a:lnTo>
                    <a:pt x="10914" y="674"/>
                  </a:lnTo>
                  <a:lnTo>
                    <a:pt x="10941" y="696"/>
                  </a:lnTo>
                  <a:lnTo>
                    <a:pt x="10971" y="715"/>
                  </a:lnTo>
                  <a:lnTo>
                    <a:pt x="11002" y="730"/>
                  </a:lnTo>
                  <a:lnTo>
                    <a:pt x="11036" y="742"/>
                  </a:lnTo>
                  <a:lnTo>
                    <a:pt x="11073" y="751"/>
                  </a:lnTo>
                  <a:lnTo>
                    <a:pt x="11111" y="756"/>
                  </a:lnTo>
                  <a:lnTo>
                    <a:pt x="11152" y="758"/>
                  </a:lnTo>
                  <a:lnTo>
                    <a:pt x="11193" y="756"/>
                  </a:lnTo>
                  <a:lnTo>
                    <a:pt x="11231" y="751"/>
                  </a:lnTo>
                  <a:lnTo>
                    <a:pt x="11268" y="742"/>
                  </a:lnTo>
                  <a:lnTo>
                    <a:pt x="11302" y="730"/>
                  </a:lnTo>
                  <a:lnTo>
                    <a:pt x="11333" y="715"/>
                  </a:lnTo>
                  <a:lnTo>
                    <a:pt x="11363" y="696"/>
                  </a:lnTo>
                  <a:lnTo>
                    <a:pt x="11390" y="674"/>
                  </a:lnTo>
                  <a:lnTo>
                    <a:pt x="11415" y="647"/>
                  </a:lnTo>
                  <a:lnTo>
                    <a:pt x="11437" y="620"/>
                  </a:lnTo>
                  <a:lnTo>
                    <a:pt x="11454" y="592"/>
                  </a:lnTo>
                  <a:lnTo>
                    <a:pt x="11469" y="561"/>
                  </a:lnTo>
                  <a:lnTo>
                    <a:pt x="11482" y="529"/>
                  </a:lnTo>
                  <a:lnTo>
                    <a:pt x="11492" y="495"/>
                  </a:lnTo>
                  <a:lnTo>
                    <a:pt x="11499" y="459"/>
                  </a:lnTo>
                  <a:lnTo>
                    <a:pt x="11503" y="421"/>
                  </a:lnTo>
                  <a:lnTo>
                    <a:pt x="11505" y="380"/>
                  </a:lnTo>
                  <a:close/>
                  <a:moveTo>
                    <a:pt x="11395" y="380"/>
                  </a:moveTo>
                  <a:lnTo>
                    <a:pt x="11394" y="410"/>
                  </a:lnTo>
                  <a:lnTo>
                    <a:pt x="11390" y="440"/>
                  </a:lnTo>
                  <a:lnTo>
                    <a:pt x="11386" y="467"/>
                  </a:lnTo>
                  <a:lnTo>
                    <a:pt x="11379" y="493"/>
                  </a:lnTo>
                  <a:lnTo>
                    <a:pt x="11370" y="517"/>
                  </a:lnTo>
                  <a:lnTo>
                    <a:pt x="11358" y="541"/>
                  </a:lnTo>
                  <a:lnTo>
                    <a:pt x="11346" y="562"/>
                  </a:lnTo>
                  <a:lnTo>
                    <a:pt x="11331" y="584"/>
                  </a:lnTo>
                  <a:lnTo>
                    <a:pt x="11313" y="603"/>
                  </a:lnTo>
                  <a:lnTo>
                    <a:pt x="11295" y="619"/>
                  </a:lnTo>
                  <a:lnTo>
                    <a:pt x="11274" y="633"/>
                  </a:lnTo>
                  <a:lnTo>
                    <a:pt x="11253" y="644"/>
                  </a:lnTo>
                  <a:lnTo>
                    <a:pt x="11230" y="653"/>
                  </a:lnTo>
                  <a:lnTo>
                    <a:pt x="11205" y="660"/>
                  </a:lnTo>
                  <a:lnTo>
                    <a:pt x="11179" y="664"/>
                  </a:lnTo>
                  <a:lnTo>
                    <a:pt x="11152" y="665"/>
                  </a:lnTo>
                  <a:lnTo>
                    <a:pt x="11125" y="664"/>
                  </a:lnTo>
                  <a:lnTo>
                    <a:pt x="11099" y="660"/>
                  </a:lnTo>
                  <a:lnTo>
                    <a:pt x="11075" y="653"/>
                  </a:lnTo>
                  <a:lnTo>
                    <a:pt x="11051" y="644"/>
                  </a:lnTo>
                  <a:lnTo>
                    <a:pt x="11030" y="633"/>
                  </a:lnTo>
                  <a:lnTo>
                    <a:pt x="11009" y="619"/>
                  </a:lnTo>
                  <a:lnTo>
                    <a:pt x="10991" y="603"/>
                  </a:lnTo>
                  <a:lnTo>
                    <a:pt x="10974" y="584"/>
                  </a:lnTo>
                  <a:lnTo>
                    <a:pt x="10959" y="562"/>
                  </a:lnTo>
                  <a:lnTo>
                    <a:pt x="10946" y="541"/>
                  </a:lnTo>
                  <a:lnTo>
                    <a:pt x="10934" y="517"/>
                  </a:lnTo>
                  <a:lnTo>
                    <a:pt x="10925" y="493"/>
                  </a:lnTo>
                  <a:lnTo>
                    <a:pt x="10919" y="467"/>
                  </a:lnTo>
                  <a:lnTo>
                    <a:pt x="10914" y="440"/>
                  </a:lnTo>
                  <a:lnTo>
                    <a:pt x="10911" y="410"/>
                  </a:lnTo>
                  <a:lnTo>
                    <a:pt x="10909" y="380"/>
                  </a:lnTo>
                  <a:lnTo>
                    <a:pt x="10911" y="350"/>
                  </a:lnTo>
                  <a:lnTo>
                    <a:pt x="10914" y="322"/>
                  </a:lnTo>
                  <a:lnTo>
                    <a:pt x="10919" y="293"/>
                  </a:lnTo>
                  <a:lnTo>
                    <a:pt x="10925" y="268"/>
                  </a:lnTo>
                  <a:lnTo>
                    <a:pt x="10934" y="243"/>
                  </a:lnTo>
                  <a:lnTo>
                    <a:pt x="10946" y="220"/>
                  </a:lnTo>
                  <a:lnTo>
                    <a:pt x="10959" y="198"/>
                  </a:lnTo>
                  <a:lnTo>
                    <a:pt x="10974" y="178"/>
                  </a:lnTo>
                  <a:lnTo>
                    <a:pt x="10991" y="158"/>
                  </a:lnTo>
                  <a:lnTo>
                    <a:pt x="11010" y="142"/>
                  </a:lnTo>
                  <a:lnTo>
                    <a:pt x="11030" y="127"/>
                  </a:lnTo>
                  <a:lnTo>
                    <a:pt x="11051" y="116"/>
                  </a:lnTo>
                  <a:lnTo>
                    <a:pt x="11075" y="107"/>
                  </a:lnTo>
                  <a:lnTo>
                    <a:pt x="11099" y="100"/>
                  </a:lnTo>
                  <a:lnTo>
                    <a:pt x="11125" y="97"/>
                  </a:lnTo>
                  <a:lnTo>
                    <a:pt x="11152" y="95"/>
                  </a:lnTo>
                  <a:lnTo>
                    <a:pt x="11179" y="97"/>
                  </a:lnTo>
                  <a:lnTo>
                    <a:pt x="11205" y="100"/>
                  </a:lnTo>
                  <a:lnTo>
                    <a:pt x="11229" y="107"/>
                  </a:lnTo>
                  <a:lnTo>
                    <a:pt x="11252" y="116"/>
                  </a:lnTo>
                  <a:lnTo>
                    <a:pt x="11273" y="127"/>
                  </a:lnTo>
                  <a:lnTo>
                    <a:pt x="11294" y="142"/>
                  </a:lnTo>
                  <a:lnTo>
                    <a:pt x="11313" y="158"/>
                  </a:lnTo>
                  <a:lnTo>
                    <a:pt x="11331" y="178"/>
                  </a:lnTo>
                  <a:lnTo>
                    <a:pt x="11346" y="198"/>
                  </a:lnTo>
                  <a:lnTo>
                    <a:pt x="11358" y="220"/>
                  </a:lnTo>
                  <a:lnTo>
                    <a:pt x="11370" y="243"/>
                  </a:lnTo>
                  <a:lnTo>
                    <a:pt x="11379" y="268"/>
                  </a:lnTo>
                  <a:lnTo>
                    <a:pt x="11386" y="293"/>
                  </a:lnTo>
                  <a:lnTo>
                    <a:pt x="11390" y="322"/>
                  </a:lnTo>
                  <a:lnTo>
                    <a:pt x="11394" y="350"/>
                  </a:lnTo>
                  <a:lnTo>
                    <a:pt x="11395" y="380"/>
                  </a:lnTo>
                  <a:close/>
                  <a:moveTo>
                    <a:pt x="12075" y="548"/>
                  </a:moveTo>
                  <a:lnTo>
                    <a:pt x="12074" y="522"/>
                  </a:lnTo>
                  <a:lnTo>
                    <a:pt x="12070" y="498"/>
                  </a:lnTo>
                  <a:lnTo>
                    <a:pt x="12063" y="475"/>
                  </a:lnTo>
                  <a:lnTo>
                    <a:pt x="12054" y="452"/>
                  </a:lnTo>
                  <a:lnTo>
                    <a:pt x="12043" y="432"/>
                  </a:lnTo>
                  <a:lnTo>
                    <a:pt x="12029" y="412"/>
                  </a:lnTo>
                  <a:lnTo>
                    <a:pt x="12012" y="392"/>
                  </a:lnTo>
                  <a:lnTo>
                    <a:pt x="11993" y="374"/>
                  </a:lnTo>
                  <a:lnTo>
                    <a:pt x="11973" y="361"/>
                  </a:lnTo>
                  <a:lnTo>
                    <a:pt x="11941" y="342"/>
                  </a:lnTo>
                  <a:lnTo>
                    <a:pt x="11840" y="286"/>
                  </a:lnTo>
                  <a:lnTo>
                    <a:pt x="11821" y="274"/>
                  </a:lnTo>
                  <a:lnTo>
                    <a:pt x="11804" y="263"/>
                  </a:lnTo>
                  <a:lnTo>
                    <a:pt x="11789" y="252"/>
                  </a:lnTo>
                  <a:lnTo>
                    <a:pt x="11778" y="241"/>
                  </a:lnTo>
                  <a:lnTo>
                    <a:pt x="11769" y="230"/>
                  </a:lnTo>
                  <a:lnTo>
                    <a:pt x="11762" y="219"/>
                  </a:lnTo>
                  <a:lnTo>
                    <a:pt x="11760" y="214"/>
                  </a:lnTo>
                  <a:lnTo>
                    <a:pt x="11757" y="208"/>
                  </a:lnTo>
                  <a:lnTo>
                    <a:pt x="11756" y="198"/>
                  </a:lnTo>
                  <a:lnTo>
                    <a:pt x="11759" y="178"/>
                  </a:lnTo>
                  <a:lnTo>
                    <a:pt x="11765" y="160"/>
                  </a:lnTo>
                  <a:lnTo>
                    <a:pt x="11777" y="142"/>
                  </a:lnTo>
                  <a:lnTo>
                    <a:pt x="11785" y="134"/>
                  </a:lnTo>
                  <a:lnTo>
                    <a:pt x="11793" y="126"/>
                  </a:lnTo>
                  <a:lnTo>
                    <a:pt x="11812" y="111"/>
                  </a:lnTo>
                  <a:lnTo>
                    <a:pt x="11822" y="106"/>
                  </a:lnTo>
                  <a:lnTo>
                    <a:pt x="11833" y="101"/>
                  </a:lnTo>
                  <a:lnTo>
                    <a:pt x="11857" y="95"/>
                  </a:lnTo>
                  <a:lnTo>
                    <a:pt x="11884" y="93"/>
                  </a:lnTo>
                  <a:lnTo>
                    <a:pt x="11908" y="95"/>
                  </a:lnTo>
                  <a:lnTo>
                    <a:pt x="11940" y="101"/>
                  </a:lnTo>
                  <a:lnTo>
                    <a:pt x="12029" y="127"/>
                  </a:lnTo>
                  <a:lnTo>
                    <a:pt x="12048" y="26"/>
                  </a:lnTo>
                  <a:lnTo>
                    <a:pt x="12007" y="14"/>
                  </a:lnTo>
                  <a:lnTo>
                    <a:pt x="11966" y="7"/>
                  </a:lnTo>
                  <a:lnTo>
                    <a:pt x="11925" y="1"/>
                  </a:lnTo>
                  <a:lnTo>
                    <a:pt x="11884" y="0"/>
                  </a:lnTo>
                  <a:lnTo>
                    <a:pt x="11862" y="1"/>
                  </a:lnTo>
                  <a:lnTo>
                    <a:pt x="11840" y="3"/>
                  </a:lnTo>
                  <a:lnTo>
                    <a:pt x="11819" y="7"/>
                  </a:lnTo>
                  <a:lnTo>
                    <a:pt x="11798" y="11"/>
                  </a:lnTo>
                  <a:lnTo>
                    <a:pt x="11760" y="27"/>
                  </a:lnTo>
                  <a:lnTo>
                    <a:pt x="11742" y="37"/>
                  </a:lnTo>
                  <a:lnTo>
                    <a:pt x="11723" y="48"/>
                  </a:lnTo>
                  <a:lnTo>
                    <a:pt x="11705" y="63"/>
                  </a:lnTo>
                  <a:lnTo>
                    <a:pt x="11691" y="77"/>
                  </a:lnTo>
                  <a:lnTo>
                    <a:pt x="11677" y="94"/>
                  </a:lnTo>
                  <a:lnTo>
                    <a:pt x="11666" y="113"/>
                  </a:lnTo>
                  <a:lnTo>
                    <a:pt x="11658" y="133"/>
                  </a:lnTo>
                  <a:lnTo>
                    <a:pt x="11652" y="153"/>
                  </a:lnTo>
                  <a:lnTo>
                    <a:pt x="11647" y="174"/>
                  </a:lnTo>
                  <a:lnTo>
                    <a:pt x="11646" y="198"/>
                  </a:lnTo>
                  <a:lnTo>
                    <a:pt x="11649" y="224"/>
                  </a:lnTo>
                  <a:lnTo>
                    <a:pt x="11652" y="236"/>
                  </a:lnTo>
                  <a:lnTo>
                    <a:pt x="11655" y="248"/>
                  </a:lnTo>
                  <a:lnTo>
                    <a:pt x="11667" y="273"/>
                  </a:lnTo>
                  <a:lnTo>
                    <a:pt x="11681" y="296"/>
                  </a:lnTo>
                  <a:lnTo>
                    <a:pt x="11701" y="318"/>
                  </a:lnTo>
                  <a:lnTo>
                    <a:pt x="11726" y="340"/>
                  </a:lnTo>
                  <a:lnTo>
                    <a:pt x="11754" y="360"/>
                  </a:lnTo>
                  <a:lnTo>
                    <a:pt x="11786" y="379"/>
                  </a:lnTo>
                  <a:lnTo>
                    <a:pt x="11824" y="399"/>
                  </a:lnTo>
                  <a:lnTo>
                    <a:pt x="11863" y="418"/>
                  </a:lnTo>
                  <a:lnTo>
                    <a:pt x="11905" y="445"/>
                  </a:lnTo>
                  <a:lnTo>
                    <a:pt x="11922" y="458"/>
                  </a:lnTo>
                  <a:lnTo>
                    <a:pt x="11934" y="470"/>
                  </a:lnTo>
                  <a:lnTo>
                    <a:pt x="11941" y="479"/>
                  </a:lnTo>
                  <a:lnTo>
                    <a:pt x="11948" y="488"/>
                  </a:lnTo>
                  <a:lnTo>
                    <a:pt x="11958" y="506"/>
                  </a:lnTo>
                  <a:lnTo>
                    <a:pt x="11964" y="526"/>
                  </a:lnTo>
                  <a:lnTo>
                    <a:pt x="11966" y="548"/>
                  </a:lnTo>
                  <a:lnTo>
                    <a:pt x="11963" y="571"/>
                  </a:lnTo>
                  <a:lnTo>
                    <a:pt x="11955" y="594"/>
                  </a:lnTo>
                  <a:lnTo>
                    <a:pt x="11941" y="614"/>
                  </a:lnTo>
                  <a:lnTo>
                    <a:pt x="11922" y="631"/>
                  </a:lnTo>
                  <a:lnTo>
                    <a:pt x="11898" y="646"/>
                  </a:lnTo>
                  <a:lnTo>
                    <a:pt x="11884" y="651"/>
                  </a:lnTo>
                  <a:lnTo>
                    <a:pt x="11871" y="657"/>
                  </a:lnTo>
                  <a:lnTo>
                    <a:pt x="11856" y="660"/>
                  </a:lnTo>
                  <a:lnTo>
                    <a:pt x="11840" y="662"/>
                  </a:lnTo>
                  <a:lnTo>
                    <a:pt x="11807" y="665"/>
                  </a:lnTo>
                  <a:lnTo>
                    <a:pt x="11770" y="662"/>
                  </a:lnTo>
                  <a:lnTo>
                    <a:pt x="11753" y="659"/>
                  </a:lnTo>
                  <a:lnTo>
                    <a:pt x="11735" y="656"/>
                  </a:lnTo>
                  <a:lnTo>
                    <a:pt x="11702" y="644"/>
                  </a:lnTo>
                  <a:lnTo>
                    <a:pt x="11670" y="629"/>
                  </a:lnTo>
                  <a:lnTo>
                    <a:pt x="11655" y="729"/>
                  </a:lnTo>
                  <a:lnTo>
                    <a:pt x="11703" y="745"/>
                  </a:lnTo>
                  <a:lnTo>
                    <a:pt x="11734" y="752"/>
                  </a:lnTo>
                  <a:lnTo>
                    <a:pt x="11747" y="755"/>
                  </a:lnTo>
                  <a:lnTo>
                    <a:pt x="11765" y="757"/>
                  </a:lnTo>
                  <a:lnTo>
                    <a:pt x="11807" y="758"/>
                  </a:lnTo>
                  <a:lnTo>
                    <a:pt x="11833" y="757"/>
                  </a:lnTo>
                  <a:lnTo>
                    <a:pt x="11858" y="755"/>
                  </a:lnTo>
                  <a:lnTo>
                    <a:pt x="11882" y="751"/>
                  </a:lnTo>
                  <a:lnTo>
                    <a:pt x="11905" y="747"/>
                  </a:lnTo>
                  <a:lnTo>
                    <a:pt x="11926" y="740"/>
                  </a:lnTo>
                  <a:lnTo>
                    <a:pt x="11947" y="732"/>
                  </a:lnTo>
                  <a:lnTo>
                    <a:pt x="11967" y="723"/>
                  </a:lnTo>
                  <a:lnTo>
                    <a:pt x="11985" y="712"/>
                  </a:lnTo>
                  <a:lnTo>
                    <a:pt x="12007" y="696"/>
                  </a:lnTo>
                  <a:lnTo>
                    <a:pt x="12025" y="680"/>
                  </a:lnTo>
                  <a:lnTo>
                    <a:pt x="12041" y="661"/>
                  </a:lnTo>
                  <a:lnTo>
                    <a:pt x="12053" y="642"/>
                  </a:lnTo>
                  <a:lnTo>
                    <a:pt x="12062" y="621"/>
                  </a:lnTo>
                  <a:lnTo>
                    <a:pt x="12070" y="598"/>
                  </a:lnTo>
                  <a:lnTo>
                    <a:pt x="12074" y="574"/>
                  </a:lnTo>
                  <a:lnTo>
                    <a:pt x="12075" y="548"/>
                  </a:lnTo>
                  <a:close/>
                </a:path>
              </a:pathLst>
            </a:custGeom>
            <a:solidFill>
              <a:srgbClr val="807f8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Freeform 35"/>
            <p:cNvSpPr/>
            <p:nvPr/>
          </p:nvSpPr>
          <p:spPr>
            <a:xfrm>
              <a:off x="2897280" y="5271480"/>
              <a:ext cx="1239480" cy="121680"/>
            </a:xfrm>
            <a:custGeom>
              <a:avLst/>
              <a:gdLst>
                <a:gd name="textAreaLeft" fmla="*/ 0 w 1239480"/>
                <a:gd name="textAreaRight" fmla="*/ 1239840 w 1239480"/>
                <a:gd name="textAreaTop" fmla="*/ 0 h 121680"/>
                <a:gd name="textAreaBottom" fmla="*/ 122040 h 121680"/>
              </a:gdLst>
              <a:ahLst/>
              <a:rect l="textAreaLeft" t="textAreaTop" r="textAreaRight" b="textAreaBottom"/>
              <a:pathLst>
                <a:path w="7628" h="742">
                  <a:moveTo>
                    <a:pt x="555" y="91"/>
                  </a:moveTo>
                  <a:lnTo>
                    <a:pt x="555" y="0"/>
                  </a:lnTo>
                  <a:lnTo>
                    <a:pt x="0" y="0"/>
                  </a:lnTo>
                  <a:lnTo>
                    <a:pt x="0" y="91"/>
                  </a:lnTo>
                  <a:lnTo>
                    <a:pt x="224" y="91"/>
                  </a:lnTo>
                  <a:lnTo>
                    <a:pt x="224" y="729"/>
                  </a:lnTo>
                  <a:lnTo>
                    <a:pt x="331" y="729"/>
                  </a:lnTo>
                  <a:lnTo>
                    <a:pt x="331" y="91"/>
                  </a:lnTo>
                  <a:lnTo>
                    <a:pt x="555" y="91"/>
                  </a:lnTo>
                  <a:close/>
                  <a:moveTo>
                    <a:pt x="1121" y="91"/>
                  </a:moveTo>
                  <a:lnTo>
                    <a:pt x="1121" y="0"/>
                  </a:lnTo>
                  <a:lnTo>
                    <a:pt x="707" y="0"/>
                  </a:lnTo>
                  <a:lnTo>
                    <a:pt x="707" y="729"/>
                  </a:lnTo>
                  <a:lnTo>
                    <a:pt x="1120" y="729"/>
                  </a:lnTo>
                  <a:lnTo>
                    <a:pt x="1120" y="635"/>
                  </a:lnTo>
                  <a:lnTo>
                    <a:pt x="814" y="635"/>
                  </a:lnTo>
                  <a:lnTo>
                    <a:pt x="814" y="396"/>
                  </a:lnTo>
                  <a:lnTo>
                    <a:pt x="1094" y="396"/>
                  </a:lnTo>
                  <a:lnTo>
                    <a:pt x="1094" y="302"/>
                  </a:lnTo>
                  <a:lnTo>
                    <a:pt x="814" y="302"/>
                  </a:lnTo>
                  <a:lnTo>
                    <a:pt x="814" y="91"/>
                  </a:lnTo>
                  <a:lnTo>
                    <a:pt x="1121" y="91"/>
                  </a:lnTo>
                  <a:close/>
                  <a:moveTo>
                    <a:pt x="1849" y="729"/>
                  </a:moveTo>
                  <a:lnTo>
                    <a:pt x="1849" y="635"/>
                  </a:lnTo>
                  <a:lnTo>
                    <a:pt x="1827" y="635"/>
                  </a:lnTo>
                  <a:lnTo>
                    <a:pt x="1823" y="635"/>
                  </a:lnTo>
                  <a:lnTo>
                    <a:pt x="1818" y="634"/>
                  </a:lnTo>
                  <a:lnTo>
                    <a:pt x="1813" y="632"/>
                  </a:lnTo>
                  <a:lnTo>
                    <a:pt x="1808" y="630"/>
                  </a:lnTo>
                  <a:lnTo>
                    <a:pt x="1804" y="626"/>
                  </a:lnTo>
                  <a:lnTo>
                    <a:pt x="1798" y="622"/>
                  </a:lnTo>
                  <a:lnTo>
                    <a:pt x="1793" y="617"/>
                  </a:lnTo>
                  <a:lnTo>
                    <a:pt x="1788" y="611"/>
                  </a:lnTo>
                  <a:lnTo>
                    <a:pt x="1783" y="605"/>
                  </a:lnTo>
                  <a:lnTo>
                    <a:pt x="1778" y="597"/>
                  </a:lnTo>
                  <a:lnTo>
                    <a:pt x="1767" y="580"/>
                  </a:lnTo>
                  <a:lnTo>
                    <a:pt x="1756" y="560"/>
                  </a:lnTo>
                  <a:lnTo>
                    <a:pt x="1743" y="537"/>
                  </a:lnTo>
                  <a:lnTo>
                    <a:pt x="1730" y="507"/>
                  </a:lnTo>
                  <a:lnTo>
                    <a:pt x="1715" y="480"/>
                  </a:lnTo>
                  <a:lnTo>
                    <a:pt x="1703" y="454"/>
                  </a:lnTo>
                  <a:lnTo>
                    <a:pt x="1689" y="433"/>
                  </a:lnTo>
                  <a:lnTo>
                    <a:pt x="1677" y="413"/>
                  </a:lnTo>
                  <a:lnTo>
                    <a:pt x="1665" y="396"/>
                  </a:lnTo>
                  <a:lnTo>
                    <a:pt x="1654" y="382"/>
                  </a:lnTo>
                  <a:lnTo>
                    <a:pt x="1644" y="371"/>
                  </a:lnTo>
                  <a:lnTo>
                    <a:pt x="1661" y="362"/>
                  </a:lnTo>
                  <a:lnTo>
                    <a:pt x="1678" y="354"/>
                  </a:lnTo>
                  <a:lnTo>
                    <a:pt x="1692" y="344"/>
                  </a:lnTo>
                  <a:lnTo>
                    <a:pt x="1707" y="335"/>
                  </a:lnTo>
                  <a:lnTo>
                    <a:pt x="1721" y="325"/>
                  </a:lnTo>
                  <a:lnTo>
                    <a:pt x="1726" y="320"/>
                  </a:lnTo>
                  <a:lnTo>
                    <a:pt x="1732" y="315"/>
                  </a:lnTo>
                  <a:lnTo>
                    <a:pt x="1743" y="305"/>
                  </a:lnTo>
                  <a:lnTo>
                    <a:pt x="1753" y="293"/>
                  </a:lnTo>
                  <a:lnTo>
                    <a:pt x="1757" y="288"/>
                  </a:lnTo>
                  <a:lnTo>
                    <a:pt x="1762" y="281"/>
                  </a:lnTo>
                  <a:lnTo>
                    <a:pt x="1768" y="270"/>
                  </a:lnTo>
                  <a:lnTo>
                    <a:pt x="1775" y="257"/>
                  </a:lnTo>
                  <a:lnTo>
                    <a:pt x="1780" y="244"/>
                  </a:lnTo>
                  <a:lnTo>
                    <a:pt x="1784" y="231"/>
                  </a:lnTo>
                  <a:lnTo>
                    <a:pt x="1787" y="218"/>
                  </a:lnTo>
                  <a:lnTo>
                    <a:pt x="1788" y="211"/>
                  </a:lnTo>
                  <a:lnTo>
                    <a:pt x="1789" y="203"/>
                  </a:lnTo>
                  <a:lnTo>
                    <a:pt x="1789" y="190"/>
                  </a:lnTo>
                  <a:lnTo>
                    <a:pt x="1789" y="179"/>
                  </a:lnTo>
                  <a:lnTo>
                    <a:pt x="1788" y="168"/>
                  </a:lnTo>
                  <a:lnTo>
                    <a:pt x="1787" y="157"/>
                  </a:lnTo>
                  <a:lnTo>
                    <a:pt x="1785" y="148"/>
                  </a:lnTo>
                  <a:lnTo>
                    <a:pt x="1783" y="138"/>
                  </a:lnTo>
                  <a:lnTo>
                    <a:pt x="1780" y="129"/>
                  </a:lnTo>
                  <a:lnTo>
                    <a:pt x="1778" y="120"/>
                  </a:lnTo>
                  <a:lnTo>
                    <a:pt x="1773" y="111"/>
                  </a:lnTo>
                  <a:lnTo>
                    <a:pt x="1768" y="102"/>
                  </a:lnTo>
                  <a:lnTo>
                    <a:pt x="1764" y="94"/>
                  </a:lnTo>
                  <a:lnTo>
                    <a:pt x="1759" y="86"/>
                  </a:lnTo>
                  <a:lnTo>
                    <a:pt x="1753" y="78"/>
                  </a:lnTo>
                  <a:lnTo>
                    <a:pt x="1747" y="72"/>
                  </a:lnTo>
                  <a:lnTo>
                    <a:pt x="1740" y="64"/>
                  </a:lnTo>
                  <a:lnTo>
                    <a:pt x="1732" y="57"/>
                  </a:lnTo>
                  <a:lnTo>
                    <a:pt x="1724" y="51"/>
                  </a:lnTo>
                  <a:lnTo>
                    <a:pt x="1716" y="45"/>
                  </a:lnTo>
                  <a:lnTo>
                    <a:pt x="1708" y="39"/>
                  </a:lnTo>
                  <a:lnTo>
                    <a:pt x="1699" y="33"/>
                  </a:lnTo>
                  <a:lnTo>
                    <a:pt x="1691" y="29"/>
                  </a:lnTo>
                  <a:lnTo>
                    <a:pt x="1682" y="23"/>
                  </a:lnTo>
                  <a:lnTo>
                    <a:pt x="1672" y="20"/>
                  </a:lnTo>
                  <a:lnTo>
                    <a:pt x="1653" y="12"/>
                  </a:lnTo>
                  <a:lnTo>
                    <a:pt x="1643" y="10"/>
                  </a:lnTo>
                  <a:lnTo>
                    <a:pt x="1632" y="6"/>
                  </a:lnTo>
                  <a:lnTo>
                    <a:pt x="1621" y="4"/>
                  </a:lnTo>
                  <a:lnTo>
                    <a:pt x="1610" y="3"/>
                  </a:lnTo>
                  <a:lnTo>
                    <a:pt x="1598" y="2"/>
                  </a:lnTo>
                  <a:lnTo>
                    <a:pt x="1587" y="1"/>
                  </a:lnTo>
                  <a:lnTo>
                    <a:pt x="1563" y="0"/>
                  </a:lnTo>
                  <a:lnTo>
                    <a:pt x="1318" y="0"/>
                  </a:lnTo>
                  <a:lnTo>
                    <a:pt x="1318" y="729"/>
                  </a:lnTo>
                  <a:lnTo>
                    <a:pt x="1426" y="729"/>
                  </a:lnTo>
                  <a:lnTo>
                    <a:pt x="1426" y="406"/>
                  </a:lnTo>
                  <a:lnTo>
                    <a:pt x="1508" y="406"/>
                  </a:lnTo>
                  <a:lnTo>
                    <a:pt x="1515" y="407"/>
                  </a:lnTo>
                  <a:lnTo>
                    <a:pt x="1521" y="407"/>
                  </a:lnTo>
                  <a:lnTo>
                    <a:pt x="1528" y="409"/>
                  </a:lnTo>
                  <a:lnTo>
                    <a:pt x="1535" y="411"/>
                  </a:lnTo>
                  <a:lnTo>
                    <a:pt x="1542" y="415"/>
                  </a:lnTo>
                  <a:lnTo>
                    <a:pt x="1549" y="418"/>
                  </a:lnTo>
                  <a:lnTo>
                    <a:pt x="1554" y="423"/>
                  </a:lnTo>
                  <a:lnTo>
                    <a:pt x="1561" y="427"/>
                  </a:lnTo>
                  <a:lnTo>
                    <a:pt x="1567" y="433"/>
                  </a:lnTo>
                  <a:lnTo>
                    <a:pt x="1573" y="440"/>
                  </a:lnTo>
                  <a:lnTo>
                    <a:pt x="1579" y="446"/>
                  </a:lnTo>
                  <a:lnTo>
                    <a:pt x="1581" y="450"/>
                  </a:lnTo>
                  <a:lnTo>
                    <a:pt x="1585" y="453"/>
                  </a:lnTo>
                  <a:lnTo>
                    <a:pt x="1590" y="462"/>
                  </a:lnTo>
                  <a:lnTo>
                    <a:pt x="1596" y="470"/>
                  </a:lnTo>
                  <a:lnTo>
                    <a:pt x="1606" y="490"/>
                  </a:lnTo>
                  <a:lnTo>
                    <a:pt x="1645" y="568"/>
                  </a:lnTo>
                  <a:lnTo>
                    <a:pt x="1682" y="645"/>
                  </a:lnTo>
                  <a:lnTo>
                    <a:pt x="1689" y="656"/>
                  </a:lnTo>
                  <a:lnTo>
                    <a:pt x="1697" y="665"/>
                  </a:lnTo>
                  <a:lnTo>
                    <a:pt x="1705" y="674"/>
                  </a:lnTo>
                  <a:lnTo>
                    <a:pt x="1713" y="681"/>
                  </a:lnTo>
                  <a:lnTo>
                    <a:pt x="1721" y="689"/>
                  </a:lnTo>
                  <a:lnTo>
                    <a:pt x="1729" y="696"/>
                  </a:lnTo>
                  <a:lnTo>
                    <a:pt x="1738" y="702"/>
                  </a:lnTo>
                  <a:lnTo>
                    <a:pt x="1747" y="707"/>
                  </a:lnTo>
                  <a:lnTo>
                    <a:pt x="1756" y="713"/>
                  </a:lnTo>
                  <a:lnTo>
                    <a:pt x="1765" y="717"/>
                  </a:lnTo>
                  <a:lnTo>
                    <a:pt x="1775" y="721"/>
                  </a:lnTo>
                  <a:lnTo>
                    <a:pt x="1784" y="723"/>
                  </a:lnTo>
                  <a:lnTo>
                    <a:pt x="1795" y="725"/>
                  </a:lnTo>
                  <a:lnTo>
                    <a:pt x="1806" y="728"/>
                  </a:lnTo>
                  <a:lnTo>
                    <a:pt x="1816" y="729"/>
                  </a:lnTo>
                  <a:lnTo>
                    <a:pt x="1827" y="729"/>
                  </a:lnTo>
                  <a:lnTo>
                    <a:pt x="1849" y="729"/>
                  </a:lnTo>
                  <a:close/>
                  <a:moveTo>
                    <a:pt x="1677" y="190"/>
                  </a:moveTo>
                  <a:lnTo>
                    <a:pt x="1675" y="201"/>
                  </a:lnTo>
                  <a:lnTo>
                    <a:pt x="1674" y="213"/>
                  </a:lnTo>
                  <a:lnTo>
                    <a:pt x="1672" y="219"/>
                  </a:lnTo>
                  <a:lnTo>
                    <a:pt x="1671" y="225"/>
                  </a:lnTo>
                  <a:lnTo>
                    <a:pt x="1666" y="236"/>
                  </a:lnTo>
                  <a:lnTo>
                    <a:pt x="1661" y="246"/>
                  </a:lnTo>
                  <a:lnTo>
                    <a:pt x="1654" y="257"/>
                  </a:lnTo>
                  <a:lnTo>
                    <a:pt x="1646" y="266"/>
                  </a:lnTo>
                  <a:lnTo>
                    <a:pt x="1641" y="272"/>
                  </a:lnTo>
                  <a:lnTo>
                    <a:pt x="1637" y="276"/>
                  </a:lnTo>
                  <a:lnTo>
                    <a:pt x="1628" y="285"/>
                  </a:lnTo>
                  <a:lnTo>
                    <a:pt x="1618" y="292"/>
                  </a:lnTo>
                  <a:lnTo>
                    <a:pt x="1606" y="299"/>
                  </a:lnTo>
                  <a:lnTo>
                    <a:pt x="1595" y="305"/>
                  </a:lnTo>
                  <a:lnTo>
                    <a:pt x="1589" y="307"/>
                  </a:lnTo>
                  <a:lnTo>
                    <a:pt x="1584" y="309"/>
                  </a:lnTo>
                  <a:lnTo>
                    <a:pt x="1578" y="310"/>
                  </a:lnTo>
                  <a:lnTo>
                    <a:pt x="1571" y="311"/>
                  </a:lnTo>
                  <a:lnTo>
                    <a:pt x="1559" y="314"/>
                  </a:lnTo>
                  <a:lnTo>
                    <a:pt x="1545" y="314"/>
                  </a:lnTo>
                  <a:lnTo>
                    <a:pt x="1426" y="314"/>
                  </a:lnTo>
                  <a:lnTo>
                    <a:pt x="1426" y="91"/>
                  </a:lnTo>
                  <a:lnTo>
                    <a:pt x="1545" y="91"/>
                  </a:lnTo>
                  <a:lnTo>
                    <a:pt x="1559" y="91"/>
                  </a:lnTo>
                  <a:lnTo>
                    <a:pt x="1570" y="92"/>
                  </a:lnTo>
                  <a:lnTo>
                    <a:pt x="1583" y="94"/>
                  </a:lnTo>
                  <a:lnTo>
                    <a:pt x="1594" y="98"/>
                  </a:lnTo>
                  <a:lnTo>
                    <a:pt x="1605" y="101"/>
                  </a:lnTo>
                  <a:lnTo>
                    <a:pt x="1615" y="105"/>
                  </a:lnTo>
                  <a:lnTo>
                    <a:pt x="1626" y="110"/>
                  </a:lnTo>
                  <a:lnTo>
                    <a:pt x="1635" y="116"/>
                  </a:lnTo>
                  <a:lnTo>
                    <a:pt x="1645" y="123"/>
                  </a:lnTo>
                  <a:lnTo>
                    <a:pt x="1649" y="127"/>
                  </a:lnTo>
                  <a:lnTo>
                    <a:pt x="1653" y="131"/>
                  </a:lnTo>
                  <a:lnTo>
                    <a:pt x="1660" y="139"/>
                  </a:lnTo>
                  <a:lnTo>
                    <a:pt x="1663" y="144"/>
                  </a:lnTo>
                  <a:lnTo>
                    <a:pt x="1666" y="148"/>
                  </a:lnTo>
                  <a:lnTo>
                    <a:pt x="1671" y="157"/>
                  </a:lnTo>
                  <a:lnTo>
                    <a:pt x="1672" y="163"/>
                  </a:lnTo>
                  <a:lnTo>
                    <a:pt x="1673" y="167"/>
                  </a:lnTo>
                  <a:lnTo>
                    <a:pt x="1675" y="179"/>
                  </a:lnTo>
                  <a:lnTo>
                    <a:pt x="1677" y="184"/>
                  </a:lnTo>
                  <a:lnTo>
                    <a:pt x="1677" y="190"/>
                  </a:lnTo>
                  <a:close/>
                  <a:moveTo>
                    <a:pt x="2586" y="0"/>
                  </a:moveTo>
                  <a:lnTo>
                    <a:pt x="2470" y="0"/>
                  </a:lnTo>
                  <a:lnTo>
                    <a:pt x="2246" y="620"/>
                  </a:lnTo>
                  <a:lnTo>
                    <a:pt x="2020" y="0"/>
                  </a:lnTo>
                  <a:lnTo>
                    <a:pt x="1902" y="0"/>
                  </a:lnTo>
                  <a:lnTo>
                    <a:pt x="2173" y="729"/>
                  </a:lnTo>
                  <a:lnTo>
                    <a:pt x="2317" y="729"/>
                  </a:lnTo>
                  <a:lnTo>
                    <a:pt x="2586" y="0"/>
                  </a:lnTo>
                  <a:close/>
                  <a:moveTo>
                    <a:pt x="3148" y="91"/>
                  </a:moveTo>
                  <a:lnTo>
                    <a:pt x="3148" y="0"/>
                  </a:lnTo>
                  <a:lnTo>
                    <a:pt x="2734" y="0"/>
                  </a:lnTo>
                  <a:lnTo>
                    <a:pt x="2734" y="729"/>
                  </a:lnTo>
                  <a:lnTo>
                    <a:pt x="3146" y="729"/>
                  </a:lnTo>
                  <a:lnTo>
                    <a:pt x="3146" y="635"/>
                  </a:lnTo>
                  <a:lnTo>
                    <a:pt x="2841" y="635"/>
                  </a:lnTo>
                  <a:lnTo>
                    <a:pt x="2841" y="396"/>
                  </a:lnTo>
                  <a:lnTo>
                    <a:pt x="3121" y="396"/>
                  </a:lnTo>
                  <a:lnTo>
                    <a:pt x="3121" y="302"/>
                  </a:lnTo>
                  <a:lnTo>
                    <a:pt x="2841" y="302"/>
                  </a:lnTo>
                  <a:lnTo>
                    <a:pt x="2841" y="91"/>
                  </a:lnTo>
                  <a:lnTo>
                    <a:pt x="3148" y="91"/>
                  </a:lnTo>
                  <a:close/>
                  <a:moveTo>
                    <a:pt x="3935" y="0"/>
                  </a:moveTo>
                  <a:lnTo>
                    <a:pt x="3812" y="0"/>
                  </a:lnTo>
                  <a:lnTo>
                    <a:pt x="3592" y="327"/>
                  </a:lnTo>
                  <a:lnTo>
                    <a:pt x="3372" y="0"/>
                  </a:lnTo>
                  <a:lnTo>
                    <a:pt x="3249" y="0"/>
                  </a:lnTo>
                  <a:lnTo>
                    <a:pt x="3538" y="428"/>
                  </a:lnTo>
                  <a:lnTo>
                    <a:pt x="3538" y="729"/>
                  </a:lnTo>
                  <a:lnTo>
                    <a:pt x="3646" y="729"/>
                  </a:lnTo>
                  <a:lnTo>
                    <a:pt x="3646" y="428"/>
                  </a:lnTo>
                  <a:lnTo>
                    <a:pt x="3935" y="0"/>
                  </a:lnTo>
                  <a:close/>
                  <a:moveTo>
                    <a:pt x="4659" y="368"/>
                  </a:moveTo>
                  <a:lnTo>
                    <a:pt x="4659" y="348"/>
                  </a:lnTo>
                  <a:lnTo>
                    <a:pt x="4658" y="330"/>
                  </a:lnTo>
                  <a:lnTo>
                    <a:pt x="4656" y="311"/>
                  </a:lnTo>
                  <a:lnTo>
                    <a:pt x="4653" y="294"/>
                  </a:lnTo>
                  <a:lnTo>
                    <a:pt x="4650" y="276"/>
                  </a:lnTo>
                  <a:lnTo>
                    <a:pt x="4646" y="260"/>
                  </a:lnTo>
                  <a:lnTo>
                    <a:pt x="4641" y="243"/>
                  </a:lnTo>
                  <a:lnTo>
                    <a:pt x="4635" y="227"/>
                  </a:lnTo>
                  <a:lnTo>
                    <a:pt x="4629" y="211"/>
                  </a:lnTo>
                  <a:lnTo>
                    <a:pt x="4622" y="195"/>
                  </a:lnTo>
                  <a:lnTo>
                    <a:pt x="4614" y="180"/>
                  </a:lnTo>
                  <a:lnTo>
                    <a:pt x="4606" y="165"/>
                  </a:lnTo>
                  <a:lnTo>
                    <a:pt x="4596" y="150"/>
                  </a:lnTo>
                  <a:lnTo>
                    <a:pt x="4591" y="144"/>
                  </a:lnTo>
                  <a:lnTo>
                    <a:pt x="4585" y="137"/>
                  </a:lnTo>
                  <a:lnTo>
                    <a:pt x="4575" y="123"/>
                  </a:lnTo>
                  <a:lnTo>
                    <a:pt x="4563" y="110"/>
                  </a:lnTo>
                  <a:lnTo>
                    <a:pt x="4550" y="96"/>
                  </a:lnTo>
                  <a:lnTo>
                    <a:pt x="4538" y="84"/>
                  </a:lnTo>
                  <a:lnTo>
                    <a:pt x="4524" y="73"/>
                  </a:lnTo>
                  <a:lnTo>
                    <a:pt x="4510" y="62"/>
                  </a:lnTo>
                  <a:lnTo>
                    <a:pt x="4495" y="51"/>
                  </a:lnTo>
                  <a:lnTo>
                    <a:pt x="4480" y="42"/>
                  </a:lnTo>
                  <a:lnTo>
                    <a:pt x="4465" y="35"/>
                  </a:lnTo>
                  <a:lnTo>
                    <a:pt x="4449" y="27"/>
                  </a:lnTo>
                  <a:lnTo>
                    <a:pt x="4432" y="21"/>
                  </a:lnTo>
                  <a:lnTo>
                    <a:pt x="4417" y="15"/>
                  </a:lnTo>
                  <a:lnTo>
                    <a:pt x="4400" y="11"/>
                  </a:lnTo>
                  <a:lnTo>
                    <a:pt x="4381" y="6"/>
                  </a:lnTo>
                  <a:lnTo>
                    <a:pt x="4363" y="3"/>
                  </a:lnTo>
                  <a:lnTo>
                    <a:pt x="4345" y="2"/>
                  </a:lnTo>
                  <a:lnTo>
                    <a:pt x="4326" y="0"/>
                  </a:lnTo>
                  <a:lnTo>
                    <a:pt x="4307" y="0"/>
                  </a:lnTo>
                  <a:lnTo>
                    <a:pt x="4047" y="0"/>
                  </a:lnTo>
                  <a:lnTo>
                    <a:pt x="4047" y="729"/>
                  </a:lnTo>
                  <a:lnTo>
                    <a:pt x="4307" y="729"/>
                  </a:lnTo>
                  <a:lnTo>
                    <a:pt x="4326" y="729"/>
                  </a:lnTo>
                  <a:lnTo>
                    <a:pt x="4345" y="728"/>
                  </a:lnTo>
                  <a:lnTo>
                    <a:pt x="4363" y="725"/>
                  </a:lnTo>
                  <a:lnTo>
                    <a:pt x="4381" y="722"/>
                  </a:lnTo>
                  <a:lnTo>
                    <a:pt x="4400" y="719"/>
                  </a:lnTo>
                  <a:lnTo>
                    <a:pt x="4417" y="714"/>
                  </a:lnTo>
                  <a:lnTo>
                    <a:pt x="4432" y="708"/>
                  </a:lnTo>
                  <a:lnTo>
                    <a:pt x="4449" y="702"/>
                  </a:lnTo>
                  <a:lnTo>
                    <a:pt x="4465" y="695"/>
                  </a:lnTo>
                  <a:lnTo>
                    <a:pt x="4480" y="687"/>
                  </a:lnTo>
                  <a:lnTo>
                    <a:pt x="4495" y="678"/>
                  </a:lnTo>
                  <a:lnTo>
                    <a:pt x="4510" y="669"/>
                  </a:lnTo>
                  <a:lnTo>
                    <a:pt x="4524" y="658"/>
                  </a:lnTo>
                  <a:lnTo>
                    <a:pt x="4538" y="647"/>
                  </a:lnTo>
                  <a:lnTo>
                    <a:pt x="4550" y="635"/>
                  </a:lnTo>
                  <a:lnTo>
                    <a:pt x="4563" y="622"/>
                  </a:lnTo>
                  <a:lnTo>
                    <a:pt x="4575" y="609"/>
                  </a:lnTo>
                  <a:lnTo>
                    <a:pt x="4585" y="596"/>
                  </a:lnTo>
                  <a:lnTo>
                    <a:pt x="4596" y="581"/>
                  </a:lnTo>
                  <a:lnTo>
                    <a:pt x="4606" y="568"/>
                  </a:lnTo>
                  <a:lnTo>
                    <a:pt x="4609" y="560"/>
                  </a:lnTo>
                  <a:lnTo>
                    <a:pt x="4614" y="553"/>
                  </a:lnTo>
                  <a:lnTo>
                    <a:pt x="4622" y="539"/>
                  </a:lnTo>
                  <a:lnTo>
                    <a:pt x="4629" y="523"/>
                  </a:lnTo>
                  <a:lnTo>
                    <a:pt x="4635" y="507"/>
                  </a:lnTo>
                  <a:lnTo>
                    <a:pt x="4641" y="491"/>
                  </a:lnTo>
                  <a:lnTo>
                    <a:pt x="4646" y="474"/>
                  </a:lnTo>
                  <a:lnTo>
                    <a:pt x="4650" y="458"/>
                  </a:lnTo>
                  <a:lnTo>
                    <a:pt x="4653" y="441"/>
                  </a:lnTo>
                  <a:lnTo>
                    <a:pt x="4656" y="423"/>
                  </a:lnTo>
                  <a:lnTo>
                    <a:pt x="4658" y="405"/>
                  </a:lnTo>
                  <a:lnTo>
                    <a:pt x="4659" y="387"/>
                  </a:lnTo>
                  <a:lnTo>
                    <a:pt x="4659" y="368"/>
                  </a:lnTo>
                  <a:close/>
                  <a:moveTo>
                    <a:pt x="4553" y="368"/>
                  </a:moveTo>
                  <a:lnTo>
                    <a:pt x="4553" y="381"/>
                  </a:lnTo>
                  <a:lnTo>
                    <a:pt x="4551" y="395"/>
                  </a:lnTo>
                  <a:lnTo>
                    <a:pt x="4550" y="408"/>
                  </a:lnTo>
                  <a:lnTo>
                    <a:pt x="4548" y="420"/>
                  </a:lnTo>
                  <a:lnTo>
                    <a:pt x="4546" y="434"/>
                  </a:lnTo>
                  <a:lnTo>
                    <a:pt x="4544" y="446"/>
                  </a:lnTo>
                  <a:lnTo>
                    <a:pt x="4539" y="459"/>
                  </a:lnTo>
                  <a:lnTo>
                    <a:pt x="4536" y="470"/>
                  </a:lnTo>
                  <a:lnTo>
                    <a:pt x="4531" y="482"/>
                  </a:lnTo>
                  <a:lnTo>
                    <a:pt x="4527" y="494"/>
                  </a:lnTo>
                  <a:lnTo>
                    <a:pt x="4521" y="505"/>
                  </a:lnTo>
                  <a:lnTo>
                    <a:pt x="4514" y="515"/>
                  </a:lnTo>
                  <a:lnTo>
                    <a:pt x="4507" y="526"/>
                  </a:lnTo>
                  <a:lnTo>
                    <a:pt x="4500" y="536"/>
                  </a:lnTo>
                  <a:lnTo>
                    <a:pt x="4494" y="546"/>
                  </a:lnTo>
                  <a:lnTo>
                    <a:pt x="4485" y="555"/>
                  </a:lnTo>
                  <a:lnTo>
                    <a:pt x="4477" y="566"/>
                  </a:lnTo>
                  <a:lnTo>
                    <a:pt x="4468" y="575"/>
                  </a:lnTo>
                  <a:lnTo>
                    <a:pt x="4457" y="584"/>
                  </a:lnTo>
                  <a:lnTo>
                    <a:pt x="4448" y="591"/>
                  </a:lnTo>
                  <a:lnTo>
                    <a:pt x="4438" y="598"/>
                  </a:lnTo>
                  <a:lnTo>
                    <a:pt x="4428" y="605"/>
                  </a:lnTo>
                  <a:lnTo>
                    <a:pt x="4417" y="611"/>
                  </a:lnTo>
                  <a:lnTo>
                    <a:pt x="4406" y="616"/>
                  </a:lnTo>
                  <a:lnTo>
                    <a:pt x="4395" y="621"/>
                  </a:lnTo>
                  <a:lnTo>
                    <a:pt x="4383" y="624"/>
                  </a:lnTo>
                  <a:lnTo>
                    <a:pt x="4371" y="627"/>
                  </a:lnTo>
                  <a:lnTo>
                    <a:pt x="4359" y="631"/>
                  </a:lnTo>
                  <a:lnTo>
                    <a:pt x="4346" y="633"/>
                  </a:lnTo>
                  <a:lnTo>
                    <a:pt x="4334" y="634"/>
                  </a:lnTo>
                  <a:lnTo>
                    <a:pt x="4320" y="635"/>
                  </a:lnTo>
                  <a:lnTo>
                    <a:pt x="4307" y="635"/>
                  </a:lnTo>
                  <a:lnTo>
                    <a:pt x="4156" y="635"/>
                  </a:lnTo>
                  <a:lnTo>
                    <a:pt x="4156" y="93"/>
                  </a:lnTo>
                  <a:lnTo>
                    <a:pt x="4307" y="93"/>
                  </a:lnTo>
                  <a:lnTo>
                    <a:pt x="4320" y="93"/>
                  </a:lnTo>
                  <a:lnTo>
                    <a:pt x="4334" y="94"/>
                  </a:lnTo>
                  <a:lnTo>
                    <a:pt x="4346" y="95"/>
                  </a:lnTo>
                  <a:lnTo>
                    <a:pt x="4359" y="98"/>
                  </a:lnTo>
                  <a:lnTo>
                    <a:pt x="4371" y="101"/>
                  </a:lnTo>
                  <a:lnTo>
                    <a:pt x="4383" y="104"/>
                  </a:lnTo>
                  <a:lnTo>
                    <a:pt x="4395" y="109"/>
                  </a:lnTo>
                  <a:lnTo>
                    <a:pt x="4406" y="113"/>
                  </a:lnTo>
                  <a:lnTo>
                    <a:pt x="4417" y="119"/>
                  </a:lnTo>
                  <a:lnTo>
                    <a:pt x="4428" y="126"/>
                  </a:lnTo>
                  <a:lnTo>
                    <a:pt x="4438" y="132"/>
                  </a:lnTo>
                  <a:lnTo>
                    <a:pt x="4443" y="136"/>
                  </a:lnTo>
                  <a:lnTo>
                    <a:pt x="4448" y="140"/>
                  </a:lnTo>
                  <a:lnTo>
                    <a:pt x="4457" y="148"/>
                  </a:lnTo>
                  <a:lnTo>
                    <a:pt x="4468" y="157"/>
                  </a:lnTo>
                  <a:lnTo>
                    <a:pt x="4477" y="166"/>
                  </a:lnTo>
                  <a:lnTo>
                    <a:pt x="4485" y="176"/>
                  </a:lnTo>
                  <a:lnTo>
                    <a:pt x="4494" y="186"/>
                  </a:lnTo>
                  <a:lnTo>
                    <a:pt x="4500" y="197"/>
                  </a:lnTo>
                  <a:lnTo>
                    <a:pt x="4507" y="208"/>
                  </a:lnTo>
                  <a:lnTo>
                    <a:pt x="4514" y="218"/>
                  </a:lnTo>
                  <a:lnTo>
                    <a:pt x="4521" y="229"/>
                  </a:lnTo>
                  <a:lnTo>
                    <a:pt x="4527" y="240"/>
                  </a:lnTo>
                  <a:lnTo>
                    <a:pt x="4531" y="252"/>
                  </a:lnTo>
                  <a:lnTo>
                    <a:pt x="4536" y="264"/>
                  </a:lnTo>
                  <a:lnTo>
                    <a:pt x="4539" y="275"/>
                  </a:lnTo>
                  <a:lnTo>
                    <a:pt x="4544" y="288"/>
                  </a:lnTo>
                  <a:lnTo>
                    <a:pt x="4546" y="301"/>
                  </a:lnTo>
                  <a:lnTo>
                    <a:pt x="4548" y="314"/>
                  </a:lnTo>
                  <a:lnTo>
                    <a:pt x="4550" y="327"/>
                  </a:lnTo>
                  <a:lnTo>
                    <a:pt x="4551" y="339"/>
                  </a:lnTo>
                  <a:lnTo>
                    <a:pt x="4553" y="354"/>
                  </a:lnTo>
                  <a:lnTo>
                    <a:pt x="4553" y="368"/>
                  </a:lnTo>
                  <a:close/>
                  <a:moveTo>
                    <a:pt x="5238" y="91"/>
                  </a:moveTo>
                  <a:lnTo>
                    <a:pt x="5238" y="0"/>
                  </a:lnTo>
                  <a:lnTo>
                    <a:pt x="4825" y="0"/>
                  </a:lnTo>
                  <a:lnTo>
                    <a:pt x="4825" y="729"/>
                  </a:lnTo>
                  <a:lnTo>
                    <a:pt x="5236" y="729"/>
                  </a:lnTo>
                  <a:lnTo>
                    <a:pt x="5236" y="635"/>
                  </a:lnTo>
                  <a:lnTo>
                    <a:pt x="4931" y="635"/>
                  </a:lnTo>
                  <a:lnTo>
                    <a:pt x="4931" y="396"/>
                  </a:lnTo>
                  <a:lnTo>
                    <a:pt x="5211" y="396"/>
                  </a:lnTo>
                  <a:lnTo>
                    <a:pt x="5211" y="302"/>
                  </a:lnTo>
                  <a:lnTo>
                    <a:pt x="4931" y="302"/>
                  </a:lnTo>
                  <a:lnTo>
                    <a:pt x="4931" y="91"/>
                  </a:lnTo>
                  <a:lnTo>
                    <a:pt x="5238" y="91"/>
                  </a:lnTo>
                  <a:close/>
                  <a:moveTo>
                    <a:pt x="6015" y="729"/>
                  </a:moveTo>
                  <a:lnTo>
                    <a:pt x="6015" y="0"/>
                  </a:lnTo>
                  <a:lnTo>
                    <a:pt x="5907" y="0"/>
                  </a:lnTo>
                  <a:lnTo>
                    <a:pt x="5907" y="584"/>
                  </a:lnTo>
                  <a:lnTo>
                    <a:pt x="5903" y="584"/>
                  </a:lnTo>
                  <a:lnTo>
                    <a:pt x="5583" y="0"/>
                  </a:lnTo>
                  <a:lnTo>
                    <a:pt x="5444" y="0"/>
                  </a:lnTo>
                  <a:lnTo>
                    <a:pt x="5444" y="729"/>
                  </a:lnTo>
                  <a:lnTo>
                    <a:pt x="5551" y="729"/>
                  </a:lnTo>
                  <a:lnTo>
                    <a:pt x="5551" y="144"/>
                  </a:lnTo>
                  <a:lnTo>
                    <a:pt x="5555" y="144"/>
                  </a:lnTo>
                  <a:lnTo>
                    <a:pt x="5876" y="729"/>
                  </a:lnTo>
                  <a:lnTo>
                    <a:pt x="6015" y="729"/>
                  </a:lnTo>
                  <a:close/>
                  <a:moveTo>
                    <a:pt x="6765" y="527"/>
                  </a:moveTo>
                  <a:lnTo>
                    <a:pt x="6765" y="0"/>
                  </a:lnTo>
                  <a:lnTo>
                    <a:pt x="6658" y="0"/>
                  </a:lnTo>
                  <a:lnTo>
                    <a:pt x="6658" y="527"/>
                  </a:lnTo>
                  <a:lnTo>
                    <a:pt x="6658" y="541"/>
                  </a:lnTo>
                  <a:lnTo>
                    <a:pt x="6655" y="554"/>
                  </a:lnTo>
                  <a:lnTo>
                    <a:pt x="6654" y="560"/>
                  </a:lnTo>
                  <a:lnTo>
                    <a:pt x="6653" y="566"/>
                  </a:lnTo>
                  <a:lnTo>
                    <a:pt x="6652" y="571"/>
                  </a:lnTo>
                  <a:lnTo>
                    <a:pt x="6650" y="577"/>
                  </a:lnTo>
                  <a:lnTo>
                    <a:pt x="6645" y="588"/>
                  </a:lnTo>
                  <a:lnTo>
                    <a:pt x="6640" y="598"/>
                  </a:lnTo>
                  <a:lnTo>
                    <a:pt x="6634" y="607"/>
                  </a:lnTo>
                  <a:lnTo>
                    <a:pt x="6626" y="615"/>
                  </a:lnTo>
                  <a:lnTo>
                    <a:pt x="6618" y="623"/>
                  </a:lnTo>
                  <a:lnTo>
                    <a:pt x="6609" y="630"/>
                  </a:lnTo>
                  <a:lnTo>
                    <a:pt x="6604" y="632"/>
                  </a:lnTo>
                  <a:lnTo>
                    <a:pt x="6600" y="635"/>
                  </a:lnTo>
                  <a:lnTo>
                    <a:pt x="6590" y="640"/>
                  </a:lnTo>
                  <a:lnTo>
                    <a:pt x="6578" y="643"/>
                  </a:lnTo>
                  <a:lnTo>
                    <a:pt x="6566" y="645"/>
                  </a:lnTo>
                  <a:lnTo>
                    <a:pt x="6553" y="648"/>
                  </a:lnTo>
                  <a:lnTo>
                    <a:pt x="6540" y="649"/>
                  </a:lnTo>
                  <a:lnTo>
                    <a:pt x="6517" y="649"/>
                  </a:lnTo>
                  <a:lnTo>
                    <a:pt x="6507" y="649"/>
                  </a:lnTo>
                  <a:lnTo>
                    <a:pt x="6498" y="648"/>
                  </a:lnTo>
                  <a:lnTo>
                    <a:pt x="6489" y="645"/>
                  </a:lnTo>
                  <a:lnTo>
                    <a:pt x="6482" y="643"/>
                  </a:lnTo>
                  <a:lnTo>
                    <a:pt x="6475" y="641"/>
                  </a:lnTo>
                  <a:lnTo>
                    <a:pt x="6468" y="638"/>
                  </a:lnTo>
                  <a:lnTo>
                    <a:pt x="6468" y="722"/>
                  </a:lnTo>
                  <a:lnTo>
                    <a:pt x="6477" y="728"/>
                  </a:lnTo>
                  <a:lnTo>
                    <a:pt x="6487" y="731"/>
                  </a:lnTo>
                  <a:lnTo>
                    <a:pt x="6498" y="734"/>
                  </a:lnTo>
                  <a:lnTo>
                    <a:pt x="6509" y="738"/>
                  </a:lnTo>
                  <a:lnTo>
                    <a:pt x="6523" y="740"/>
                  </a:lnTo>
                  <a:lnTo>
                    <a:pt x="6536" y="741"/>
                  </a:lnTo>
                  <a:lnTo>
                    <a:pt x="6551" y="742"/>
                  </a:lnTo>
                  <a:lnTo>
                    <a:pt x="6567" y="742"/>
                  </a:lnTo>
                  <a:lnTo>
                    <a:pt x="6578" y="742"/>
                  </a:lnTo>
                  <a:lnTo>
                    <a:pt x="6590" y="741"/>
                  </a:lnTo>
                  <a:lnTo>
                    <a:pt x="6600" y="740"/>
                  </a:lnTo>
                  <a:lnTo>
                    <a:pt x="6610" y="738"/>
                  </a:lnTo>
                  <a:lnTo>
                    <a:pt x="6630" y="733"/>
                  </a:lnTo>
                  <a:lnTo>
                    <a:pt x="6641" y="730"/>
                  </a:lnTo>
                  <a:lnTo>
                    <a:pt x="6650" y="726"/>
                  </a:lnTo>
                  <a:lnTo>
                    <a:pt x="6659" y="722"/>
                  </a:lnTo>
                  <a:lnTo>
                    <a:pt x="6667" y="717"/>
                  </a:lnTo>
                  <a:lnTo>
                    <a:pt x="6676" y="713"/>
                  </a:lnTo>
                  <a:lnTo>
                    <a:pt x="6684" y="707"/>
                  </a:lnTo>
                  <a:lnTo>
                    <a:pt x="6692" y="702"/>
                  </a:lnTo>
                  <a:lnTo>
                    <a:pt x="6700" y="695"/>
                  </a:lnTo>
                  <a:lnTo>
                    <a:pt x="6706" y="688"/>
                  </a:lnTo>
                  <a:lnTo>
                    <a:pt x="6713" y="680"/>
                  </a:lnTo>
                  <a:lnTo>
                    <a:pt x="6720" y="674"/>
                  </a:lnTo>
                  <a:lnTo>
                    <a:pt x="6726" y="666"/>
                  </a:lnTo>
                  <a:lnTo>
                    <a:pt x="6731" y="658"/>
                  </a:lnTo>
                  <a:lnTo>
                    <a:pt x="6737" y="649"/>
                  </a:lnTo>
                  <a:lnTo>
                    <a:pt x="6742" y="641"/>
                  </a:lnTo>
                  <a:lnTo>
                    <a:pt x="6745" y="632"/>
                  </a:lnTo>
                  <a:lnTo>
                    <a:pt x="6753" y="613"/>
                  </a:lnTo>
                  <a:lnTo>
                    <a:pt x="6755" y="604"/>
                  </a:lnTo>
                  <a:lnTo>
                    <a:pt x="6759" y="594"/>
                  </a:lnTo>
                  <a:lnTo>
                    <a:pt x="6761" y="584"/>
                  </a:lnTo>
                  <a:lnTo>
                    <a:pt x="6762" y="572"/>
                  </a:lnTo>
                  <a:lnTo>
                    <a:pt x="6763" y="562"/>
                  </a:lnTo>
                  <a:lnTo>
                    <a:pt x="6764" y="551"/>
                  </a:lnTo>
                  <a:lnTo>
                    <a:pt x="6765" y="540"/>
                  </a:lnTo>
                  <a:lnTo>
                    <a:pt x="6765" y="527"/>
                  </a:lnTo>
                  <a:close/>
                  <a:moveTo>
                    <a:pt x="7628" y="729"/>
                  </a:moveTo>
                  <a:lnTo>
                    <a:pt x="7307" y="0"/>
                  </a:lnTo>
                  <a:lnTo>
                    <a:pt x="7205" y="0"/>
                  </a:lnTo>
                  <a:lnTo>
                    <a:pt x="6884" y="729"/>
                  </a:lnTo>
                  <a:lnTo>
                    <a:pt x="7000" y="729"/>
                  </a:lnTo>
                  <a:lnTo>
                    <a:pt x="7076" y="542"/>
                  </a:lnTo>
                  <a:lnTo>
                    <a:pt x="7436" y="542"/>
                  </a:lnTo>
                  <a:lnTo>
                    <a:pt x="7512" y="729"/>
                  </a:lnTo>
                  <a:lnTo>
                    <a:pt x="7628" y="729"/>
                  </a:lnTo>
                  <a:close/>
                  <a:moveTo>
                    <a:pt x="7402" y="459"/>
                  </a:moveTo>
                  <a:lnTo>
                    <a:pt x="7111" y="459"/>
                  </a:lnTo>
                  <a:lnTo>
                    <a:pt x="7256" y="100"/>
                  </a:lnTo>
                  <a:lnTo>
                    <a:pt x="7402" y="459"/>
                  </a:lnTo>
                  <a:close/>
                </a:path>
              </a:pathLst>
            </a:custGeom>
            <a:solidFill>
              <a:srgbClr val="807f8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49" name="Picture 16" descr="SHORT_THL_LOGO_RGB_large.jpg"/>
          <p:cNvPicPr/>
          <p:nvPr/>
        </p:nvPicPr>
        <p:blipFill>
          <a:blip r:embed="rId2"/>
          <a:stretch/>
        </p:blipFill>
        <p:spPr>
          <a:xfrm>
            <a:off x="3124080" y="4038480"/>
            <a:ext cx="2603520" cy="1063800"/>
          </a:xfrm>
          <a:prstGeom prst="rect">
            <a:avLst/>
          </a:prstGeom>
          <a:ln w="0">
            <a:noFill/>
          </a:ln>
        </p:spPr>
      </p:pic>
      <p:sp>
        <p:nvSpPr>
          <p:cNvPr id="50" name="Rectangle 2"/>
          <p:cNvSpPr/>
          <p:nvPr/>
        </p:nvSpPr>
        <p:spPr>
          <a:xfrm>
            <a:off x="0" y="0"/>
            <a:ext cx="9144000" cy="3809880"/>
          </a:xfrm>
          <a:prstGeom prst="rect">
            <a:avLst/>
          </a:prstGeom>
          <a:solidFill>
            <a:srgbClr val="7bc14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bc143"/>
                </a:solidFill>
                <a:latin typeface="Arial"/>
              </a:rPr>
              <a:t>Click to edit the title text format</a:t>
            </a:r>
            <a:endParaRPr b="1" lang="en-US" sz="2800" spc="-1" strike="noStrike">
              <a:solidFill>
                <a:srgbClr val="7bc143"/>
              </a:solidFill>
              <a:latin typeface="Arial"/>
            </a:endParaRPr>
          </a:p>
        </p:txBody>
      </p:sp>
      <p:sp>
        <p:nvSpPr>
          <p:cNvPr id="52" name="PlaceHolder 2"/>
          <p:cNvSpPr>
            <a:spLocks noGrp="1"/>
          </p:cNvSpPr>
          <p:nvPr>
            <p:ph type="body"/>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625320" indent="-264960">
              <a:lnSpc>
                <a:spcPct val="9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00000" indent="-27468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165320" indent="-265320">
              <a:lnSpc>
                <a:spcPct val="9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430280" indent="-264960">
              <a:lnSpc>
                <a:spcPct val="9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430280" indent="-264960">
              <a:lnSpc>
                <a:spcPct val="9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430280" indent="-264960">
              <a:lnSpc>
                <a:spcPct val="9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53" name="PlaceHolder 3"/>
          <p:cNvSpPr>
            <a:spLocks noGrp="1"/>
          </p:cNvSpPr>
          <p:nvPr>
            <p:ph type="dt" idx="3"/>
          </p:nvPr>
        </p:nvSpPr>
        <p:spPr>
          <a:xfrm>
            <a:off x="456840" y="6589800"/>
            <a:ext cx="1090440" cy="2239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4FFEB-8EF3-4192-A8B4-5D6F3834B56A}" type="datetime">
              <a:rPr b="0" lang="fi-FI" sz="1000" spc="-1" strike="noStrike">
                <a:solidFill>
                  <a:srgbClr val="ffffff"/>
                </a:solidFill>
                <a:latin typeface="Times New Roman"/>
              </a:rPr>
              <a:t>29.07.26</a:t>
            </a:fld>
            <a:endParaRPr b="0" lang="en-US" sz="1000" spc="-1" strike="noStrike">
              <a:solidFill>
                <a:srgbClr val="000000"/>
              </a:solidFill>
              <a:latin typeface="Times New Roman"/>
            </a:endParaRPr>
          </a:p>
        </p:txBody>
      </p:sp>
      <p:sp>
        <p:nvSpPr>
          <p:cNvPr id="54" name="PlaceHolder 4"/>
          <p:cNvSpPr>
            <a:spLocks noGrp="1"/>
          </p:cNvSpPr>
          <p:nvPr>
            <p:ph type="ftr" idx="4"/>
          </p:nvPr>
        </p:nvSpPr>
        <p:spPr>
          <a:xfrm>
            <a:off x="1258560" y="6553080"/>
            <a:ext cx="6769080" cy="2606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ffffff"/>
                </a:solidFill>
                <a:latin typeface="Times New Roman"/>
              </a:rPr>
              <a:t>http://fi.opasnet.org/fi/Tiedosto:Ilmastopolitiikka_rakennukset_ja_terveys.ppt</a:t>
            </a:r>
            <a:endParaRPr b="0" lang="en-US" sz="1400" spc="-1" strike="noStrike">
              <a:solidFill>
                <a:srgbClr val="000000"/>
              </a:solidFill>
              <a:latin typeface="Times New Roman"/>
            </a:endParaRPr>
          </a:p>
        </p:txBody>
      </p:sp>
      <p:sp>
        <p:nvSpPr>
          <p:cNvPr id="55" name="PlaceHolder 5"/>
          <p:cNvSpPr>
            <a:spLocks noGrp="1"/>
          </p:cNvSpPr>
          <p:nvPr>
            <p:ph type="sldNum" idx="5"/>
          </p:nvPr>
        </p:nvSpPr>
        <p:spPr>
          <a:xfrm>
            <a:off x="7596360" y="6597720"/>
            <a:ext cx="107928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36993-69E6-4593-8A10-7BAF9CD3D58A}" type="slidenum">
              <a:rPr b="0" lang="fi-FI"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Rectangle 11"/>
          <p:cNvSpPr/>
          <p:nvPr/>
        </p:nvSpPr>
        <p:spPr>
          <a:xfrm>
            <a:off x="0" y="6561000"/>
            <a:ext cx="9144000" cy="297000"/>
          </a:xfrm>
          <a:prstGeom prst="rect">
            <a:avLst/>
          </a:prstGeom>
          <a:solidFill>
            <a:srgbClr val="7bc14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3" name="Group 29"/>
          <p:cNvGrpSpPr/>
          <p:nvPr/>
        </p:nvGrpSpPr>
        <p:grpSpPr>
          <a:xfrm>
            <a:off x="5867280" y="6324480"/>
            <a:ext cx="2773440" cy="104760"/>
            <a:chOff x="5867280" y="6324480"/>
            <a:chExt cx="2773440" cy="104760"/>
          </a:xfrm>
        </p:grpSpPr>
        <p:sp>
          <p:nvSpPr>
            <p:cNvPr id="94" name="Freeform 27"/>
            <p:cNvSpPr/>
            <p:nvPr/>
          </p:nvSpPr>
          <p:spPr>
            <a:xfrm>
              <a:off x="6978600" y="6324480"/>
              <a:ext cx="1662120" cy="104760"/>
            </a:xfrm>
            <a:custGeom>
              <a:avLst/>
              <a:gdLst>
                <a:gd name="textAreaLeft" fmla="*/ 0 w 1662120"/>
                <a:gd name="textAreaRight" fmla="*/ 1662480 w 1662120"/>
                <a:gd name="textAreaTop" fmla="*/ 0 h 104760"/>
                <a:gd name="textAreaBottom" fmla="*/ 105120 h 104760"/>
              </a:gdLst>
              <a:ahLst/>
              <a:rect l="textAreaLeft" t="textAreaTop" r="textAreaRight" b="textAreaBottom"/>
              <a:pathLst>
                <a:path w="11514" h="728">
                  <a:moveTo>
                    <a:pt x="545" y="715"/>
                  </a:moveTo>
                  <a:lnTo>
                    <a:pt x="545" y="15"/>
                  </a:lnTo>
                  <a:lnTo>
                    <a:pt x="441" y="15"/>
                  </a:lnTo>
                  <a:lnTo>
                    <a:pt x="441" y="301"/>
                  </a:lnTo>
                  <a:lnTo>
                    <a:pt x="102" y="301"/>
                  </a:lnTo>
                  <a:lnTo>
                    <a:pt x="102" y="15"/>
                  </a:lnTo>
                  <a:lnTo>
                    <a:pt x="0" y="15"/>
                  </a:lnTo>
                  <a:lnTo>
                    <a:pt x="0" y="715"/>
                  </a:lnTo>
                  <a:lnTo>
                    <a:pt x="102" y="715"/>
                  </a:lnTo>
                  <a:lnTo>
                    <a:pt x="102" y="391"/>
                  </a:lnTo>
                  <a:lnTo>
                    <a:pt x="441" y="391"/>
                  </a:lnTo>
                  <a:lnTo>
                    <a:pt x="441" y="715"/>
                  </a:lnTo>
                  <a:lnTo>
                    <a:pt x="545" y="715"/>
                  </a:lnTo>
                  <a:close/>
                  <a:moveTo>
                    <a:pt x="1316" y="15"/>
                  </a:moveTo>
                  <a:lnTo>
                    <a:pt x="1199" y="15"/>
                  </a:lnTo>
                  <a:lnTo>
                    <a:pt x="988" y="328"/>
                  </a:lnTo>
                  <a:lnTo>
                    <a:pt x="779" y="15"/>
                  </a:lnTo>
                  <a:lnTo>
                    <a:pt x="661" y="15"/>
                  </a:lnTo>
                  <a:lnTo>
                    <a:pt x="936" y="427"/>
                  </a:lnTo>
                  <a:lnTo>
                    <a:pt x="936" y="715"/>
                  </a:lnTo>
                  <a:lnTo>
                    <a:pt x="1039" y="715"/>
                  </a:lnTo>
                  <a:lnTo>
                    <a:pt x="1039" y="427"/>
                  </a:lnTo>
                  <a:lnTo>
                    <a:pt x="1316" y="15"/>
                  </a:lnTo>
                  <a:close/>
                  <a:moveTo>
                    <a:pt x="2035" y="15"/>
                  </a:moveTo>
                  <a:lnTo>
                    <a:pt x="1926" y="15"/>
                  </a:lnTo>
                  <a:lnTo>
                    <a:pt x="1710" y="610"/>
                  </a:lnTo>
                  <a:lnTo>
                    <a:pt x="1496" y="15"/>
                  </a:lnTo>
                  <a:lnTo>
                    <a:pt x="1384" y="15"/>
                  </a:lnTo>
                  <a:lnTo>
                    <a:pt x="1642" y="715"/>
                  </a:lnTo>
                  <a:lnTo>
                    <a:pt x="1780" y="715"/>
                  </a:lnTo>
                  <a:lnTo>
                    <a:pt x="2035" y="15"/>
                  </a:lnTo>
                  <a:close/>
                  <a:moveTo>
                    <a:pt x="2305" y="715"/>
                  </a:moveTo>
                  <a:lnTo>
                    <a:pt x="2305" y="15"/>
                  </a:lnTo>
                  <a:lnTo>
                    <a:pt x="2203" y="15"/>
                  </a:lnTo>
                  <a:lnTo>
                    <a:pt x="2203" y="715"/>
                  </a:lnTo>
                  <a:lnTo>
                    <a:pt x="2305" y="715"/>
                  </a:lnTo>
                  <a:close/>
                  <a:moveTo>
                    <a:pt x="3101" y="715"/>
                  </a:moveTo>
                  <a:lnTo>
                    <a:pt x="3101" y="15"/>
                  </a:lnTo>
                  <a:lnTo>
                    <a:pt x="2998" y="15"/>
                  </a:lnTo>
                  <a:lnTo>
                    <a:pt x="2998" y="575"/>
                  </a:lnTo>
                  <a:lnTo>
                    <a:pt x="2993" y="575"/>
                  </a:lnTo>
                  <a:lnTo>
                    <a:pt x="2689" y="15"/>
                  </a:lnTo>
                  <a:lnTo>
                    <a:pt x="2556" y="15"/>
                  </a:lnTo>
                  <a:lnTo>
                    <a:pt x="2556" y="715"/>
                  </a:lnTo>
                  <a:lnTo>
                    <a:pt x="2658" y="715"/>
                  </a:lnTo>
                  <a:lnTo>
                    <a:pt x="2658" y="153"/>
                  </a:lnTo>
                  <a:lnTo>
                    <a:pt x="2662" y="153"/>
                  </a:lnTo>
                  <a:lnTo>
                    <a:pt x="2968" y="715"/>
                  </a:lnTo>
                  <a:lnTo>
                    <a:pt x="3101" y="715"/>
                  </a:lnTo>
                  <a:close/>
                  <a:moveTo>
                    <a:pt x="3886" y="15"/>
                  </a:moveTo>
                  <a:lnTo>
                    <a:pt x="3776" y="15"/>
                  </a:lnTo>
                  <a:lnTo>
                    <a:pt x="3562" y="610"/>
                  </a:lnTo>
                  <a:lnTo>
                    <a:pt x="3348" y="15"/>
                  </a:lnTo>
                  <a:lnTo>
                    <a:pt x="3235" y="15"/>
                  </a:lnTo>
                  <a:lnTo>
                    <a:pt x="3494" y="715"/>
                  </a:lnTo>
                  <a:lnTo>
                    <a:pt x="3630" y="715"/>
                  </a:lnTo>
                  <a:lnTo>
                    <a:pt x="3886" y="15"/>
                  </a:lnTo>
                  <a:close/>
                  <a:moveTo>
                    <a:pt x="4643" y="365"/>
                  </a:moveTo>
                  <a:lnTo>
                    <a:pt x="4642" y="326"/>
                  </a:lnTo>
                  <a:lnTo>
                    <a:pt x="4638" y="290"/>
                  </a:lnTo>
                  <a:lnTo>
                    <a:pt x="4631" y="255"/>
                  </a:lnTo>
                  <a:lnTo>
                    <a:pt x="4621" y="222"/>
                  </a:lnTo>
                  <a:lnTo>
                    <a:pt x="4609" y="191"/>
                  </a:lnTo>
                  <a:lnTo>
                    <a:pt x="4594" y="161"/>
                  </a:lnTo>
                  <a:lnTo>
                    <a:pt x="4577" y="134"/>
                  </a:lnTo>
                  <a:lnTo>
                    <a:pt x="4558" y="108"/>
                  </a:lnTo>
                  <a:lnTo>
                    <a:pt x="4534" y="83"/>
                  </a:lnTo>
                  <a:lnTo>
                    <a:pt x="4507" y="61"/>
                  </a:lnTo>
                  <a:lnTo>
                    <a:pt x="4479" y="43"/>
                  </a:lnTo>
                  <a:lnTo>
                    <a:pt x="4448" y="28"/>
                  </a:lnTo>
                  <a:lnTo>
                    <a:pt x="4416" y="17"/>
                  </a:lnTo>
                  <a:lnTo>
                    <a:pt x="4382" y="8"/>
                  </a:lnTo>
                  <a:lnTo>
                    <a:pt x="4346" y="3"/>
                  </a:lnTo>
                  <a:lnTo>
                    <a:pt x="4307" y="2"/>
                  </a:lnTo>
                  <a:lnTo>
                    <a:pt x="4268" y="3"/>
                  </a:lnTo>
                  <a:lnTo>
                    <a:pt x="4231" y="8"/>
                  </a:lnTo>
                  <a:lnTo>
                    <a:pt x="4197" y="17"/>
                  </a:lnTo>
                  <a:lnTo>
                    <a:pt x="4164" y="28"/>
                  </a:lnTo>
                  <a:lnTo>
                    <a:pt x="4134" y="43"/>
                  </a:lnTo>
                  <a:lnTo>
                    <a:pt x="4106" y="61"/>
                  </a:lnTo>
                  <a:lnTo>
                    <a:pt x="4080" y="83"/>
                  </a:lnTo>
                  <a:lnTo>
                    <a:pt x="4056" y="108"/>
                  </a:lnTo>
                  <a:lnTo>
                    <a:pt x="4037" y="133"/>
                  </a:lnTo>
                  <a:lnTo>
                    <a:pt x="4019" y="161"/>
                  </a:lnTo>
                  <a:lnTo>
                    <a:pt x="4004" y="190"/>
                  </a:lnTo>
                  <a:lnTo>
                    <a:pt x="3992" y="221"/>
                  </a:lnTo>
                  <a:lnTo>
                    <a:pt x="3984" y="255"/>
                  </a:lnTo>
                  <a:lnTo>
                    <a:pt x="3977" y="289"/>
                  </a:lnTo>
                  <a:lnTo>
                    <a:pt x="3973" y="326"/>
                  </a:lnTo>
                  <a:lnTo>
                    <a:pt x="3972" y="365"/>
                  </a:lnTo>
                  <a:lnTo>
                    <a:pt x="3973" y="404"/>
                  </a:lnTo>
                  <a:lnTo>
                    <a:pt x="3977" y="441"/>
                  </a:lnTo>
                  <a:lnTo>
                    <a:pt x="3984" y="475"/>
                  </a:lnTo>
                  <a:lnTo>
                    <a:pt x="3993" y="509"/>
                  </a:lnTo>
                  <a:lnTo>
                    <a:pt x="4005" y="539"/>
                  </a:lnTo>
                  <a:lnTo>
                    <a:pt x="4019" y="568"/>
                  </a:lnTo>
                  <a:lnTo>
                    <a:pt x="4037" y="596"/>
                  </a:lnTo>
                  <a:lnTo>
                    <a:pt x="4056" y="621"/>
                  </a:lnTo>
                  <a:lnTo>
                    <a:pt x="4080" y="647"/>
                  </a:lnTo>
                  <a:lnTo>
                    <a:pt x="4106" y="669"/>
                  </a:lnTo>
                  <a:lnTo>
                    <a:pt x="4134" y="687"/>
                  </a:lnTo>
                  <a:lnTo>
                    <a:pt x="4164" y="701"/>
                  </a:lnTo>
                  <a:lnTo>
                    <a:pt x="4197" y="713"/>
                  </a:lnTo>
                  <a:lnTo>
                    <a:pt x="4231" y="722"/>
                  </a:lnTo>
                  <a:lnTo>
                    <a:pt x="4268" y="726"/>
                  </a:lnTo>
                  <a:lnTo>
                    <a:pt x="4307" y="728"/>
                  </a:lnTo>
                  <a:lnTo>
                    <a:pt x="4346" y="726"/>
                  </a:lnTo>
                  <a:lnTo>
                    <a:pt x="4382" y="722"/>
                  </a:lnTo>
                  <a:lnTo>
                    <a:pt x="4416" y="713"/>
                  </a:lnTo>
                  <a:lnTo>
                    <a:pt x="4448" y="701"/>
                  </a:lnTo>
                  <a:lnTo>
                    <a:pt x="4479" y="687"/>
                  </a:lnTo>
                  <a:lnTo>
                    <a:pt x="4507" y="669"/>
                  </a:lnTo>
                  <a:lnTo>
                    <a:pt x="4534" y="647"/>
                  </a:lnTo>
                  <a:lnTo>
                    <a:pt x="4558" y="621"/>
                  </a:lnTo>
                  <a:lnTo>
                    <a:pt x="4577" y="595"/>
                  </a:lnTo>
                  <a:lnTo>
                    <a:pt x="4594" y="568"/>
                  </a:lnTo>
                  <a:lnTo>
                    <a:pt x="4609" y="539"/>
                  </a:lnTo>
                  <a:lnTo>
                    <a:pt x="4621" y="508"/>
                  </a:lnTo>
                  <a:lnTo>
                    <a:pt x="4631" y="475"/>
                  </a:lnTo>
                  <a:lnTo>
                    <a:pt x="4638" y="441"/>
                  </a:lnTo>
                  <a:lnTo>
                    <a:pt x="4642" y="404"/>
                  </a:lnTo>
                  <a:lnTo>
                    <a:pt x="4643" y="365"/>
                  </a:lnTo>
                  <a:close/>
                  <a:moveTo>
                    <a:pt x="4537" y="365"/>
                  </a:moveTo>
                  <a:lnTo>
                    <a:pt x="4536" y="394"/>
                  </a:lnTo>
                  <a:lnTo>
                    <a:pt x="4534" y="422"/>
                  </a:lnTo>
                  <a:lnTo>
                    <a:pt x="4528" y="448"/>
                  </a:lnTo>
                  <a:lnTo>
                    <a:pt x="4522" y="473"/>
                  </a:lnTo>
                  <a:lnTo>
                    <a:pt x="4514" y="497"/>
                  </a:lnTo>
                  <a:lnTo>
                    <a:pt x="4504" y="519"/>
                  </a:lnTo>
                  <a:lnTo>
                    <a:pt x="4492" y="540"/>
                  </a:lnTo>
                  <a:lnTo>
                    <a:pt x="4477" y="561"/>
                  </a:lnTo>
                  <a:lnTo>
                    <a:pt x="4460" y="579"/>
                  </a:lnTo>
                  <a:lnTo>
                    <a:pt x="4443" y="594"/>
                  </a:lnTo>
                  <a:lnTo>
                    <a:pt x="4424" y="608"/>
                  </a:lnTo>
                  <a:lnTo>
                    <a:pt x="4403" y="619"/>
                  </a:lnTo>
                  <a:lnTo>
                    <a:pt x="4381" y="628"/>
                  </a:lnTo>
                  <a:lnTo>
                    <a:pt x="4358" y="634"/>
                  </a:lnTo>
                  <a:lnTo>
                    <a:pt x="4333" y="637"/>
                  </a:lnTo>
                  <a:lnTo>
                    <a:pt x="4307" y="638"/>
                  </a:lnTo>
                  <a:lnTo>
                    <a:pt x="4281" y="637"/>
                  </a:lnTo>
                  <a:lnTo>
                    <a:pt x="4256" y="634"/>
                  </a:lnTo>
                  <a:lnTo>
                    <a:pt x="4232" y="628"/>
                  </a:lnTo>
                  <a:lnTo>
                    <a:pt x="4211" y="619"/>
                  </a:lnTo>
                  <a:lnTo>
                    <a:pt x="4190" y="608"/>
                  </a:lnTo>
                  <a:lnTo>
                    <a:pt x="4171" y="594"/>
                  </a:lnTo>
                  <a:lnTo>
                    <a:pt x="4153" y="579"/>
                  </a:lnTo>
                  <a:lnTo>
                    <a:pt x="4137" y="561"/>
                  </a:lnTo>
                  <a:lnTo>
                    <a:pt x="4122" y="540"/>
                  </a:lnTo>
                  <a:lnTo>
                    <a:pt x="4110" y="519"/>
                  </a:lnTo>
                  <a:lnTo>
                    <a:pt x="4099" y="497"/>
                  </a:lnTo>
                  <a:lnTo>
                    <a:pt x="4091" y="473"/>
                  </a:lnTo>
                  <a:lnTo>
                    <a:pt x="4084" y="448"/>
                  </a:lnTo>
                  <a:lnTo>
                    <a:pt x="4079" y="422"/>
                  </a:lnTo>
                  <a:lnTo>
                    <a:pt x="4077" y="394"/>
                  </a:lnTo>
                  <a:lnTo>
                    <a:pt x="4076" y="365"/>
                  </a:lnTo>
                  <a:lnTo>
                    <a:pt x="4077" y="336"/>
                  </a:lnTo>
                  <a:lnTo>
                    <a:pt x="4079" y="309"/>
                  </a:lnTo>
                  <a:lnTo>
                    <a:pt x="4084" y="282"/>
                  </a:lnTo>
                  <a:lnTo>
                    <a:pt x="4091" y="257"/>
                  </a:lnTo>
                  <a:lnTo>
                    <a:pt x="4099" y="233"/>
                  </a:lnTo>
                  <a:lnTo>
                    <a:pt x="4110" y="212"/>
                  </a:lnTo>
                  <a:lnTo>
                    <a:pt x="4122" y="190"/>
                  </a:lnTo>
                  <a:lnTo>
                    <a:pt x="4137" y="171"/>
                  </a:lnTo>
                  <a:lnTo>
                    <a:pt x="4153" y="152"/>
                  </a:lnTo>
                  <a:lnTo>
                    <a:pt x="4172" y="136"/>
                  </a:lnTo>
                  <a:lnTo>
                    <a:pt x="4190" y="122"/>
                  </a:lnTo>
                  <a:lnTo>
                    <a:pt x="4211" y="111"/>
                  </a:lnTo>
                  <a:lnTo>
                    <a:pt x="4233" y="102"/>
                  </a:lnTo>
                  <a:lnTo>
                    <a:pt x="4256" y="96"/>
                  </a:lnTo>
                  <a:lnTo>
                    <a:pt x="4281" y="93"/>
                  </a:lnTo>
                  <a:lnTo>
                    <a:pt x="4307" y="92"/>
                  </a:lnTo>
                  <a:lnTo>
                    <a:pt x="4333" y="93"/>
                  </a:lnTo>
                  <a:lnTo>
                    <a:pt x="4358" y="96"/>
                  </a:lnTo>
                  <a:lnTo>
                    <a:pt x="4380" y="102"/>
                  </a:lnTo>
                  <a:lnTo>
                    <a:pt x="4402" y="111"/>
                  </a:lnTo>
                  <a:lnTo>
                    <a:pt x="4422" y="122"/>
                  </a:lnTo>
                  <a:lnTo>
                    <a:pt x="4442" y="136"/>
                  </a:lnTo>
                  <a:lnTo>
                    <a:pt x="4460" y="152"/>
                  </a:lnTo>
                  <a:lnTo>
                    <a:pt x="4477" y="171"/>
                  </a:lnTo>
                  <a:lnTo>
                    <a:pt x="4492" y="190"/>
                  </a:lnTo>
                  <a:lnTo>
                    <a:pt x="4504" y="212"/>
                  </a:lnTo>
                  <a:lnTo>
                    <a:pt x="4514" y="233"/>
                  </a:lnTo>
                  <a:lnTo>
                    <a:pt x="4522" y="257"/>
                  </a:lnTo>
                  <a:lnTo>
                    <a:pt x="4528" y="282"/>
                  </a:lnTo>
                  <a:lnTo>
                    <a:pt x="4534" y="309"/>
                  </a:lnTo>
                  <a:lnTo>
                    <a:pt x="4536" y="336"/>
                  </a:lnTo>
                  <a:lnTo>
                    <a:pt x="4537" y="365"/>
                  </a:lnTo>
                  <a:close/>
                  <a:moveTo>
                    <a:pt x="4939" y="715"/>
                  </a:moveTo>
                  <a:lnTo>
                    <a:pt x="4939" y="15"/>
                  </a:lnTo>
                  <a:lnTo>
                    <a:pt x="4838" y="15"/>
                  </a:lnTo>
                  <a:lnTo>
                    <a:pt x="4838" y="715"/>
                  </a:lnTo>
                  <a:lnTo>
                    <a:pt x="4939" y="715"/>
                  </a:lnTo>
                  <a:close/>
                  <a:moveTo>
                    <a:pt x="5734" y="715"/>
                  </a:moveTo>
                  <a:lnTo>
                    <a:pt x="5734" y="15"/>
                  </a:lnTo>
                  <a:lnTo>
                    <a:pt x="5631" y="15"/>
                  </a:lnTo>
                  <a:lnTo>
                    <a:pt x="5631" y="575"/>
                  </a:lnTo>
                  <a:lnTo>
                    <a:pt x="5627" y="575"/>
                  </a:lnTo>
                  <a:lnTo>
                    <a:pt x="5322" y="15"/>
                  </a:lnTo>
                  <a:lnTo>
                    <a:pt x="5189" y="15"/>
                  </a:lnTo>
                  <a:lnTo>
                    <a:pt x="5189" y="715"/>
                  </a:lnTo>
                  <a:lnTo>
                    <a:pt x="5292" y="715"/>
                  </a:lnTo>
                  <a:lnTo>
                    <a:pt x="5292" y="153"/>
                  </a:lnTo>
                  <a:lnTo>
                    <a:pt x="5295" y="153"/>
                  </a:lnTo>
                  <a:lnTo>
                    <a:pt x="5601" y="715"/>
                  </a:lnTo>
                  <a:lnTo>
                    <a:pt x="5734" y="715"/>
                  </a:lnTo>
                  <a:close/>
                  <a:moveTo>
                    <a:pt x="6496" y="715"/>
                  </a:moveTo>
                  <a:lnTo>
                    <a:pt x="6496" y="15"/>
                  </a:lnTo>
                  <a:lnTo>
                    <a:pt x="6393" y="15"/>
                  </a:lnTo>
                  <a:lnTo>
                    <a:pt x="6393" y="575"/>
                  </a:lnTo>
                  <a:lnTo>
                    <a:pt x="6390" y="575"/>
                  </a:lnTo>
                  <a:lnTo>
                    <a:pt x="6085" y="15"/>
                  </a:lnTo>
                  <a:lnTo>
                    <a:pt x="5952" y="15"/>
                  </a:lnTo>
                  <a:lnTo>
                    <a:pt x="5952" y="715"/>
                  </a:lnTo>
                  <a:lnTo>
                    <a:pt x="6055" y="715"/>
                  </a:lnTo>
                  <a:lnTo>
                    <a:pt x="6055" y="153"/>
                  </a:lnTo>
                  <a:lnTo>
                    <a:pt x="6057" y="153"/>
                  </a:lnTo>
                  <a:lnTo>
                    <a:pt x="6363" y="715"/>
                  </a:lnTo>
                  <a:lnTo>
                    <a:pt x="6496" y="715"/>
                  </a:lnTo>
                  <a:close/>
                  <a:moveTo>
                    <a:pt x="6829" y="715"/>
                  </a:moveTo>
                  <a:lnTo>
                    <a:pt x="6829" y="15"/>
                  </a:lnTo>
                  <a:lnTo>
                    <a:pt x="6727" y="15"/>
                  </a:lnTo>
                  <a:lnTo>
                    <a:pt x="6727" y="715"/>
                  </a:lnTo>
                  <a:lnTo>
                    <a:pt x="6829" y="715"/>
                  </a:lnTo>
                  <a:close/>
                  <a:moveTo>
                    <a:pt x="7590" y="715"/>
                  </a:moveTo>
                  <a:lnTo>
                    <a:pt x="7590" y="15"/>
                  </a:lnTo>
                  <a:lnTo>
                    <a:pt x="7487" y="15"/>
                  </a:lnTo>
                  <a:lnTo>
                    <a:pt x="7487" y="575"/>
                  </a:lnTo>
                  <a:lnTo>
                    <a:pt x="7483" y="575"/>
                  </a:lnTo>
                  <a:lnTo>
                    <a:pt x="7178" y="15"/>
                  </a:lnTo>
                  <a:lnTo>
                    <a:pt x="7045" y="15"/>
                  </a:lnTo>
                  <a:lnTo>
                    <a:pt x="7045" y="715"/>
                  </a:lnTo>
                  <a:lnTo>
                    <a:pt x="7148" y="715"/>
                  </a:lnTo>
                  <a:lnTo>
                    <a:pt x="7148" y="153"/>
                  </a:lnTo>
                  <a:lnTo>
                    <a:pt x="7151" y="153"/>
                  </a:lnTo>
                  <a:lnTo>
                    <a:pt x="7457" y="715"/>
                  </a:lnTo>
                  <a:lnTo>
                    <a:pt x="7590" y="715"/>
                  </a:lnTo>
                  <a:close/>
                  <a:moveTo>
                    <a:pt x="8516" y="715"/>
                  </a:moveTo>
                  <a:lnTo>
                    <a:pt x="8516" y="625"/>
                  </a:lnTo>
                  <a:lnTo>
                    <a:pt x="8228" y="625"/>
                  </a:lnTo>
                  <a:lnTo>
                    <a:pt x="8228" y="15"/>
                  </a:lnTo>
                  <a:lnTo>
                    <a:pt x="8127" y="15"/>
                  </a:lnTo>
                  <a:lnTo>
                    <a:pt x="8127" y="715"/>
                  </a:lnTo>
                  <a:lnTo>
                    <a:pt x="8516" y="715"/>
                  </a:lnTo>
                  <a:close/>
                  <a:moveTo>
                    <a:pt x="9326" y="715"/>
                  </a:moveTo>
                  <a:lnTo>
                    <a:pt x="9020" y="15"/>
                  </a:lnTo>
                  <a:lnTo>
                    <a:pt x="8922" y="15"/>
                  </a:lnTo>
                  <a:lnTo>
                    <a:pt x="8617" y="715"/>
                  </a:lnTo>
                  <a:lnTo>
                    <a:pt x="8727" y="715"/>
                  </a:lnTo>
                  <a:lnTo>
                    <a:pt x="8799" y="536"/>
                  </a:lnTo>
                  <a:lnTo>
                    <a:pt x="9142" y="536"/>
                  </a:lnTo>
                  <a:lnTo>
                    <a:pt x="9216" y="715"/>
                  </a:lnTo>
                  <a:lnTo>
                    <a:pt x="9326" y="715"/>
                  </a:lnTo>
                  <a:close/>
                  <a:moveTo>
                    <a:pt x="9110" y="456"/>
                  </a:moveTo>
                  <a:lnTo>
                    <a:pt x="8833" y="456"/>
                  </a:lnTo>
                  <a:lnTo>
                    <a:pt x="8971" y="111"/>
                  </a:lnTo>
                  <a:lnTo>
                    <a:pt x="9110" y="456"/>
                  </a:lnTo>
                  <a:close/>
                  <a:moveTo>
                    <a:pt x="9559" y="715"/>
                  </a:moveTo>
                  <a:lnTo>
                    <a:pt x="9559" y="15"/>
                  </a:lnTo>
                  <a:lnTo>
                    <a:pt x="9457" y="15"/>
                  </a:lnTo>
                  <a:lnTo>
                    <a:pt x="9457" y="715"/>
                  </a:lnTo>
                  <a:lnTo>
                    <a:pt x="9559" y="715"/>
                  </a:lnTo>
                  <a:close/>
                  <a:moveTo>
                    <a:pt x="10228" y="102"/>
                  </a:moveTo>
                  <a:lnTo>
                    <a:pt x="10228" y="15"/>
                  </a:lnTo>
                  <a:lnTo>
                    <a:pt x="9699" y="15"/>
                  </a:lnTo>
                  <a:lnTo>
                    <a:pt x="9699" y="102"/>
                  </a:lnTo>
                  <a:lnTo>
                    <a:pt x="9913" y="102"/>
                  </a:lnTo>
                  <a:lnTo>
                    <a:pt x="9913" y="715"/>
                  </a:lnTo>
                  <a:lnTo>
                    <a:pt x="10015" y="715"/>
                  </a:lnTo>
                  <a:lnTo>
                    <a:pt x="10015" y="102"/>
                  </a:lnTo>
                  <a:lnTo>
                    <a:pt x="10228" y="102"/>
                  </a:lnTo>
                  <a:close/>
                  <a:moveTo>
                    <a:pt x="10971" y="365"/>
                  </a:moveTo>
                  <a:lnTo>
                    <a:pt x="10970" y="326"/>
                  </a:lnTo>
                  <a:lnTo>
                    <a:pt x="10965" y="290"/>
                  </a:lnTo>
                  <a:lnTo>
                    <a:pt x="10959" y="255"/>
                  </a:lnTo>
                  <a:lnTo>
                    <a:pt x="10949" y="222"/>
                  </a:lnTo>
                  <a:lnTo>
                    <a:pt x="10937" y="191"/>
                  </a:lnTo>
                  <a:lnTo>
                    <a:pt x="10922" y="161"/>
                  </a:lnTo>
                  <a:lnTo>
                    <a:pt x="10906" y="134"/>
                  </a:lnTo>
                  <a:lnTo>
                    <a:pt x="10885" y="108"/>
                  </a:lnTo>
                  <a:lnTo>
                    <a:pt x="10862" y="83"/>
                  </a:lnTo>
                  <a:lnTo>
                    <a:pt x="10836" y="61"/>
                  </a:lnTo>
                  <a:lnTo>
                    <a:pt x="10808" y="43"/>
                  </a:lnTo>
                  <a:lnTo>
                    <a:pt x="10777" y="28"/>
                  </a:lnTo>
                  <a:lnTo>
                    <a:pt x="10745" y="17"/>
                  </a:lnTo>
                  <a:lnTo>
                    <a:pt x="10710" y="8"/>
                  </a:lnTo>
                  <a:lnTo>
                    <a:pt x="10674" y="3"/>
                  </a:lnTo>
                  <a:lnTo>
                    <a:pt x="10635" y="2"/>
                  </a:lnTo>
                  <a:lnTo>
                    <a:pt x="10596" y="3"/>
                  </a:lnTo>
                  <a:lnTo>
                    <a:pt x="10559" y="8"/>
                  </a:lnTo>
                  <a:lnTo>
                    <a:pt x="10524" y="17"/>
                  </a:lnTo>
                  <a:lnTo>
                    <a:pt x="10492" y="28"/>
                  </a:lnTo>
                  <a:lnTo>
                    <a:pt x="10462" y="43"/>
                  </a:lnTo>
                  <a:lnTo>
                    <a:pt x="10434" y="61"/>
                  </a:lnTo>
                  <a:lnTo>
                    <a:pt x="10408" y="83"/>
                  </a:lnTo>
                  <a:lnTo>
                    <a:pt x="10384" y="108"/>
                  </a:lnTo>
                  <a:lnTo>
                    <a:pt x="10364" y="133"/>
                  </a:lnTo>
                  <a:lnTo>
                    <a:pt x="10347" y="161"/>
                  </a:lnTo>
                  <a:lnTo>
                    <a:pt x="10332" y="190"/>
                  </a:lnTo>
                  <a:lnTo>
                    <a:pt x="10320" y="221"/>
                  </a:lnTo>
                  <a:lnTo>
                    <a:pt x="10311" y="255"/>
                  </a:lnTo>
                  <a:lnTo>
                    <a:pt x="10305" y="289"/>
                  </a:lnTo>
                  <a:lnTo>
                    <a:pt x="10301" y="326"/>
                  </a:lnTo>
                  <a:lnTo>
                    <a:pt x="10300" y="365"/>
                  </a:lnTo>
                  <a:lnTo>
                    <a:pt x="10301" y="404"/>
                  </a:lnTo>
                  <a:lnTo>
                    <a:pt x="10305" y="441"/>
                  </a:lnTo>
                  <a:lnTo>
                    <a:pt x="10311" y="475"/>
                  </a:lnTo>
                  <a:lnTo>
                    <a:pt x="10321" y="509"/>
                  </a:lnTo>
                  <a:lnTo>
                    <a:pt x="10333" y="539"/>
                  </a:lnTo>
                  <a:lnTo>
                    <a:pt x="10347" y="568"/>
                  </a:lnTo>
                  <a:lnTo>
                    <a:pt x="10364" y="596"/>
                  </a:lnTo>
                  <a:lnTo>
                    <a:pt x="10384" y="621"/>
                  </a:lnTo>
                  <a:lnTo>
                    <a:pt x="10408" y="647"/>
                  </a:lnTo>
                  <a:lnTo>
                    <a:pt x="10434" y="669"/>
                  </a:lnTo>
                  <a:lnTo>
                    <a:pt x="10462" y="687"/>
                  </a:lnTo>
                  <a:lnTo>
                    <a:pt x="10492" y="701"/>
                  </a:lnTo>
                  <a:lnTo>
                    <a:pt x="10524" y="713"/>
                  </a:lnTo>
                  <a:lnTo>
                    <a:pt x="10559" y="722"/>
                  </a:lnTo>
                  <a:lnTo>
                    <a:pt x="10596" y="726"/>
                  </a:lnTo>
                  <a:lnTo>
                    <a:pt x="10635" y="728"/>
                  </a:lnTo>
                  <a:lnTo>
                    <a:pt x="10674" y="726"/>
                  </a:lnTo>
                  <a:lnTo>
                    <a:pt x="10710" y="722"/>
                  </a:lnTo>
                  <a:lnTo>
                    <a:pt x="10745" y="713"/>
                  </a:lnTo>
                  <a:lnTo>
                    <a:pt x="10777" y="701"/>
                  </a:lnTo>
                  <a:lnTo>
                    <a:pt x="10808" y="687"/>
                  </a:lnTo>
                  <a:lnTo>
                    <a:pt x="10836" y="669"/>
                  </a:lnTo>
                  <a:lnTo>
                    <a:pt x="10862" y="647"/>
                  </a:lnTo>
                  <a:lnTo>
                    <a:pt x="10885" y="621"/>
                  </a:lnTo>
                  <a:lnTo>
                    <a:pt x="10906" y="595"/>
                  </a:lnTo>
                  <a:lnTo>
                    <a:pt x="10922" y="568"/>
                  </a:lnTo>
                  <a:lnTo>
                    <a:pt x="10937" y="539"/>
                  </a:lnTo>
                  <a:lnTo>
                    <a:pt x="10949" y="508"/>
                  </a:lnTo>
                  <a:lnTo>
                    <a:pt x="10959" y="475"/>
                  </a:lnTo>
                  <a:lnTo>
                    <a:pt x="10965" y="441"/>
                  </a:lnTo>
                  <a:lnTo>
                    <a:pt x="10970" y="404"/>
                  </a:lnTo>
                  <a:lnTo>
                    <a:pt x="10971" y="365"/>
                  </a:lnTo>
                  <a:close/>
                  <a:moveTo>
                    <a:pt x="10866" y="365"/>
                  </a:moveTo>
                  <a:lnTo>
                    <a:pt x="10865" y="394"/>
                  </a:lnTo>
                  <a:lnTo>
                    <a:pt x="10862" y="422"/>
                  </a:lnTo>
                  <a:lnTo>
                    <a:pt x="10857" y="448"/>
                  </a:lnTo>
                  <a:lnTo>
                    <a:pt x="10851" y="473"/>
                  </a:lnTo>
                  <a:lnTo>
                    <a:pt x="10842" y="497"/>
                  </a:lnTo>
                  <a:lnTo>
                    <a:pt x="10831" y="519"/>
                  </a:lnTo>
                  <a:lnTo>
                    <a:pt x="10819" y="540"/>
                  </a:lnTo>
                  <a:lnTo>
                    <a:pt x="10805" y="561"/>
                  </a:lnTo>
                  <a:lnTo>
                    <a:pt x="10788" y="579"/>
                  </a:lnTo>
                  <a:lnTo>
                    <a:pt x="10771" y="594"/>
                  </a:lnTo>
                  <a:lnTo>
                    <a:pt x="10751" y="608"/>
                  </a:lnTo>
                  <a:lnTo>
                    <a:pt x="10731" y="619"/>
                  </a:lnTo>
                  <a:lnTo>
                    <a:pt x="10709" y="628"/>
                  </a:lnTo>
                  <a:lnTo>
                    <a:pt x="10685" y="634"/>
                  </a:lnTo>
                  <a:lnTo>
                    <a:pt x="10661" y="637"/>
                  </a:lnTo>
                  <a:lnTo>
                    <a:pt x="10635" y="638"/>
                  </a:lnTo>
                  <a:lnTo>
                    <a:pt x="10609" y="637"/>
                  </a:lnTo>
                  <a:lnTo>
                    <a:pt x="10584" y="634"/>
                  </a:lnTo>
                  <a:lnTo>
                    <a:pt x="10561" y="628"/>
                  </a:lnTo>
                  <a:lnTo>
                    <a:pt x="10538" y="619"/>
                  </a:lnTo>
                  <a:lnTo>
                    <a:pt x="10518" y="608"/>
                  </a:lnTo>
                  <a:lnTo>
                    <a:pt x="10498" y="594"/>
                  </a:lnTo>
                  <a:lnTo>
                    <a:pt x="10481" y="579"/>
                  </a:lnTo>
                  <a:lnTo>
                    <a:pt x="10465" y="561"/>
                  </a:lnTo>
                  <a:lnTo>
                    <a:pt x="10451" y="540"/>
                  </a:lnTo>
                  <a:lnTo>
                    <a:pt x="10438" y="519"/>
                  </a:lnTo>
                  <a:lnTo>
                    <a:pt x="10427" y="497"/>
                  </a:lnTo>
                  <a:lnTo>
                    <a:pt x="10418" y="473"/>
                  </a:lnTo>
                  <a:lnTo>
                    <a:pt x="10412" y="448"/>
                  </a:lnTo>
                  <a:lnTo>
                    <a:pt x="10408" y="422"/>
                  </a:lnTo>
                  <a:lnTo>
                    <a:pt x="10404" y="394"/>
                  </a:lnTo>
                  <a:lnTo>
                    <a:pt x="10403" y="365"/>
                  </a:lnTo>
                  <a:lnTo>
                    <a:pt x="10404" y="336"/>
                  </a:lnTo>
                  <a:lnTo>
                    <a:pt x="10408" y="309"/>
                  </a:lnTo>
                  <a:lnTo>
                    <a:pt x="10412" y="282"/>
                  </a:lnTo>
                  <a:lnTo>
                    <a:pt x="10418" y="257"/>
                  </a:lnTo>
                  <a:lnTo>
                    <a:pt x="10427" y="233"/>
                  </a:lnTo>
                  <a:lnTo>
                    <a:pt x="10438" y="212"/>
                  </a:lnTo>
                  <a:lnTo>
                    <a:pt x="10451" y="190"/>
                  </a:lnTo>
                  <a:lnTo>
                    <a:pt x="10465" y="171"/>
                  </a:lnTo>
                  <a:lnTo>
                    <a:pt x="10481" y="152"/>
                  </a:lnTo>
                  <a:lnTo>
                    <a:pt x="10499" y="136"/>
                  </a:lnTo>
                  <a:lnTo>
                    <a:pt x="10518" y="122"/>
                  </a:lnTo>
                  <a:lnTo>
                    <a:pt x="10538" y="111"/>
                  </a:lnTo>
                  <a:lnTo>
                    <a:pt x="10561" y="102"/>
                  </a:lnTo>
                  <a:lnTo>
                    <a:pt x="10584" y="96"/>
                  </a:lnTo>
                  <a:lnTo>
                    <a:pt x="10609" y="93"/>
                  </a:lnTo>
                  <a:lnTo>
                    <a:pt x="10635" y="92"/>
                  </a:lnTo>
                  <a:lnTo>
                    <a:pt x="10661" y="93"/>
                  </a:lnTo>
                  <a:lnTo>
                    <a:pt x="10685" y="96"/>
                  </a:lnTo>
                  <a:lnTo>
                    <a:pt x="10708" y="102"/>
                  </a:lnTo>
                  <a:lnTo>
                    <a:pt x="10730" y="111"/>
                  </a:lnTo>
                  <a:lnTo>
                    <a:pt x="10750" y="122"/>
                  </a:lnTo>
                  <a:lnTo>
                    <a:pt x="10770" y="136"/>
                  </a:lnTo>
                  <a:lnTo>
                    <a:pt x="10788" y="152"/>
                  </a:lnTo>
                  <a:lnTo>
                    <a:pt x="10805" y="171"/>
                  </a:lnTo>
                  <a:lnTo>
                    <a:pt x="10819" y="190"/>
                  </a:lnTo>
                  <a:lnTo>
                    <a:pt x="10831" y="212"/>
                  </a:lnTo>
                  <a:lnTo>
                    <a:pt x="10842" y="233"/>
                  </a:lnTo>
                  <a:lnTo>
                    <a:pt x="10851" y="257"/>
                  </a:lnTo>
                  <a:lnTo>
                    <a:pt x="10857" y="282"/>
                  </a:lnTo>
                  <a:lnTo>
                    <a:pt x="10862" y="309"/>
                  </a:lnTo>
                  <a:lnTo>
                    <a:pt x="10865" y="336"/>
                  </a:lnTo>
                  <a:lnTo>
                    <a:pt x="10866" y="365"/>
                  </a:lnTo>
                  <a:close/>
                  <a:moveTo>
                    <a:pt x="11514" y="526"/>
                  </a:moveTo>
                  <a:lnTo>
                    <a:pt x="11513" y="501"/>
                  </a:lnTo>
                  <a:lnTo>
                    <a:pt x="11510" y="478"/>
                  </a:lnTo>
                  <a:lnTo>
                    <a:pt x="11504" y="456"/>
                  </a:lnTo>
                  <a:lnTo>
                    <a:pt x="11495" y="434"/>
                  </a:lnTo>
                  <a:lnTo>
                    <a:pt x="11484" y="415"/>
                  </a:lnTo>
                  <a:lnTo>
                    <a:pt x="11471" y="395"/>
                  </a:lnTo>
                  <a:lnTo>
                    <a:pt x="11455" y="377"/>
                  </a:lnTo>
                  <a:lnTo>
                    <a:pt x="11437" y="360"/>
                  </a:lnTo>
                  <a:lnTo>
                    <a:pt x="11417" y="347"/>
                  </a:lnTo>
                  <a:lnTo>
                    <a:pt x="11387" y="328"/>
                  </a:lnTo>
                  <a:lnTo>
                    <a:pt x="11291" y="274"/>
                  </a:lnTo>
                  <a:lnTo>
                    <a:pt x="11272" y="263"/>
                  </a:lnTo>
                  <a:lnTo>
                    <a:pt x="11256" y="253"/>
                  </a:lnTo>
                  <a:lnTo>
                    <a:pt x="11242" y="242"/>
                  </a:lnTo>
                  <a:lnTo>
                    <a:pt x="11231" y="231"/>
                  </a:lnTo>
                  <a:lnTo>
                    <a:pt x="11223" y="221"/>
                  </a:lnTo>
                  <a:lnTo>
                    <a:pt x="11216" y="211"/>
                  </a:lnTo>
                  <a:lnTo>
                    <a:pt x="11214" y="205"/>
                  </a:lnTo>
                  <a:lnTo>
                    <a:pt x="11212" y="200"/>
                  </a:lnTo>
                  <a:lnTo>
                    <a:pt x="11211" y="190"/>
                  </a:lnTo>
                  <a:lnTo>
                    <a:pt x="11213" y="171"/>
                  </a:lnTo>
                  <a:lnTo>
                    <a:pt x="11219" y="153"/>
                  </a:lnTo>
                  <a:lnTo>
                    <a:pt x="11230" y="136"/>
                  </a:lnTo>
                  <a:lnTo>
                    <a:pt x="11238" y="128"/>
                  </a:lnTo>
                  <a:lnTo>
                    <a:pt x="11245" y="121"/>
                  </a:lnTo>
                  <a:lnTo>
                    <a:pt x="11264" y="107"/>
                  </a:lnTo>
                  <a:lnTo>
                    <a:pt x="11273" y="101"/>
                  </a:lnTo>
                  <a:lnTo>
                    <a:pt x="11284" y="97"/>
                  </a:lnTo>
                  <a:lnTo>
                    <a:pt x="11307" y="92"/>
                  </a:lnTo>
                  <a:lnTo>
                    <a:pt x="11333" y="90"/>
                  </a:lnTo>
                  <a:lnTo>
                    <a:pt x="11356" y="92"/>
                  </a:lnTo>
                  <a:lnTo>
                    <a:pt x="11386" y="97"/>
                  </a:lnTo>
                  <a:lnTo>
                    <a:pt x="11471" y="122"/>
                  </a:lnTo>
                  <a:lnTo>
                    <a:pt x="11489" y="25"/>
                  </a:lnTo>
                  <a:lnTo>
                    <a:pt x="11450" y="14"/>
                  </a:lnTo>
                  <a:lnTo>
                    <a:pt x="11411" y="6"/>
                  </a:lnTo>
                  <a:lnTo>
                    <a:pt x="11372" y="1"/>
                  </a:lnTo>
                  <a:lnTo>
                    <a:pt x="11333" y="0"/>
                  </a:lnTo>
                  <a:lnTo>
                    <a:pt x="11311" y="1"/>
                  </a:lnTo>
                  <a:lnTo>
                    <a:pt x="11291" y="3"/>
                  </a:lnTo>
                  <a:lnTo>
                    <a:pt x="11270" y="6"/>
                  </a:lnTo>
                  <a:lnTo>
                    <a:pt x="11251" y="11"/>
                  </a:lnTo>
                  <a:lnTo>
                    <a:pt x="11214" y="26"/>
                  </a:lnTo>
                  <a:lnTo>
                    <a:pt x="11197" y="35"/>
                  </a:lnTo>
                  <a:lnTo>
                    <a:pt x="11179" y="46"/>
                  </a:lnTo>
                  <a:lnTo>
                    <a:pt x="11162" y="60"/>
                  </a:lnTo>
                  <a:lnTo>
                    <a:pt x="11148" y="74"/>
                  </a:lnTo>
                  <a:lnTo>
                    <a:pt x="11135" y="91"/>
                  </a:lnTo>
                  <a:lnTo>
                    <a:pt x="11124" y="109"/>
                  </a:lnTo>
                  <a:lnTo>
                    <a:pt x="11117" y="127"/>
                  </a:lnTo>
                  <a:lnTo>
                    <a:pt x="11111" y="147"/>
                  </a:lnTo>
                  <a:lnTo>
                    <a:pt x="11107" y="167"/>
                  </a:lnTo>
                  <a:lnTo>
                    <a:pt x="11106" y="190"/>
                  </a:lnTo>
                  <a:lnTo>
                    <a:pt x="11108" y="215"/>
                  </a:lnTo>
                  <a:lnTo>
                    <a:pt x="11111" y="227"/>
                  </a:lnTo>
                  <a:lnTo>
                    <a:pt x="11115" y="239"/>
                  </a:lnTo>
                  <a:lnTo>
                    <a:pt x="11125" y="262"/>
                  </a:lnTo>
                  <a:lnTo>
                    <a:pt x="11139" y="284"/>
                  </a:lnTo>
                  <a:lnTo>
                    <a:pt x="11158" y="306"/>
                  </a:lnTo>
                  <a:lnTo>
                    <a:pt x="11182" y="326"/>
                  </a:lnTo>
                  <a:lnTo>
                    <a:pt x="11209" y="346"/>
                  </a:lnTo>
                  <a:lnTo>
                    <a:pt x="11239" y="364"/>
                  </a:lnTo>
                  <a:lnTo>
                    <a:pt x="11276" y="383"/>
                  </a:lnTo>
                  <a:lnTo>
                    <a:pt x="11312" y="402"/>
                  </a:lnTo>
                  <a:lnTo>
                    <a:pt x="11352" y="428"/>
                  </a:lnTo>
                  <a:lnTo>
                    <a:pt x="11369" y="440"/>
                  </a:lnTo>
                  <a:lnTo>
                    <a:pt x="11380" y="451"/>
                  </a:lnTo>
                  <a:lnTo>
                    <a:pt x="11387" y="460"/>
                  </a:lnTo>
                  <a:lnTo>
                    <a:pt x="11393" y="469"/>
                  </a:lnTo>
                  <a:lnTo>
                    <a:pt x="11403" y="486"/>
                  </a:lnTo>
                  <a:lnTo>
                    <a:pt x="11409" y="505"/>
                  </a:lnTo>
                  <a:lnTo>
                    <a:pt x="11411" y="526"/>
                  </a:lnTo>
                  <a:lnTo>
                    <a:pt x="11407" y="549"/>
                  </a:lnTo>
                  <a:lnTo>
                    <a:pt x="11400" y="570"/>
                  </a:lnTo>
                  <a:lnTo>
                    <a:pt x="11387" y="590"/>
                  </a:lnTo>
                  <a:lnTo>
                    <a:pt x="11369" y="606"/>
                  </a:lnTo>
                  <a:lnTo>
                    <a:pt x="11346" y="620"/>
                  </a:lnTo>
                  <a:lnTo>
                    <a:pt x="11333" y="625"/>
                  </a:lnTo>
                  <a:lnTo>
                    <a:pt x="11320" y="631"/>
                  </a:lnTo>
                  <a:lnTo>
                    <a:pt x="11306" y="634"/>
                  </a:lnTo>
                  <a:lnTo>
                    <a:pt x="11291" y="636"/>
                  </a:lnTo>
                  <a:lnTo>
                    <a:pt x="11259" y="638"/>
                  </a:lnTo>
                  <a:lnTo>
                    <a:pt x="11224" y="636"/>
                  </a:lnTo>
                  <a:lnTo>
                    <a:pt x="11208" y="633"/>
                  </a:lnTo>
                  <a:lnTo>
                    <a:pt x="11190" y="630"/>
                  </a:lnTo>
                  <a:lnTo>
                    <a:pt x="11159" y="619"/>
                  </a:lnTo>
                  <a:lnTo>
                    <a:pt x="11129" y="604"/>
                  </a:lnTo>
                  <a:lnTo>
                    <a:pt x="11115" y="700"/>
                  </a:lnTo>
                  <a:lnTo>
                    <a:pt x="11160" y="715"/>
                  </a:lnTo>
                  <a:lnTo>
                    <a:pt x="11189" y="723"/>
                  </a:lnTo>
                  <a:lnTo>
                    <a:pt x="11202" y="725"/>
                  </a:lnTo>
                  <a:lnTo>
                    <a:pt x="11219" y="727"/>
                  </a:lnTo>
                  <a:lnTo>
                    <a:pt x="11259" y="728"/>
                  </a:lnTo>
                  <a:lnTo>
                    <a:pt x="11284" y="727"/>
                  </a:lnTo>
                  <a:lnTo>
                    <a:pt x="11308" y="725"/>
                  </a:lnTo>
                  <a:lnTo>
                    <a:pt x="11331" y="722"/>
                  </a:lnTo>
                  <a:lnTo>
                    <a:pt x="11352" y="717"/>
                  </a:lnTo>
                  <a:lnTo>
                    <a:pt x="11373" y="711"/>
                  </a:lnTo>
                  <a:lnTo>
                    <a:pt x="11392" y="703"/>
                  </a:lnTo>
                  <a:lnTo>
                    <a:pt x="11412" y="695"/>
                  </a:lnTo>
                  <a:lnTo>
                    <a:pt x="11429" y="684"/>
                  </a:lnTo>
                  <a:lnTo>
                    <a:pt x="11450" y="669"/>
                  </a:lnTo>
                  <a:lnTo>
                    <a:pt x="11467" y="653"/>
                  </a:lnTo>
                  <a:lnTo>
                    <a:pt x="11482" y="635"/>
                  </a:lnTo>
                  <a:lnTo>
                    <a:pt x="11494" y="617"/>
                  </a:lnTo>
                  <a:lnTo>
                    <a:pt x="11503" y="596"/>
                  </a:lnTo>
                  <a:lnTo>
                    <a:pt x="11510" y="575"/>
                  </a:lnTo>
                  <a:lnTo>
                    <a:pt x="11513" y="551"/>
                  </a:lnTo>
                  <a:lnTo>
                    <a:pt x="11514" y="526"/>
                  </a:lnTo>
                  <a:close/>
                </a:path>
              </a:pathLst>
            </a:custGeom>
            <a:solidFill>
              <a:srgbClr val="807f8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Freeform 28"/>
            <p:cNvSpPr/>
            <p:nvPr/>
          </p:nvSpPr>
          <p:spPr>
            <a:xfrm>
              <a:off x="5867280" y="6324480"/>
              <a:ext cx="1049400" cy="103320"/>
            </a:xfrm>
            <a:custGeom>
              <a:avLst/>
              <a:gdLst>
                <a:gd name="textAreaLeft" fmla="*/ 0 w 1049400"/>
                <a:gd name="textAreaRight" fmla="*/ 1049760 w 1049400"/>
                <a:gd name="textAreaTop" fmla="*/ 0 h 103320"/>
                <a:gd name="textAreaBottom" fmla="*/ 103680 h 103320"/>
              </a:gdLst>
              <a:ahLst/>
              <a:rect l="textAreaLeft" t="textAreaTop" r="textAreaRight" b="textAreaBottom"/>
              <a:pathLst>
                <a:path w="7274" h="713">
                  <a:moveTo>
                    <a:pt x="530" y="88"/>
                  </a:moveTo>
                  <a:lnTo>
                    <a:pt x="530" y="0"/>
                  </a:lnTo>
                  <a:lnTo>
                    <a:pt x="0" y="0"/>
                  </a:lnTo>
                  <a:lnTo>
                    <a:pt x="0" y="88"/>
                  </a:lnTo>
                  <a:lnTo>
                    <a:pt x="214" y="88"/>
                  </a:lnTo>
                  <a:lnTo>
                    <a:pt x="214" y="700"/>
                  </a:lnTo>
                  <a:lnTo>
                    <a:pt x="316" y="700"/>
                  </a:lnTo>
                  <a:lnTo>
                    <a:pt x="316" y="88"/>
                  </a:lnTo>
                  <a:lnTo>
                    <a:pt x="530" y="88"/>
                  </a:lnTo>
                  <a:close/>
                  <a:moveTo>
                    <a:pt x="1069" y="88"/>
                  </a:moveTo>
                  <a:lnTo>
                    <a:pt x="1069" y="0"/>
                  </a:lnTo>
                  <a:lnTo>
                    <a:pt x="675" y="0"/>
                  </a:lnTo>
                  <a:lnTo>
                    <a:pt x="675" y="700"/>
                  </a:lnTo>
                  <a:lnTo>
                    <a:pt x="1068" y="700"/>
                  </a:lnTo>
                  <a:lnTo>
                    <a:pt x="1068" y="611"/>
                  </a:lnTo>
                  <a:lnTo>
                    <a:pt x="776" y="611"/>
                  </a:lnTo>
                  <a:lnTo>
                    <a:pt x="776" y="381"/>
                  </a:lnTo>
                  <a:lnTo>
                    <a:pt x="1043" y="381"/>
                  </a:lnTo>
                  <a:lnTo>
                    <a:pt x="1043" y="291"/>
                  </a:lnTo>
                  <a:lnTo>
                    <a:pt x="776" y="291"/>
                  </a:lnTo>
                  <a:lnTo>
                    <a:pt x="776" y="88"/>
                  </a:lnTo>
                  <a:lnTo>
                    <a:pt x="1069" y="88"/>
                  </a:lnTo>
                  <a:close/>
                  <a:moveTo>
                    <a:pt x="1763" y="700"/>
                  </a:moveTo>
                  <a:lnTo>
                    <a:pt x="1763" y="611"/>
                  </a:lnTo>
                  <a:lnTo>
                    <a:pt x="1742" y="611"/>
                  </a:lnTo>
                  <a:lnTo>
                    <a:pt x="1738" y="611"/>
                  </a:lnTo>
                  <a:lnTo>
                    <a:pt x="1734" y="610"/>
                  </a:lnTo>
                  <a:lnTo>
                    <a:pt x="1728" y="608"/>
                  </a:lnTo>
                  <a:lnTo>
                    <a:pt x="1724" y="605"/>
                  </a:lnTo>
                  <a:lnTo>
                    <a:pt x="1720" y="602"/>
                  </a:lnTo>
                  <a:lnTo>
                    <a:pt x="1714" y="598"/>
                  </a:lnTo>
                  <a:lnTo>
                    <a:pt x="1710" y="594"/>
                  </a:lnTo>
                  <a:lnTo>
                    <a:pt x="1705" y="587"/>
                  </a:lnTo>
                  <a:lnTo>
                    <a:pt x="1700" y="582"/>
                  </a:lnTo>
                  <a:lnTo>
                    <a:pt x="1695" y="574"/>
                  </a:lnTo>
                  <a:lnTo>
                    <a:pt x="1685" y="558"/>
                  </a:lnTo>
                  <a:lnTo>
                    <a:pt x="1674" y="538"/>
                  </a:lnTo>
                  <a:lnTo>
                    <a:pt x="1662" y="517"/>
                  </a:lnTo>
                  <a:lnTo>
                    <a:pt x="1650" y="488"/>
                  </a:lnTo>
                  <a:lnTo>
                    <a:pt x="1635" y="462"/>
                  </a:lnTo>
                  <a:lnTo>
                    <a:pt x="1624" y="437"/>
                  </a:lnTo>
                  <a:lnTo>
                    <a:pt x="1611" y="416"/>
                  </a:lnTo>
                  <a:lnTo>
                    <a:pt x="1599" y="397"/>
                  </a:lnTo>
                  <a:lnTo>
                    <a:pt x="1588" y="381"/>
                  </a:lnTo>
                  <a:lnTo>
                    <a:pt x="1577" y="368"/>
                  </a:lnTo>
                  <a:lnTo>
                    <a:pt x="1567" y="357"/>
                  </a:lnTo>
                  <a:lnTo>
                    <a:pt x="1584" y="348"/>
                  </a:lnTo>
                  <a:lnTo>
                    <a:pt x="1600" y="341"/>
                  </a:lnTo>
                  <a:lnTo>
                    <a:pt x="1614" y="331"/>
                  </a:lnTo>
                  <a:lnTo>
                    <a:pt x="1628" y="322"/>
                  </a:lnTo>
                  <a:lnTo>
                    <a:pt x="1641" y="313"/>
                  </a:lnTo>
                  <a:lnTo>
                    <a:pt x="1646" y="308"/>
                  </a:lnTo>
                  <a:lnTo>
                    <a:pt x="1652" y="303"/>
                  </a:lnTo>
                  <a:lnTo>
                    <a:pt x="1662" y="293"/>
                  </a:lnTo>
                  <a:lnTo>
                    <a:pt x="1671" y="282"/>
                  </a:lnTo>
                  <a:lnTo>
                    <a:pt x="1675" y="277"/>
                  </a:lnTo>
                  <a:lnTo>
                    <a:pt x="1680" y="270"/>
                  </a:lnTo>
                  <a:lnTo>
                    <a:pt x="1686" y="260"/>
                  </a:lnTo>
                  <a:lnTo>
                    <a:pt x="1693" y="248"/>
                  </a:lnTo>
                  <a:lnTo>
                    <a:pt x="1697" y="235"/>
                  </a:lnTo>
                  <a:lnTo>
                    <a:pt x="1701" y="223"/>
                  </a:lnTo>
                  <a:lnTo>
                    <a:pt x="1704" y="210"/>
                  </a:lnTo>
                  <a:lnTo>
                    <a:pt x="1705" y="204"/>
                  </a:lnTo>
                  <a:lnTo>
                    <a:pt x="1706" y="196"/>
                  </a:lnTo>
                  <a:lnTo>
                    <a:pt x="1706" y="183"/>
                  </a:lnTo>
                  <a:lnTo>
                    <a:pt x="1706" y="172"/>
                  </a:lnTo>
                  <a:lnTo>
                    <a:pt x="1705" y="162"/>
                  </a:lnTo>
                  <a:lnTo>
                    <a:pt x="1704" y="152"/>
                  </a:lnTo>
                  <a:lnTo>
                    <a:pt x="1702" y="143"/>
                  </a:lnTo>
                  <a:lnTo>
                    <a:pt x="1700" y="133"/>
                  </a:lnTo>
                  <a:lnTo>
                    <a:pt x="1697" y="125"/>
                  </a:lnTo>
                  <a:lnTo>
                    <a:pt x="1695" y="116"/>
                  </a:lnTo>
                  <a:lnTo>
                    <a:pt x="1691" y="107"/>
                  </a:lnTo>
                  <a:lnTo>
                    <a:pt x="1686" y="99"/>
                  </a:lnTo>
                  <a:lnTo>
                    <a:pt x="1682" y="91"/>
                  </a:lnTo>
                  <a:lnTo>
                    <a:pt x="1678" y="84"/>
                  </a:lnTo>
                  <a:lnTo>
                    <a:pt x="1671" y="76"/>
                  </a:lnTo>
                  <a:lnTo>
                    <a:pt x="1666" y="70"/>
                  </a:lnTo>
                  <a:lnTo>
                    <a:pt x="1659" y="62"/>
                  </a:lnTo>
                  <a:lnTo>
                    <a:pt x="1652" y="56"/>
                  </a:lnTo>
                  <a:lnTo>
                    <a:pt x="1644" y="50"/>
                  </a:lnTo>
                  <a:lnTo>
                    <a:pt x="1637" y="44"/>
                  </a:lnTo>
                  <a:lnTo>
                    <a:pt x="1629" y="38"/>
                  </a:lnTo>
                  <a:lnTo>
                    <a:pt x="1620" y="33"/>
                  </a:lnTo>
                  <a:lnTo>
                    <a:pt x="1613" y="28"/>
                  </a:lnTo>
                  <a:lnTo>
                    <a:pt x="1604" y="23"/>
                  </a:lnTo>
                  <a:lnTo>
                    <a:pt x="1594" y="20"/>
                  </a:lnTo>
                  <a:lnTo>
                    <a:pt x="1576" y="12"/>
                  </a:lnTo>
                  <a:lnTo>
                    <a:pt x="1566" y="10"/>
                  </a:lnTo>
                  <a:lnTo>
                    <a:pt x="1557" y="7"/>
                  </a:lnTo>
                  <a:lnTo>
                    <a:pt x="1546" y="5"/>
                  </a:lnTo>
                  <a:lnTo>
                    <a:pt x="1535" y="4"/>
                  </a:lnTo>
                  <a:lnTo>
                    <a:pt x="1524" y="3"/>
                  </a:lnTo>
                  <a:lnTo>
                    <a:pt x="1513" y="1"/>
                  </a:lnTo>
                  <a:lnTo>
                    <a:pt x="1491" y="0"/>
                  </a:lnTo>
                  <a:lnTo>
                    <a:pt x="1257" y="0"/>
                  </a:lnTo>
                  <a:lnTo>
                    <a:pt x="1257" y="700"/>
                  </a:lnTo>
                  <a:lnTo>
                    <a:pt x="1360" y="700"/>
                  </a:lnTo>
                  <a:lnTo>
                    <a:pt x="1360" y="390"/>
                  </a:lnTo>
                  <a:lnTo>
                    <a:pt x="1438" y="390"/>
                  </a:lnTo>
                  <a:lnTo>
                    <a:pt x="1444" y="391"/>
                  </a:lnTo>
                  <a:lnTo>
                    <a:pt x="1451" y="391"/>
                  </a:lnTo>
                  <a:lnTo>
                    <a:pt x="1457" y="394"/>
                  </a:lnTo>
                  <a:lnTo>
                    <a:pt x="1464" y="396"/>
                  </a:lnTo>
                  <a:lnTo>
                    <a:pt x="1470" y="399"/>
                  </a:lnTo>
                  <a:lnTo>
                    <a:pt x="1477" y="402"/>
                  </a:lnTo>
                  <a:lnTo>
                    <a:pt x="1482" y="407"/>
                  </a:lnTo>
                  <a:lnTo>
                    <a:pt x="1488" y="411"/>
                  </a:lnTo>
                  <a:lnTo>
                    <a:pt x="1494" y="416"/>
                  </a:lnTo>
                  <a:lnTo>
                    <a:pt x="1500" y="423"/>
                  </a:lnTo>
                  <a:lnTo>
                    <a:pt x="1506" y="429"/>
                  </a:lnTo>
                  <a:lnTo>
                    <a:pt x="1508" y="433"/>
                  </a:lnTo>
                  <a:lnTo>
                    <a:pt x="1511" y="436"/>
                  </a:lnTo>
                  <a:lnTo>
                    <a:pt x="1517" y="444"/>
                  </a:lnTo>
                  <a:lnTo>
                    <a:pt x="1522" y="452"/>
                  </a:lnTo>
                  <a:lnTo>
                    <a:pt x="1532" y="471"/>
                  </a:lnTo>
                  <a:lnTo>
                    <a:pt x="1568" y="546"/>
                  </a:lnTo>
                  <a:lnTo>
                    <a:pt x="1604" y="621"/>
                  </a:lnTo>
                  <a:lnTo>
                    <a:pt x="1611" y="630"/>
                  </a:lnTo>
                  <a:lnTo>
                    <a:pt x="1618" y="639"/>
                  </a:lnTo>
                  <a:lnTo>
                    <a:pt x="1626" y="648"/>
                  </a:lnTo>
                  <a:lnTo>
                    <a:pt x="1633" y="655"/>
                  </a:lnTo>
                  <a:lnTo>
                    <a:pt x="1641" y="663"/>
                  </a:lnTo>
                  <a:lnTo>
                    <a:pt x="1648" y="669"/>
                  </a:lnTo>
                  <a:lnTo>
                    <a:pt x="1657" y="675"/>
                  </a:lnTo>
                  <a:lnTo>
                    <a:pt x="1666" y="680"/>
                  </a:lnTo>
                  <a:lnTo>
                    <a:pt x="1674" y="685"/>
                  </a:lnTo>
                  <a:lnTo>
                    <a:pt x="1683" y="690"/>
                  </a:lnTo>
                  <a:lnTo>
                    <a:pt x="1693" y="693"/>
                  </a:lnTo>
                  <a:lnTo>
                    <a:pt x="1701" y="695"/>
                  </a:lnTo>
                  <a:lnTo>
                    <a:pt x="1711" y="697"/>
                  </a:lnTo>
                  <a:lnTo>
                    <a:pt x="1722" y="699"/>
                  </a:lnTo>
                  <a:lnTo>
                    <a:pt x="1732" y="700"/>
                  </a:lnTo>
                  <a:lnTo>
                    <a:pt x="1742" y="700"/>
                  </a:lnTo>
                  <a:lnTo>
                    <a:pt x="1763" y="700"/>
                  </a:lnTo>
                  <a:close/>
                  <a:moveTo>
                    <a:pt x="1599" y="183"/>
                  </a:moveTo>
                  <a:lnTo>
                    <a:pt x="1598" y="194"/>
                  </a:lnTo>
                  <a:lnTo>
                    <a:pt x="1597" y="206"/>
                  </a:lnTo>
                  <a:lnTo>
                    <a:pt x="1594" y="211"/>
                  </a:lnTo>
                  <a:lnTo>
                    <a:pt x="1593" y="216"/>
                  </a:lnTo>
                  <a:lnTo>
                    <a:pt x="1589" y="227"/>
                  </a:lnTo>
                  <a:lnTo>
                    <a:pt x="1584" y="237"/>
                  </a:lnTo>
                  <a:lnTo>
                    <a:pt x="1577" y="248"/>
                  </a:lnTo>
                  <a:lnTo>
                    <a:pt x="1570" y="256"/>
                  </a:lnTo>
                  <a:lnTo>
                    <a:pt x="1565" y="262"/>
                  </a:lnTo>
                  <a:lnTo>
                    <a:pt x="1561" y="266"/>
                  </a:lnTo>
                  <a:lnTo>
                    <a:pt x="1552" y="275"/>
                  </a:lnTo>
                  <a:lnTo>
                    <a:pt x="1542" y="281"/>
                  </a:lnTo>
                  <a:lnTo>
                    <a:pt x="1532" y="288"/>
                  </a:lnTo>
                  <a:lnTo>
                    <a:pt x="1521" y="293"/>
                  </a:lnTo>
                  <a:lnTo>
                    <a:pt x="1515" y="295"/>
                  </a:lnTo>
                  <a:lnTo>
                    <a:pt x="1510" y="298"/>
                  </a:lnTo>
                  <a:lnTo>
                    <a:pt x="1505" y="299"/>
                  </a:lnTo>
                  <a:lnTo>
                    <a:pt x="1498" y="300"/>
                  </a:lnTo>
                  <a:lnTo>
                    <a:pt x="1486" y="302"/>
                  </a:lnTo>
                  <a:lnTo>
                    <a:pt x="1473" y="302"/>
                  </a:lnTo>
                  <a:lnTo>
                    <a:pt x="1360" y="302"/>
                  </a:lnTo>
                  <a:lnTo>
                    <a:pt x="1360" y="88"/>
                  </a:lnTo>
                  <a:lnTo>
                    <a:pt x="1473" y="88"/>
                  </a:lnTo>
                  <a:lnTo>
                    <a:pt x="1486" y="88"/>
                  </a:lnTo>
                  <a:lnTo>
                    <a:pt x="1497" y="89"/>
                  </a:lnTo>
                  <a:lnTo>
                    <a:pt x="1509" y="91"/>
                  </a:lnTo>
                  <a:lnTo>
                    <a:pt x="1520" y="94"/>
                  </a:lnTo>
                  <a:lnTo>
                    <a:pt x="1531" y="98"/>
                  </a:lnTo>
                  <a:lnTo>
                    <a:pt x="1540" y="102"/>
                  </a:lnTo>
                  <a:lnTo>
                    <a:pt x="1550" y="106"/>
                  </a:lnTo>
                  <a:lnTo>
                    <a:pt x="1559" y="112"/>
                  </a:lnTo>
                  <a:lnTo>
                    <a:pt x="1568" y="119"/>
                  </a:lnTo>
                  <a:lnTo>
                    <a:pt x="1573" y="122"/>
                  </a:lnTo>
                  <a:lnTo>
                    <a:pt x="1576" y="127"/>
                  </a:lnTo>
                  <a:lnTo>
                    <a:pt x="1582" y="134"/>
                  </a:lnTo>
                  <a:lnTo>
                    <a:pt x="1586" y="139"/>
                  </a:lnTo>
                  <a:lnTo>
                    <a:pt x="1589" y="143"/>
                  </a:lnTo>
                  <a:lnTo>
                    <a:pt x="1593" y="152"/>
                  </a:lnTo>
                  <a:lnTo>
                    <a:pt x="1594" y="157"/>
                  </a:lnTo>
                  <a:lnTo>
                    <a:pt x="1595" y="161"/>
                  </a:lnTo>
                  <a:lnTo>
                    <a:pt x="1598" y="172"/>
                  </a:lnTo>
                  <a:lnTo>
                    <a:pt x="1599" y="178"/>
                  </a:lnTo>
                  <a:lnTo>
                    <a:pt x="1599" y="183"/>
                  </a:lnTo>
                  <a:close/>
                  <a:moveTo>
                    <a:pt x="2466" y="0"/>
                  </a:moveTo>
                  <a:lnTo>
                    <a:pt x="2355" y="0"/>
                  </a:lnTo>
                  <a:lnTo>
                    <a:pt x="2141" y="596"/>
                  </a:lnTo>
                  <a:lnTo>
                    <a:pt x="1926" y="0"/>
                  </a:lnTo>
                  <a:lnTo>
                    <a:pt x="1814" y="0"/>
                  </a:lnTo>
                  <a:lnTo>
                    <a:pt x="2072" y="700"/>
                  </a:lnTo>
                  <a:lnTo>
                    <a:pt x="2209" y="700"/>
                  </a:lnTo>
                  <a:lnTo>
                    <a:pt x="2466" y="0"/>
                  </a:lnTo>
                  <a:close/>
                  <a:moveTo>
                    <a:pt x="3002" y="88"/>
                  </a:moveTo>
                  <a:lnTo>
                    <a:pt x="3002" y="0"/>
                  </a:lnTo>
                  <a:lnTo>
                    <a:pt x="2607" y="0"/>
                  </a:lnTo>
                  <a:lnTo>
                    <a:pt x="2607" y="700"/>
                  </a:lnTo>
                  <a:lnTo>
                    <a:pt x="3000" y="700"/>
                  </a:lnTo>
                  <a:lnTo>
                    <a:pt x="3000" y="611"/>
                  </a:lnTo>
                  <a:lnTo>
                    <a:pt x="2709" y="611"/>
                  </a:lnTo>
                  <a:lnTo>
                    <a:pt x="2709" y="381"/>
                  </a:lnTo>
                  <a:lnTo>
                    <a:pt x="2976" y="381"/>
                  </a:lnTo>
                  <a:lnTo>
                    <a:pt x="2976" y="291"/>
                  </a:lnTo>
                  <a:lnTo>
                    <a:pt x="2709" y="291"/>
                  </a:lnTo>
                  <a:lnTo>
                    <a:pt x="2709" y="88"/>
                  </a:lnTo>
                  <a:lnTo>
                    <a:pt x="3002" y="88"/>
                  </a:lnTo>
                  <a:close/>
                  <a:moveTo>
                    <a:pt x="3752" y="0"/>
                  </a:moveTo>
                  <a:lnTo>
                    <a:pt x="3635" y="0"/>
                  </a:lnTo>
                  <a:lnTo>
                    <a:pt x="3425" y="315"/>
                  </a:lnTo>
                  <a:lnTo>
                    <a:pt x="3216" y="0"/>
                  </a:lnTo>
                  <a:lnTo>
                    <a:pt x="3098" y="0"/>
                  </a:lnTo>
                  <a:lnTo>
                    <a:pt x="3374" y="412"/>
                  </a:lnTo>
                  <a:lnTo>
                    <a:pt x="3374" y="700"/>
                  </a:lnTo>
                  <a:lnTo>
                    <a:pt x="3476" y="700"/>
                  </a:lnTo>
                  <a:lnTo>
                    <a:pt x="3476" y="412"/>
                  </a:lnTo>
                  <a:lnTo>
                    <a:pt x="3752" y="0"/>
                  </a:lnTo>
                  <a:close/>
                  <a:moveTo>
                    <a:pt x="4443" y="354"/>
                  </a:moveTo>
                  <a:lnTo>
                    <a:pt x="4443" y="335"/>
                  </a:lnTo>
                  <a:lnTo>
                    <a:pt x="4442" y="318"/>
                  </a:lnTo>
                  <a:lnTo>
                    <a:pt x="4439" y="300"/>
                  </a:lnTo>
                  <a:lnTo>
                    <a:pt x="4437" y="283"/>
                  </a:lnTo>
                  <a:lnTo>
                    <a:pt x="4434" y="266"/>
                  </a:lnTo>
                  <a:lnTo>
                    <a:pt x="4430" y="250"/>
                  </a:lnTo>
                  <a:lnTo>
                    <a:pt x="4425" y="234"/>
                  </a:lnTo>
                  <a:lnTo>
                    <a:pt x="4420" y="219"/>
                  </a:lnTo>
                  <a:lnTo>
                    <a:pt x="4413" y="204"/>
                  </a:lnTo>
                  <a:lnTo>
                    <a:pt x="4407" y="188"/>
                  </a:lnTo>
                  <a:lnTo>
                    <a:pt x="4399" y="173"/>
                  </a:lnTo>
                  <a:lnTo>
                    <a:pt x="4392" y="159"/>
                  </a:lnTo>
                  <a:lnTo>
                    <a:pt x="4382" y="145"/>
                  </a:lnTo>
                  <a:lnTo>
                    <a:pt x="4378" y="139"/>
                  </a:lnTo>
                  <a:lnTo>
                    <a:pt x="4372" y="132"/>
                  </a:lnTo>
                  <a:lnTo>
                    <a:pt x="4363" y="119"/>
                  </a:lnTo>
                  <a:lnTo>
                    <a:pt x="4351" y="106"/>
                  </a:lnTo>
                  <a:lnTo>
                    <a:pt x="4339" y="93"/>
                  </a:lnTo>
                  <a:lnTo>
                    <a:pt x="4327" y="81"/>
                  </a:lnTo>
                  <a:lnTo>
                    <a:pt x="4314" y="71"/>
                  </a:lnTo>
                  <a:lnTo>
                    <a:pt x="4300" y="60"/>
                  </a:lnTo>
                  <a:lnTo>
                    <a:pt x="4286" y="50"/>
                  </a:lnTo>
                  <a:lnTo>
                    <a:pt x="4272" y="41"/>
                  </a:lnTo>
                  <a:lnTo>
                    <a:pt x="4258" y="34"/>
                  </a:lnTo>
                  <a:lnTo>
                    <a:pt x="4243" y="26"/>
                  </a:lnTo>
                  <a:lnTo>
                    <a:pt x="4226" y="21"/>
                  </a:lnTo>
                  <a:lnTo>
                    <a:pt x="4211" y="16"/>
                  </a:lnTo>
                  <a:lnTo>
                    <a:pt x="4195" y="11"/>
                  </a:lnTo>
                  <a:lnTo>
                    <a:pt x="4178" y="7"/>
                  </a:lnTo>
                  <a:lnTo>
                    <a:pt x="4161" y="4"/>
                  </a:lnTo>
                  <a:lnTo>
                    <a:pt x="4143" y="3"/>
                  </a:lnTo>
                  <a:lnTo>
                    <a:pt x="4125" y="0"/>
                  </a:lnTo>
                  <a:lnTo>
                    <a:pt x="4106" y="0"/>
                  </a:lnTo>
                  <a:lnTo>
                    <a:pt x="3859" y="0"/>
                  </a:lnTo>
                  <a:lnTo>
                    <a:pt x="3859" y="700"/>
                  </a:lnTo>
                  <a:lnTo>
                    <a:pt x="4106" y="700"/>
                  </a:lnTo>
                  <a:lnTo>
                    <a:pt x="4125" y="700"/>
                  </a:lnTo>
                  <a:lnTo>
                    <a:pt x="4143" y="699"/>
                  </a:lnTo>
                  <a:lnTo>
                    <a:pt x="4161" y="697"/>
                  </a:lnTo>
                  <a:lnTo>
                    <a:pt x="4178" y="694"/>
                  </a:lnTo>
                  <a:lnTo>
                    <a:pt x="4195" y="691"/>
                  </a:lnTo>
                  <a:lnTo>
                    <a:pt x="4211" y="686"/>
                  </a:lnTo>
                  <a:lnTo>
                    <a:pt x="4226" y="681"/>
                  </a:lnTo>
                  <a:lnTo>
                    <a:pt x="4243" y="675"/>
                  </a:lnTo>
                  <a:lnTo>
                    <a:pt x="4258" y="668"/>
                  </a:lnTo>
                  <a:lnTo>
                    <a:pt x="4272" y="661"/>
                  </a:lnTo>
                  <a:lnTo>
                    <a:pt x="4286" y="652"/>
                  </a:lnTo>
                  <a:lnTo>
                    <a:pt x="4300" y="643"/>
                  </a:lnTo>
                  <a:lnTo>
                    <a:pt x="4314" y="632"/>
                  </a:lnTo>
                  <a:lnTo>
                    <a:pt x="4327" y="622"/>
                  </a:lnTo>
                  <a:lnTo>
                    <a:pt x="4339" y="611"/>
                  </a:lnTo>
                  <a:lnTo>
                    <a:pt x="4351" y="598"/>
                  </a:lnTo>
                  <a:lnTo>
                    <a:pt x="4363" y="586"/>
                  </a:lnTo>
                  <a:lnTo>
                    <a:pt x="4372" y="573"/>
                  </a:lnTo>
                  <a:lnTo>
                    <a:pt x="4382" y="559"/>
                  </a:lnTo>
                  <a:lnTo>
                    <a:pt x="4392" y="546"/>
                  </a:lnTo>
                  <a:lnTo>
                    <a:pt x="4395" y="538"/>
                  </a:lnTo>
                  <a:lnTo>
                    <a:pt x="4399" y="532"/>
                  </a:lnTo>
                  <a:lnTo>
                    <a:pt x="4407" y="518"/>
                  </a:lnTo>
                  <a:lnTo>
                    <a:pt x="4413" y="503"/>
                  </a:lnTo>
                  <a:lnTo>
                    <a:pt x="4420" y="488"/>
                  </a:lnTo>
                  <a:lnTo>
                    <a:pt x="4425" y="473"/>
                  </a:lnTo>
                  <a:lnTo>
                    <a:pt x="4430" y="456"/>
                  </a:lnTo>
                  <a:lnTo>
                    <a:pt x="4434" y="440"/>
                  </a:lnTo>
                  <a:lnTo>
                    <a:pt x="4437" y="424"/>
                  </a:lnTo>
                  <a:lnTo>
                    <a:pt x="4439" y="407"/>
                  </a:lnTo>
                  <a:lnTo>
                    <a:pt x="4442" y="389"/>
                  </a:lnTo>
                  <a:lnTo>
                    <a:pt x="4443" y="372"/>
                  </a:lnTo>
                  <a:lnTo>
                    <a:pt x="4443" y="354"/>
                  </a:lnTo>
                  <a:close/>
                  <a:moveTo>
                    <a:pt x="4341" y="354"/>
                  </a:moveTo>
                  <a:lnTo>
                    <a:pt x="4341" y="367"/>
                  </a:lnTo>
                  <a:lnTo>
                    <a:pt x="4340" y="380"/>
                  </a:lnTo>
                  <a:lnTo>
                    <a:pt x="4339" y="393"/>
                  </a:lnTo>
                  <a:lnTo>
                    <a:pt x="4337" y="404"/>
                  </a:lnTo>
                  <a:lnTo>
                    <a:pt x="4335" y="417"/>
                  </a:lnTo>
                  <a:lnTo>
                    <a:pt x="4332" y="429"/>
                  </a:lnTo>
                  <a:lnTo>
                    <a:pt x="4328" y="441"/>
                  </a:lnTo>
                  <a:lnTo>
                    <a:pt x="4325" y="452"/>
                  </a:lnTo>
                  <a:lnTo>
                    <a:pt x="4320" y="464"/>
                  </a:lnTo>
                  <a:lnTo>
                    <a:pt x="4316" y="475"/>
                  </a:lnTo>
                  <a:lnTo>
                    <a:pt x="4311" y="485"/>
                  </a:lnTo>
                  <a:lnTo>
                    <a:pt x="4304" y="495"/>
                  </a:lnTo>
                  <a:lnTo>
                    <a:pt x="4298" y="506"/>
                  </a:lnTo>
                  <a:lnTo>
                    <a:pt x="4291" y="516"/>
                  </a:lnTo>
                  <a:lnTo>
                    <a:pt x="4285" y="525"/>
                  </a:lnTo>
                  <a:lnTo>
                    <a:pt x="4276" y="534"/>
                  </a:lnTo>
                  <a:lnTo>
                    <a:pt x="4269" y="544"/>
                  </a:lnTo>
                  <a:lnTo>
                    <a:pt x="4260" y="552"/>
                  </a:lnTo>
                  <a:lnTo>
                    <a:pt x="4250" y="561"/>
                  </a:lnTo>
                  <a:lnTo>
                    <a:pt x="4242" y="569"/>
                  </a:lnTo>
                  <a:lnTo>
                    <a:pt x="4232" y="575"/>
                  </a:lnTo>
                  <a:lnTo>
                    <a:pt x="4222" y="582"/>
                  </a:lnTo>
                  <a:lnTo>
                    <a:pt x="4211" y="587"/>
                  </a:lnTo>
                  <a:lnTo>
                    <a:pt x="4202" y="592"/>
                  </a:lnTo>
                  <a:lnTo>
                    <a:pt x="4191" y="597"/>
                  </a:lnTo>
                  <a:lnTo>
                    <a:pt x="4179" y="600"/>
                  </a:lnTo>
                  <a:lnTo>
                    <a:pt x="4168" y="603"/>
                  </a:lnTo>
                  <a:lnTo>
                    <a:pt x="4156" y="606"/>
                  </a:lnTo>
                  <a:lnTo>
                    <a:pt x="4144" y="609"/>
                  </a:lnTo>
                  <a:lnTo>
                    <a:pt x="4132" y="610"/>
                  </a:lnTo>
                  <a:lnTo>
                    <a:pt x="4119" y="611"/>
                  </a:lnTo>
                  <a:lnTo>
                    <a:pt x="4106" y="611"/>
                  </a:lnTo>
                  <a:lnTo>
                    <a:pt x="3963" y="611"/>
                  </a:lnTo>
                  <a:lnTo>
                    <a:pt x="3963" y="90"/>
                  </a:lnTo>
                  <a:lnTo>
                    <a:pt x="4106" y="90"/>
                  </a:lnTo>
                  <a:lnTo>
                    <a:pt x="4119" y="90"/>
                  </a:lnTo>
                  <a:lnTo>
                    <a:pt x="4132" y="91"/>
                  </a:lnTo>
                  <a:lnTo>
                    <a:pt x="4144" y="92"/>
                  </a:lnTo>
                  <a:lnTo>
                    <a:pt x="4156" y="94"/>
                  </a:lnTo>
                  <a:lnTo>
                    <a:pt x="4168" y="98"/>
                  </a:lnTo>
                  <a:lnTo>
                    <a:pt x="4179" y="101"/>
                  </a:lnTo>
                  <a:lnTo>
                    <a:pt x="4191" y="105"/>
                  </a:lnTo>
                  <a:lnTo>
                    <a:pt x="4202" y="110"/>
                  </a:lnTo>
                  <a:lnTo>
                    <a:pt x="4211" y="115"/>
                  </a:lnTo>
                  <a:lnTo>
                    <a:pt x="4222" y="121"/>
                  </a:lnTo>
                  <a:lnTo>
                    <a:pt x="4232" y="128"/>
                  </a:lnTo>
                  <a:lnTo>
                    <a:pt x="4236" y="131"/>
                  </a:lnTo>
                  <a:lnTo>
                    <a:pt x="4242" y="135"/>
                  </a:lnTo>
                  <a:lnTo>
                    <a:pt x="4250" y="143"/>
                  </a:lnTo>
                  <a:lnTo>
                    <a:pt x="4260" y="152"/>
                  </a:lnTo>
                  <a:lnTo>
                    <a:pt x="4269" y="160"/>
                  </a:lnTo>
                  <a:lnTo>
                    <a:pt x="4276" y="170"/>
                  </a:lnTo>
                  <a:lnTo>
                    <a:pt x="4285" y="180"/>
                  </a:lnTo>
                  <a:lnTo>
                    <a:pt x="4291" y="189"/>
                  </a:lnTo>
                  <a:lnTo>
                    <a:pt x="4298" y="200"/>
                  </a:lnTo>
                  <a:lnTo>
                    <a:pt x="4304" y="210"/>
                  </a:lnTo>
                  <a:lnTo>
                    <a:pt x="4311" y="221"/>
                  </a:lnTo>
                  <a:lnTo>
                    <a:pt x="4316" y="232"/>
                  </a:lnTo>
                  <a:lnTo>
                    <a:pt x="4320" y="242"/>
                  </a:lnTo>
                  <a:lnTo>
                    <a:pt x="4325" y="254"/>
                  </a:lnTo>
                  <a:lnTo>
                    <a:pt x="4328" y="265"/>
                  </a:lnTo>
                  <a:lnTo>
                    <a:pt x="4332" y="277"/>
                  </a:lnTo>
                  <a:lnTo>
                    <a:pt x="4335" y="290"/>
                  </a:lnTo>
                  <a:lnTo>
                    <a:pt x="4337" y="302"/>
                  </a:lnTo>
                  <a:lnTo>
                    <a:pt x="4339" y="315"/>
                  </a:lnTo>
                  <a:lnTo>
                    <a:pt x="4340" y="327"/>
                  </a:lnTo>
                  <a:lnTo>
                    <a:pt x="4341" y="341"/>
                  </a:lnTo>
                  <a:lnTo>
                    <a:pt x="4341" y="354"/>
                  </a:lnTo>
                  <a:close/>
                  <a:moveTo>
                    <a:pt x="4995" y="88"/>
                  </a:moveTo>
                  <a:lnTo>
                    <a:pt x="4995" y="0"/>
                  </a:lnTo>
                  <a:lnTo>
                    <a:pt x="4600" y="0"/>
                  </a:lnTo>
                  <a:lnTo>
                    <a:pt x="4600" y="700"/>
                  </a:lnTo>
                  <a:lnTo>
                    <a:pt x="4993" y="700"/>
                  </a:lnTo>
                  <a:lnTo>
                    <a:pt x="4993" y="611"/>
                  </a:lnTo>
                  <a:lnTo>
                    <a:pt x="4702" y="611"/>
                  </a:lnTo>
                  <a:lnTo>
                    <a:pt x="4702" y="381"/>
                  </a:lnTo>
                  <a:lnTo>
                    <a:pt x="4969" y="381"/>
                  </a:lnTo>
                  <a:lnTo>
                    <a:pt x="4969" y="291"/>
                  </a:lnTo>
                  <a:lnTo>
                    <a:pt x="4702" y="291"/>
                  </a:lnTo>
                  <a:lnTo>
                    <a:pt x="4702" y="88"/>
                  </a:lnTo>
                  <a:lnTo>
                    <a:pt x="4995" y="88"/>
                  </a:lnTo>
                  <a:close/>
                  <a:moveTo>
                    <a:pt x="5735" y="700"/>
                  </a:moveTo>
                  <a:lnTo>
                    <a:pt x="5735" y="0"/>
                  </a:lnTo>
                  <a:lnTo>
                    <a:pt x="5633" y="0"/>
                  </a:lnTo>
                  <a:lnTo>
                    <a:pt x="5633" y="561"/>
                  </a:lnTo>
                  <a:lnTo>
                    <a:pt x="5628" y="561"/>
                  </a:lnTo>
                  <a:lnTo>
                    <a:pt x="5324" y="0"/>
                  </a:lnTo>
                  <a:lnTo>
                    <a:pt x="5191" y="0"/>
                  </a:lnTo>
                  <a:lnTo>
                    <a:pt x="5191" y="700"/>
                  </a:lnTo>
                  <a:lnTo>
                    <a:pt x="5293" y="700"/>
                  </a:lnTo>
                  <a:lnTo>
                    <a:pt x="5293" y="139"/>
                  </a:lnTo>
                  <a:lnTo>
                    <a:pt x="5297" y="139"/>
                  </a:lnTo>
                  <a:lnTo>
                    <a:pt x="5602" y="700"/>
                  </a:lnTo>
                  <a:lnTo>
                    <a:pt x="5735" y="700"/>
                  </a:lnTo>
                  <a:close/>
                  <a:moveTo>
                    <a:pt x="6451" y="507"/>
                  </a:moveTo>
                  <a:lnTo>
                    <a:pt x="6451" y="0"/>
                  </a:lnTo>
                  <a:lnTo>
                    <a:pt x="6348" y="0"/>
                  </a:lnTo>
                  <a:lnTo>
                    <a:pt x="6348" y="507"/>
                  </a:lnTo>
                  <a:lnTo>
                    <a:pt x="6348" y="520"/>
                  </a:lnTo>
                  <a:lnTo>
                    <a:pt x="6346" y="533"/>
                  </a:lnTo>
                  <a:lnTo>
                    <a:pt x="6345" y="538"/>
                  </a:lnTo>
                  <a:lnTo>
                    <a:pt x="6344" y="544"/>
                  </a:lnTo>
                  <a:lnTo>
                    <a:pt x="6343" y="549"/>
                  </a:lnTo>
                  <a:lnTo>
                    <a:pt x="6341" y="555"/>
                  </a:lnTo>
                  <a:lnTo>
                    <a:pt x="6336" y="565"/>
                  </a:lnTo>
                  <a:lnTo>
                    <a:pt x="6331" y="575"/>
                  </a:lnTo>
                  <a:lnTo>
                    <a:pt x="6326" y="584"/>
                  </a:lnTo>
                  <a:lnTo>
                    <a:pt x="6318" y="591"/>
                  </a:lnTo>
                  <a:lnTo>
                    <a:pt x="6310" y="599"/>
                  </a:lnTo>
                  <a:lnTo>
                    <a:pt x="6302" y="605"/>
                  </a:lnTo>
                  <a:lnTo>
                    <a:pt x="6298" y="608"/>
                  </a:lnTo>
                  <a:lnTo>
                    <a:pt x="6293" y="611"/>
                  </a:lnTo>
                  <a:lnTo>
                    <a:pt x="6283" y="615"/>
                  </a:lnTo>
                  <a:lnTo>
                    <a:pt x="6273" y="618"/>
                  </a:lnTo>
                  <a:lnTo>
                    <a:pt x="6261" y="621"/>
                  </a:lnTo>
                  <a:lnTo>
                    <a:pt x="6249" y="623"/>
                  </a:lnTo>
                  <a:lnTo>
                    <a:pt x="6236" y="624"/>
                  </a:lnTo>
                  <a:lnTo>
                    <a:pt x="6214" y="624"/>
                  </a:lnTo>
                  <a:lnTo>
                    <a:pt x="6205" y="624"/>
                  </a:lnTo>
                  <a:lnTo>
                    <a:pt x="6196" y="623"/>
                  </a:lnTo>
                  <a:lnTo>
                    <a:pt x="6187" y="621"/>
                  </a:lnTo>
                  <a:lnTo>
                    <a:pt x="6181" y="618"/>
                  </a:lnTo>
                  <a:lnTo>
                    <a:pt x="6174" y="616"/>
                  </a:lnTo>
                  <a:lnTo>
                    <a:pt x="6168" y="613"/>
                  </a:lnTo>
                  <a:lnTo>
                    <a:pt x="6168" y="694"/>
                  </a:lnTo>
                  <a:lnTo>
                    <a:pt x="6176" y="699"/>
                  </a:lnTo>
                  <a:lnTo>
                    <a:pt x="6185" y="703"/>
                  </a:lnTo>
                  <a:lnTo>
                    <a:pt x="6196" y="706"/>
                  </a:lnTo>
                  <a:lnTo>
                    <a:pt x="6207" y="709"/>
                  </a:lnTo>
                  <a:lnTo>
                    <a:pt x="6220" y="711"/>
                  </a:lnTo>
                  <a:lnTo>
                    <a:pt x="6233" y="712"/>
                  </a:lnTo>
                  <a:lnTo>
                    <a:pt x="6247" y="713"/>
                  </a:lnTo>
                  <a:lnTo>
                    <a:pt x="6262" y="713"/>
                  </a:lnTo>
                  <a:lnTo>
                    <a:pt x="6273" y="713"/>
                  </a:lnTo>
                  <a:lnTo>
                    <a:pt x="6283" y="712"/>
                  </a:lnTo>
                  <a:lnTo>
                    <a:pt x="6293" y="711"/>
                  </a:lnTo>
                  <a:lnTo>
                    <a:pt x="6303" y="709"/>
                  </a:lnTo>
                  <a:lnTo>
                    <a:pt x="6322" y="705"/>
                  </a:lnTo>
                  <a:lnTo>
                    <a:pt x="6332" y="702"/>
                  </a:lnTo>
                  <a:lnTo>
                    <a:pt x="6341" y="698"/>
                  </a:lnTo>
                  <a:lnTo>
                    <a:pt x="6349" y="694"/>
                  </a:lnTo>
                  <a:lnTo>
                    <a:pt x="6357" y="690"/>
                  </a:lnTo>
                  <a:lnTo>
                    <a:pt x="6366" y="685"/>
                  </a:lnTo>
                  <a:lnTo>
                    <a:pt x="6373" y="680"/>
                  </a:lnTo>
                  <a:lnTo>
                    <a:pt x="6381" y="675"/>
                  </a:lnTo>
                  <a:lnTo>
                    <a:pt x="6388" y="668"/>
                  </a:lnTo>
                  <a:lnTo>
                    <a:pt x="6395" y="662"/>
                  </a:lnTo>
                  <a:lnTo>
                    <a:pt x="6401" y="654"/>
                  </a:lnTo>
                  <a:lnTo>
                    <a:pt x="6408" y="648"/>
                  </a:lnTo>
                  <a:lnTo>
                    <a:pt x="6413" y="640"/>
                  </a:lnTo>
                  <a:lnTo>
                    <a:pt x="6419" y="632"/>
                  </a:lnTo>
                  <a:lnTo>
                    <a:pt x="6424" y="624"/>
                  </a:lnTo>
                  <a:lnTo>
                    <a:pt x="6428" y="616"/>
                  </a:lnTo>
                  <a:lnTo>
                    <a:pt x="6432" y="608"/>
                  </a:lnTo>
                  <a:lnTo>
                    <a:pt x="6439" y="589"/>
                  </a:lnTo>
                  <a:lnTo>
                    <a:pt x="6441" y="581"/>
                  </a:lnTo>
                  <a:lnTo>
                    <a:pt x="6445" y="571"/>
                  </a:lnTo>
                  <a:lnTo>
                    <a:pt x="6447" y="561"/>
                  </a:lnTo>
                  <a:lnTo>
                    <a:pt x="6448" y="550"/>
                  </a:lnTo>
                  <a:lnTo>
                    <a:pt x="6449" y="541"/>
                  </a:lnTo>
                  <a:lnTo>
                    <a:pt x="6450" y="530"/>
                  </a:lnTo>
                  <a:lnTo>
                    <a:pt x="6451" y="519"/>
                  </a:lnTo>
                  <a:lnTo>
                    <a:pt x="6451" y="507"/>
                  </a:lnTo>
                  <a:close/>
                  <a:moveTo>
                    <a:pt x="7274" y="700"/>
                  </a:moveTo>
                  <a:lnTo>
                    <a:pt x="6968" y="0"/>
                  </a:lnTo>
                  <a:lnTo>
                    <a:pt x="6870" y="0"/>
                  </a:lnTo>
                  <a:lnTo>
                    <a:pt x="6565" y="700"/>
                  </a:lnTo>
                  <a:lnTo>
                    <a:pt x="6675" y="700"/>
                  </a:lnTo>
                  <a:lnTo>
                    <a:pt x="6747" y="521"/>
                  </a:lnTo>
                  <a:lnTo>
                    <a:pt x="7091" y="521"/>
                  </a:lnTo>
                  <a:lnTo>
                    <a:pt x="7163" y="700"/>
                  </a:lnTo>
                  <a:lnTo>
                    <a:pt x="7274" y="700"/>
                  </a:lnTo>
                  <a:close/>
                  <a:moveTo>
                    <a:pt x="7058" y="441"/>
                  </a:moveTo>
                  <a:lnTo>
                    <a:pt x="6781" y="441"/>
                  </a:lnTo>
                  <a:lnTo>
                    <a:pt x="6919" y="97"/>
                  </a:lnTo>
                  <a:lnTo>
                    <a:pt x="7058" y="441"/>
                  </a:lnTo>
                  <a:close/>
                </a:path>
              </a:pathLst>
            </a:custGeom>
            <a:solidFill>
              <a:srgbClr val="807f8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96" name="Picture 11" descr="SHORT_THL_LOGO_WEB_186x80px.jpg"/>
          <p:cNvPicPr/>
          <p:nvPr/>
        </p:nvPicPr>
        <p:blipFill>
          <a:blip r:embed="rId2"/>
          <a:srcRect l="0" t="9674" r="0" b="12828"/>
          <a:stretch/>
        </p:blipFill>
        <p:spPr>
          <a:xfrm>
            <a:off x="152280" y="5994360"/>
            <a:ext cx="1524240" cy="507960"/>
          </a:xfrm>
          <a:prstGeom prst="rect">
            <a:avLst/>
          </a:prstGeom>
          <a:ln w="0">
            <a:noFill/>
          </a:ln>
        </p:spPr>
      </p:pic>
      <p:sp>
        <p:nvSpPr>
          <p:cNvPr id="97"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bc143"/>
                </a:solidFill>
                <a:latin typeface="Arial"/>
              </a:rPr>
              <a:t>Click to edit the title text format</a:t>
            </a:r>
            <a:endParaRPr b="1" lang="en-US" sz="2800" spc="-1" strike="noStrike">
              <a:solidFill>
                <a:srgbClr val="7bc143"/>
              </a:solidFill>
              <a:latin typeface="Arial"/>
            </a:endParaRPr>
          </a:p>
        </p:txBody>
      </p:sp>
      <p:sp>
        <p:nvSpPr>
          <p:cNvPr id="98" name="PlaceHolder 2"/>
          <p:cNvSpPr>
            <a:spLocks noGrp="1"/>
          </p:cNvSpPr>
          <p:nvPr>
            <p:ph type="body"/>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625320" indent="-264960">
              <a:lnSpc>
                <a:spcPct val="9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00000" indent="-27468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165320" indent="-265320">
              <a:lnSpc>
                <a:spcPct val="9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430280" indent="-264960">
              <a:lnSpc>
                <a:spcPct val="9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430280" indent="-264960">
              <a:lnSpc>
                <a:spcPct val="9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430280" indent="-264960">
              <a:lnSpc>
                <a:spcPct val="9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99" name="PlaceHolder 3"/>
          <p:cNvSpPr>
            <a:spLocks noGrp="1"/>
          </p:cNvSpPr>
          <p:nvPr>
            <p:ph type="dt" idx="6"/>
          </p:nvPr>
        </p:nvSpPr>
        <p:spPr>
          <a:xfrm>
            <a:off x="456840" y="6589800"/>
            <a:ext cx="1090440" cy="2239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20636-3757-437C-9B59-8940EF924674}" type="datetime">
              <a:rPr b="0" lang="fi-FI" sz="1000" spc="-1" strike="noStrike">
                <a:solidFill>
                  <a:srgbClr val="ffffff"/>
                </a:solidFill>
                <a:latin typeface="Times New Roman"/>
              </a:rPr>
              <a:t>29.07.26</a:t>
            </a:fld>
            <a:endParaRPr b="0" lang="en-US" sz="1000" spc="-1" strike="noStrike">
              <a:solidFill>
                <a:srgbClr val="000000"/>
              </a:solidFill>
              <a:latin typeface="Times New Roman"/>
            </a:endParaRPr>
          </a:p>
        </p:txBody>
      </p:sp>
      <p:sp>
        <p:nvSpPr>
          <p:cNvPr id="100" name="PlaceHolder 4"/>
          <p:cNvSpPr>
            <a:spLocks noGrp="1"/>
          </p:cNvSpPr>
          <p:nvPr>
            <p:ph type="ftr" idx="7"/>
          </p:nvPr>
        </p:nvSpPr>
        <p:spPr>
          <a:xfrm>
            <a:off x="1258560" y="6597720"/>
            <a:ext cx="698508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5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Times New Roman"/>
              </a:rPr>
              <a:t>http://fi.opasnet.org/fi/Tiedosto:Ilmastopolitiikka_rakennukset_ja_terveys.ppt</a:t>
            </a:r>
            <a:endParaRPr b="0" lang="en-US" sz="1500" spc="-1" strike="noStrike">
              <a:solidFill>
                <a:srgbClr val="000000"/>
              </a:solidFill>
              <a:latin typeface="Times New Roman"/>
            </a:endParaRPr>
          </a:p>
        </p:txBody>
      </p:sp>
      <p:sp>
        <p:nvSpPr>
          <p:cNvPr id="101" name="PlaceHolder 5"/>
          <p:cNvSpPr>
            <a:spLocks noGrp="1"/>
          </p:cNvSpPr>
          <p:nvPr>
            <p:ph type="sldNum" idx="8"/>
          </p:nvPr>
        </p:nvSpPr>
        <p:spPr>
          <a:xfrm>
            <a:off x="7596360" y="6597720"/>
            <a:ext cx="107928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5DC6A-CF6D-49B7-9D68-4E7B4F2DA0D0}" type="slidenum">
              <a:rPr b="0" lang="fi-FI"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Rectangle 11"/>
          <p:cNvSpPr/>
          <p:nvPr/>
        </p:nvSpPr>
        <p:spPr>
          <a:xfrm>
            <a:off x="0" y="6561000"/>
            <a:ext cx="9144000" cy="297000"/>
          </a:xfrm>
          <a:prstGeom prst="rect">
            <a:avLst/>
          </a:prstGeom>
          <a:solidFill>
            <a:srgbClr val="7bc14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9" name="Group 29"/>
          <p:cNvGrpSpPr/>
          <p:nvPr/>
        </p:nvGrpSpPr>
        <p:grpSpPr>
          <a:xfrm>
            <a:off x="5867280" y="6324480"/>
            <a:ext cx="2773440" cy="104760"/>
            <a:chOff x="5867280" y="6324480"/>
            <a:chExt cx="2773440" cy="104760"/>
          </a:xfrm>
        </p:grpSpPr>
        <p:sp>
          <p:nvSpPr>
            <p:cNvPr id="140" name="Freeform 27"/>
            <p:cNvSpPr/>
            <p:nvPr/>
          </p:nvSpPr>
          <p:spPr>
            <a:xfrm>
              <a:off x="6978600" y="6324480"/>
              <a:ext cx="1662120" cy="104760"/>
            </a:xfrm>
            <a:custGeom>
              <a:avLst/>
              <a:gdLst>
                <a:gd name="textAreaLeft" fmla="*/ 0 w 1662120"/>
                <a:gd name="textAreaRight" fmla="*/ 1662480 w 1662120"/>
                <a:gd name="textAreaTop" fmla="*/ 0 h 104760"/>
                <a:gd name="textAreaBottom" fmla="*/ 105120 h 104760"/>
              </a:gdLst>
              <a:ahLst/>
              <a:rect l="textAreaLeft" t="textAreaTop" r="textAreaRight" b="textAreaBottom"/>
              <a:pathLst>
                <a:path w="11514" h="728">
                  <a:moveTo>
                    <a:pt x="545" y="715"/>
                  </a:moveTo>
                  <a:lnTo>
                    <a:pt x="545" y="15"/>
                  </a:lnTo>
                  <a:lnTo>
                    <a:pt x="441" y="15"/>
                  </a:lnTo>
                  <a:lnTo>
                    <a:pt x="441" y="301"/>
                  </a:lnTo>
                  <a:lnTo>
                    <a:pt x="102" y="301"/>
                  </a:lnTo>
                  <a:lnTo>
                    <a:pt x="102" y="15"/>
                  </a:lnTo>
                  <a:lnTo>
                    <a:pt x="0" y="15"/>
                  </a:lnTo>
                  <a:lnTo>
                    <a:pt x="0" y="715"/>
                  </a:lnTo>
                  <a:lnTo>
                    <a:pt x="102" y="715"/>
                  </a:lnTo>
                  <a:lnTo>
                    <a:pt x="102" y="391"/>
                  </a:lnTo>
                  <a:lnTo>
                    <a:pt x="441" y="391"/>
                  </a:lnTo>
                  <a:lnTo>
                    <a:pt x="441" y="715"/>
                  </a:lnTo>
                  <a:lnTo>
                    <a:pt x="545" y="715"/>
                  </a:lnTo>
                  <a:close/>
                  <a:moveTo>
                    <a:pt x="1316" y="15"/>
                  </a:moveTo>
                  <a:lnTo>
                    <a:pt x="1199" y="15"/>
                  </a:lnTo>
                  <a:lnTo>
                    <a:pt x="988" y="328"/>
                  </a:lnTo>
                  <a:lnTo>
                    <a:pt x="779" y="15"/>
                  </a:lnTo>
                  <a:lnTo>
                    <a:pt x="661" y="15"/>
                  </a:lnTo>
                  <a:lnTo>
                    <a:pt x="936" y="427"/>
                  </a:lnTo>
                  <a:lnTo>
                    <a:pt x="936" y="715"/>
                  </a:lnTo>
                  <a:lnTo>
                    <a:pt x="1039" y="715"/>
                  </a:lnTo>
                  <a:lnTo>
                    <a:pt x="1039" y="427"/>
                  </a:lnTo>
                  <a:lnTo>
                    <a:pt x="1316" y="15"/>
                  </a:lnTo>
                  <a:close/>
                  <a:moveTo>
                    <a:pt x="2035" y="15"/>
                  </a:moveTo>
                  <a:lnTo>
                    <a:pt x="1926" y="15"/>
                  </a:lnTo>
                  <a:lnTo>
                    <a:pt x="1710" y="610"/>
                  </a:lnTo>
                  <a:lnTo>
                    <a:pt x="1496" y="15"/>
                  </a:lnTo>
                  <a:lnTo>
                    <a:pt x="1384" y="15"/>
                  </a:lnTo>
                  <a:lnTo>
                    <a:pt x="1642" y="715"/>
                  </a:lnTo>
                  <a:lnTo>
                    <a:pt x="1780" y="715"/>
                  </a:lnTo>
                  <a:lnTo>
                    <a:pt x="2035" y="15"/>
                  </a:lnTo>
                  <a:close/>
                  <a:moveTo>
                    <a:pt x="2305" y="715"/>
                  </a:moveTo>
                  <a:lnTo>
                    <a:pt x="2305" y="15"/>
                  </a:lnTo>
                  <a:lnTo>
                    <a:pt x="2203" y="15"/>
                  </a:lnTo>
                  <a:lnTo>
                    <a:pt x="2203" y="715"/>
                  </a:lnTo>
                  <a:lnTo>
                    <a:pt x="2305" y="715"/>
                  </a:lnTo>
                  <a:close/>
                  <a:moveTo>
                    <a:pt x="3101" y="715"/>
                  </a:moveTo>
                  <a:lnTo>
                    <a:pt x="3101" y="15"/>
                  </a:lnTo>
                  <a:lnTo>
                    <a:pt x="2998" y="15"/>
                  </a:lnTo>
                  <a:lnTo>
                    <a:pt x="2998" y="575"/>
                  </a:lnTo>
                  <a:lnTo>
                    <a:pt x="2993" y="575"/>
                  </a:lnTo>
                  <a:lnTo>
                    <a:pt x="2689" y="15"/>
                  </a:lnTo>
                  <a:lnTo>
                    <a:pt x="2556" y="15"/>
                  </a:lnTo>
                  <a:lnTo>
                    <a:pt x="2556" y="715"/>
                  </a:lnTo>
                  <a:lnTo>
                    <a:pt x="2658" y="715"/>
                  </a:lnTo>
                  <a:lnTo>
                    <a:pt x="2658" y="153"/>
                  </a:lnTo>
                  <a:lnTo>
                    <a:pt x="2662" y="153"/>
                  </a:lnTo>
                  <a:lnTo>
                    <a:pt x="2968" y="715"/>
                  </a:lnTo>
                  <a:lnTo>
                    <a:pt x="3101" y="715"/>
                  </a:lnTo>
                  <a:close/>
                  <a:moveTo>
                    <a:pt x="3886" y="15"/>
                  </a:moveTo>
                  <a:lnTo>
                    <a:pt x="3776" y="15"/>
                  </a:lnTo>
                  <a:lnTo>
                    <a:pt x="3562" y="610"/>
                  </a:lnTo>
                  <a:lnTo>
                    <a:pt x="3348" y="15"/>
                  </a:lnTo>
                  <a:lnTo>
                    <a:pt x="3235" y="15"/>
                  </a:lnTo>
                  <a:lnTo>
                    <a:pt x="3494" y="715"/>
                  </a:lnTo>
                  <a:lnTo>
                    <a:pt x="3630" y="715"/>
                  </a:lnTo>
                  <a:lnTo>
                    <a:pt x="3886" y="15"/>
                  </a:lnTo>
                  <a:close/>
                  <a:moveTo>
                    <a:pt x="4643" y="365"/>
                  </a:moveTo>
                  <a:lnTo>
                    <a:pt x="4642" y="326"/>
                  </a:lnTo>
                  <a:lnTo>
                    <a:pt x="4638" y="290"/>
                  </a:lnTo>
                  <a:lnTo>
                    <a:pt x="4631" y="255"/>
                  </a:lnTo>
                  <a:lnTo>
                    <a:pt x="4621" y="222"/>
                  </a:lnTo>
                  <a:lnTo>
                    <a:pt x="4609" y="191"/>
                  </a:lnTo>
                  <a:lnTo>
                    <a:pt x="4594" y="161"/>
                  </a:lnTo>
                  <a:lnTo>
                    <a:pt x="4577" y="134"/>
                  </a:lnTo>
                  <a:lnTo>
                    <a:pt x="4558" y="108"/>
                  </a:lnTo>
                  <a:lnTo>
                    <a:pt x="4534" y="83"/>
                  </a:lnTo>
                  <a:lnTo>
                    <a:pt x="4507" y="61"/>
                  </a:lnTo>
                  <a:lnTo>
                    <a:pt x="4479" y="43"/>
                  </a:lnTo>
                  <a:lnTo>
                    <a:pt x="4448" y="28"/>
                  </a:lnTo>
                  <a:lnTo>
                    <a:pt x="4416" y="17"/>
                  </a:lnTo>
                  <a:lnTo>
                    <a:pt x="4382" y="8"/>
                  </a:lnTo>
                  <a:lnTo>
                    <a:pt x="4346" y="3"/>
                  </a:lnTo>
                  <a:lnTo>
                    <a:pt x="4307" y="2"/>
                  </a:lnTo>
                  <a:lnTo>
                    <a:pt x="4268" y="3"/>
                  </a:lnTo>
                  <a:lnTo>
                    <a:pt x="4231" y="8"/>
                  </a:lnTo>
                  <a:lnTo>
                    <a:pt x="4197" y="17"/>
                  </a:lnTo>
                  <a:lnTo>
                    <a:pt x="4164" y="28"/>
                  </a:lnTo>
                  <a:lnTo>
                    <a:pt x="4134" y="43"/>
                  </a:lnTo>
                  <a:lnTo>
                    <a:pt x="4106" y="61"/>
                  </a:lnTo>
                  <a:lnTo>
                    <a:pt x="4080" y="83"/>
                  </a:lnTo>
                  <a:lnTo>
                    <a:pt x="4056" y="108"/>
                  </a:lnTo>
                  <a:lnTo>
                    <a:pt x="4037" y="133"/>
                  </a:lnTo>
                  <a:lnTo>
                    <a:pt x="4019" y="161"/>
                  </a:lnTo>
                  <a:lnTo>
                    <a:pt x="4004" y="190"/>
                  </a:lnTo>
                  <a:lnTo>
                    <a:pt x="3992" y="221"/>
                  </a:lnTo>
                  <a:lnTo>
                    <a:pt x="3984" y="255"/>
                  </a:lnTo>
                  <a:lnTo>
                    <a:pt x="3977" y="289"/>
                  </a:lnTo>
                  <a:lnTo>
                    <a:pt x="3973" y="326"/>
                  </a:lnTo>
                  <a:lnTo>
                    <a:pt x="3972" y="365"/>
                  </a:lnTo>
                  <a:lnTo>
                    <a:pt x="3973" y="404"/>
                  </a:lnTo>
                  <a:lnTo>
                    <a:pt x="3977" y="441"/>
                  </a:lnTo>
                  <a:lnTo>
                    <a:pt x="3984" y="475"/>
                  </a:lnTo>
                  <a:lnTo>
                    <a:pt x="3993" y="509"/>
                  </a:lnTo>
                  <a:lnTo>
                    <a:pt x="4005" y="539"/>
                  </a:lnTo>
                  <a:lnTo>
                    <a:pt x="4019" y="568"/>
                  </a:lnTo>
                  <a:lnTo>
                    <a:pt x="4037" y="596"/>
                  </a:lnTo>
                  <a:lnTo>
                    <a:pt x="4056" y="621"/>
                  </a:lnTo>
                  <a:lnTo>
                    <a:pt x="4080" y="647"/>
                  </a:lnTo>
                  <a:lnTo>
                    <a:pt x="4106" y="669"/>
                  </a:lnTo>
                  <a:lnTo>
                    <a:pt x="4134" y="687"/>
                  </a:lnTo>
                  <a:lnTo>
                    <a:pt x="4164" y="701"/>
                  </a:lnTo>
                  <a:lnTo>
                    <a:pt x="4197" y="713"/>
                  </a:lnTo>
                  <a:lnTo>
                    <a:pt x="4231" y="722"/>
                  </a:lnTo>
                  <a:lnTo>
                    <a:pt x="4268" y="726"/>
                  </a:lnTo>
                  <a:lnTo>
                    <a:pt x="4307" y="728"/>
                  </a:lnTo>
                  <a:lnTo>
                    <a:pt x="4346" y="726"/>
                  </a:lnTo>
                  <a:lnTo>
                    <a:pt x="4382" y="722"/>
                  </a:lnTo>
                  <a:lnTo>
                    <a:pt x="4416" y="713"/>
                  </a:lnTo>
                  <a:lnTo>
                    <a:pt x="4448" y="701"/>
                  </a:lnTo>
                  <a:lnTo>
                    <a:pt x="4479" y="687"/>
                  </a:lnTo>
                  <a:lnTo>
                    <a:pt x="4507" y="669"/>
                  </a:lnTo>
                  <a:lnTo>
                    <a:pt x="4534" y="647"/>
                  </a:lnTo>
                  <a:lnTo>
                    <a:pt x="4558" y="621"/>
                  </a:lnTo>
                  <a:lnTo>
                    <a:pt x="4577" y="595"/>
                  </a:lnTo>
                  <a:lnTo>
                    <a:pt x="4594" y="568"/>
                  </a:lnTo>
                  <a:lnTo>
                    <a:pt x="4609" y="539"/>
                  </a:lnTo>
                  <a:lnTo>
                    <a:pt x="4621" y="508"/>
                  </a:lnTo>
                  <a:lnTo>
                    <a:pt x="4631" y="475"/>
                  </a:lnTo>
                  <a:lnTo>
                    <a:pt x="4638" y="441"/>
                  </a:lnTo>
                  <a:lnTo>
                    <a:pt x="4642" y="404"/>
                  </a:lnTo>
                  <a:lnTo>
                    <a:pt x="4643" y="365"/>
                  </a:lnTo>
                  <a:close/>
                  <a:moveTo>
                    <a:pt x="4537" y="365"/>
                  </a:moveTo>
                  <a:lnTo>
                    <a:pt x="4536" y="394"/>
                  </a:lnTo>
                  <a:lnTo>
                    <a:pt x="4534" y="422"/>
                  </a:lnTo>
                  <a:lnTo>
                    <a:pt x="4528" y="448"/>
                  </a:lnTo>
                  <a:lnTo>
                    <a:pt x="4522" y="473"/>
                  </a:lnTo>
                  <a:lnTo>
                    <a:pt x="4514" y="497"/>
                  </a:lnTo>
                  <a:lnTo>
                    <a:pt x="4504" y="519"/>
                  </a:lnTo>
                  <a:lnTo>
                    <a:pt x="4492" y="540"/>
                  </a:lnTo>
                  <a:lnTo>
                    <a:pt x="4477" y="561"/>
                  </a:lnTo>
                  <a:lnTo>
                    <a:pt x="4460" y="579"/>
                  </a:lnTo>
                  <a:lnTo>
                    <a:pt x="4443" y="594"/>
                  </a:lnTo>
                  <a:lnTo>
                    <a:pt x="4424" y="608"/>
                  </a:lnTo>
                  <a:lnTo>
                    <a:pt x="4403" y="619"/>
                  </a:lnTo>
                  <a:lnTo>
                    <a:pt x="4381" y="628"/>
                  </a:lnTo>
                  <a:lnTo>
                    <a:pt x="4358" y="634"/>
                  </a:lnTo>
                  <a:lnTo>
                    <a:pt x="4333" y="637"/>
                  </a:lnTo>
                  <a:lnTo>
                    <a:pt x="4307" y="638"/>
                  </a:lnTo>
                  <a:lnTo>
                    <a:pt x="4281" y="637"/>
                  </a:lnTo>
                  <a:lnTo>
                    <a:pt x="4256" y="634"/>
                  </a:lnTo>
                  <a:lnTo>
                    <a:pt x="4232" y="628"/>
                  </a:lnTo>
                  <a:lnTo>
                    <a:pt x="4211" y="619"/>
                  </a:lnTo>
                  <a:lnTo>
                    <a:pt x="4190" y="608"/>
                  </a:lnTo>
                  <a:lnTo>
                    <a:pt x="4171" y="594"/>
                  </a:lnTo>
                  <a:lnTo>
                    <a:pt x="4153" y="579"/>
                  </a:lnTo>
                  <a:lnTo>
                    <a:pt x="4137" y="561"/>
                  </a:lnTo>
                  <a:lnTo>
                    <a:pt x="4122" y="540"/>
                  </a:lnTo>
                  <a:lnTo>
                    <a:pt x="4110" y="519"/>
                  </a:lnTo>
                  <a:lnTo>
                    <a:pt x="4099" y="497"/>
                  </a:lnTo>
                  <a:lnTo>
                    <a:pt x="4091" y="473"/>
                  </a:lnTo>
                  <a:lnTo>
                    <a:pt x="4084" y="448"/>
                  </a:lnTo>
                  <a:lnTo>
                    <a:pt x="4079" y="422"/>
                  </a:lnTo>
                  <a:lnTo>
                    <a:pt x="4077" y="394"/>
                  </a:lnTo>
                  <a:lnTo>
                    <a:pt x="4076" y="365"/>
                  </a:lnTo>
                  <a:lnTo>
                    <a:pt x="4077" y="336"/>
                  </a:lnTo>
                  <a:lnTo>
                    <a:pt x="4079" y="309"/>
                  </a:lnTo>
                  <a:lnTo>
                    <a:pt x="4084" y="282"/>
                  </a:lnTo>
                  <a:lnTo>
                    <a:pt x="4091" y="257"/>
                  </a:lnTo>
                  <a:lnTo>
                    <a:pt x="4099" y="233"/>
                  </a:lnTo>
                  <a:lnTo>
                    <a:pt x="4110" y="212"/>
                  </a:lnTo>
                  <a:lnTo>
                    <a:pt x="4122" y="190"/>
                  </a:lnTo>
                  <a:lnTo>
                    <a:pt x="4137" y="171"/>
                  </a:lnTo>
                  <a:lnTo>
                    <a:pt x="4153" y="152"/>
                  </a:lnTo>
                  <a:lnTo>
                    <a:pt x="4172" y="136"/>
                  </a:lnTo>
                  <a:lnTo>
                    <a:pt x="4190" y="122"/>
                  </a:lnTo>
                  <a:lnTo>
                    <a:pt x="4211" y="111"/>
                  </a:lnTo>
                  <a:lnTo>
                    <a:pt x="4233" y="102"/>
                  </a:lnTo>
                  <a:lnTo>
                    <a:pt x="4256" y="96"/>
                  </a:lnTo>
                  <a:lnTo>
                    <a:pt x="4281" y="93"/>
                  </a:lnTo>
                  <a:lnTo>
                    <a:pt x="4307" y="92"/>
                  </a:lnTo>
                  <a:lnTo>
                    <a:pt x="4333" y="93"/>
                  </a:lnTo>
                  <a:lnTo>
                    <a:pt x="4358" y="96"/>
                  </a:lnTo>
                  <a:lnTo>
                    <a:pt x="4380" y="102"/>
                  </a:lnTo>
                  <a:lnTo>
                    <a:pt x="4402" y="111"/>
                  </a:lnTo>
                  <a:lnTo>
                    <a:pt x="4422" y="122"/>
                  </a:lnTo>
                  <a:lnTo>
                    <a:pt x="4442" y="136"/>
                  </a:lnTo>
                  <a:lnTo>
                    <a:pt x="4460" y="152"/>
                  </a:lnTo>
                  <a:lnTo>
                    <a:pt x="4477" y="171"/>
                  </a:lnTo>
                  <a:lnTo>
                    <a:pt x="4492" y="190"/>
                  </a:lnTo>
                  <a:lnTo>
                    <a:pt x="4504" y="212"/>
                  </a:lnTo>
                  <a:lnTo>
                    <a:pt x="4514" y="233"/>
                  </a:lnTo>
                  <a:lnTo>
                    <a:pt x="4522" y="257"/>
                  </a:lnTo>
                  <a:lnTo>
                    <a:pt x="4528" y="282"/>
                  </a:lnTo>
                  <a:lnTo>
                    <a:pt x="4534" y="309"/>
                  </a:lnTo>
                  <a:lnTo>
                    <a:pt x="4536" y="336"/>
                  </a:lnTo>
                  <a:lnTo>
                    <a:pt x="4537" y="365"/>
                  </a:lnTo>
                  <a:close/>
                  <a:moveTo>
                    <a:pt x="4939" y="715"/>
                  </a:moveTo>
                  <a:lnTo>
                    <a:pt x="4939" y="15"/>
                  </a:lnTo>
                  <a:lnTo>
                    <a:pt x="4838" y="15"/>
                  </a:lnTo>
                  <a:lnTo>
                    <a:pt x="4838" y="715"/>
                  </a:lnTo>
                  <a:lnTo>
                    <a:pt x="4939" y="715"/>
                  </a:lnTo>
                  <a:close/>
                  <a:moveTo>
                    <a:pt x="5734" y="715"/>
                  </a:moveTo>
                  <a:lnTo>
                    <a:pt x="5734" y="15"/>
                  </a:lnTo>
                  <a:lnTo>
                    <a:pt x="5631" y="15"/>
                  </a:lnTo>
                  <a:lnTo>
                    <a:pt x="5631" y="575"/>
                  </a:lnTo>
                  <a:lnTo>
                    <a:pt x="5627" y="575"/>
                  </a:lnTo>
                  <a:lnTo>
                    <a:pt x="5322" y="15"/>
                  </a:lnTo>
                  <a:lnTo>
                    <a:pt x="5189" y="15"/>
                  </a:lnTo>
                  <a:lnTo>
                    <a:pt x="5189" y="715"/>
                  </a:lnTo>
                  <a:lnTo>
                    <a:pt x="5292" y="715"/>
                  </a:lnTo>
                  <a:lnTo>
                    <a:pt x="5292" y="153"/>
                  </a:lnTo>
                  <a:lnTo>
                    <a:pt x="5295" y="153"/>
                  </a:lnTo>
                  <a:lnTo>
                    <a:pt x="5601" y="715"/>
                  </a:lnTo>
                  <a:lnTo>
                    <a:pt x="5734" y="715"/>
                  </a:lnTo>
                  <a:close/>
                  <a:moveTo>
                    <a:pt x="6496" y="715"/>
                  </a:moveTo>
                  <a:lnTo>
                    <a:pt x="6496" y="15"/>
                  </a:lnTo>
                  <a:lnTo>
                    <a:pt x="6393" y="15"/>
                  </a:lnTo>
                  <a:lnTo>
                    <a:pt x="6393" y="575"/>
                  </a:lnTo>
                  <a:lnTo>
                    <a:pt x="6390" y="575"/>
                  </a:lnTo>
                  <a:lnTo>
                    <a:pt x="6085" y="15"/>
                  </a:lnTo>
                  <a:lnTo>
                    <a:pt x="5952" y="15"/>
                  </a:lnTo>
                  <a:lnTo>
                    <a:pt x="5952" y="715"/>
                  </a:lnTo>
                  <a:lnTo>
                    <a:pt x="6055" y="715"/>
                  </a:lnTo>
                  <a:lnTo>
                    <a:pt x="6055" y="153"/>
                  </a:lnTo>
                  <a:lnTo>
                    <a:pt x="6057" y="153"/>
                  </a:lnTo>
                  <a:lnTo>
                    <a:pt x="6363" y="715"/>
                  </a:lnTo>
                  <a:lnTo>
                    <a:pt x="6496" y="715"/>
                  </a:lnTo>
                  <a:close/>
                  <a:moveTo>
                    <a:pt x="6829" y="715"/>
                  </a:moveTo>
                  <a:lnTo>
                    <a:pt x="6829" y="15"/>
                  </a:lnTo>
                  <a:lnTo>
                    <a:pt x="6727" y="15"/>
                  </a:lnTo>
                  <a:lnTo>
                    <a:pt x="6727" y="715"/>
                  </a:lnTo>
                  <a:lnTo>
                    <a:pt x="6829" y="715"/>
                  </a:lnTo>
                  <a:close/>
                  <a:moveTo>
                    <a:pt x="7590" y="715"/>
                  </a:moveTo>
                  <a:lnTo>
                    <a:pt x="7590" y="15"/>
                  </a:lnTo>
                  <a:lnTo>
                    <a:pt x="7487" y="15"/>
                  </a:lnTo>
                  <a:lnTo>
                    <a:pt x="7487" y="575"/>
                  </a:lnTo>
                  <a:lnTo>
                    <a:pt x="7483" y="575"/>
                  </a:lnTo>
                  <a:lnTo>
                    <a:pt x="7178" y="15"/>
                  </a:lnTo>
                  <a:lnTo>
                    <a:pt x="7045" y="15"/>
                  </a:lnTo>
                  <a:lnTo>
                    <a:pt x="7045" y="715"/>
                  </a:lnTo>
                  <a:lnTo>
                    <a:pt x="7148" y="715"/>
                  </a:lnTo>
                  <a:lnTo>
                    <a:pt x="7148" y="153"/>
                  </a:lnTo>
                  <a:lnTo>
                    <a:pt x="7151" y="153"/>
                  </a:lnTo>
                  <a:lnTo>
                    <a:pt x="7457" y="715"/>
                  </a:lnTo>
                  <a:lnTo>
                    <a:pt x="7590" y="715"/>
                  </a:lnTo>
                  <a:close/>
                  <a:moveTo>
                    <a:pt x="8516" y="715"/>
                  </a:moveTo>
                  <a:lnTo>
                    <a:pt x="8516" y="625"/>
                  </a:lnTo>
                  <a:lnTo>
                    <a:pt x="8228" y="625"/>
                  </a:lnTo>
                  <a:lnTo>
                    <a:pt x="8228" y="15"/>
                  </a:lnTo>
                  <a:lnTo>
                    <a:pt x="8127" y="15"/>
                  </a:lnTo>
                  <a:lnTo>
                    <a:pt x="8127" y="715"/>
                  </a:lnTo>
                  <a:lnTo>
                    <a:pt x="8516" y="715"/>
                  </a:lnTo>
                  <a:close/>
                  <a:moveTo>
                    <a:pt x="9326" y="715"/>
                  </a:moveTo>
                  <a:lnTo>
                    <a:pt x="9020" y="15"/>
                  </a:lnTo>
                  <a:lnTo>
                    <a:pt x="8922" y="15"/>
                  </a:lnTo>
                  <a:lnTo>
                    <a:pt x="8617" y="715"/>
                  </a:lnTo>
                  <a:lnTo>
                    <a:pt x="8727" y="715"/>
                  </a:lnTo>
                  <a:lnTo>
                    <a:pt x="8799" y="536"/>
                  </a:lnTo>
                  <a:lnTo>
                    <a:pt x="9142" y="536"/>
                  </a:lnTo>
                  <a:lnTo>
                    <a:pt x="9216" y="715"/>
                  </a:lnTo>
                  <a:lnTo>
                    <a:pt x="9326" y="715"/>
                  </a:lnTo>
                  <a:close/>
                  <a:moveTo>
                    <a:pt x="9110" y="456"/>
                  </a:moveTo>
                  <a:lnTo>
                    <a:pt x="8833" y="456"/>
                  </a:lnTo>
                  <a:lnTo>
                    <a:pt x="8971" y="111"/>
                  </a:lnTo>
                  <a:lnTo>
                    <a:pt x="9110" y="456"/>
                  </a:lnTo>
                  <a:close/>
                  <a:moveTo>
                    <a:pt x="9559" y="715"/>
                  </a:moveTo>
                  <a:lnTo>
                    <a:pt x="9559" y="15"/>
                  </a:lnTo>
                  <a:lnTo>
                    <a:pt x="9457" y="15"/>
                  </a:lnTo>
                  <a:lnTo>
                    <a:pt x="9457" y="715"/>
                  </a:lnTo>
                  <a:lnTo>
                    <a:pt x="9559" y="715"/>
                  </a:lnTo>
                  <a:close/>
                  <a:moveTo>
                    <a:pt x="10228" y="102"/>
                  </a:moveTo>
                  <a:lnTo>
                    <a:pt x="10228" y="15"/>
                  </a:lnTo>
                  <a:lnTo>
                    <a:pt x="9699" y="15"/>
                  </a:lnTo>
                  <a:lnTo>
                    <a:pt x="9699" y="102"/>
                  </a:lnTo>
                  <a:lnTo>
                    <a:pt x="9913" y="102"/>
                  </a:lnTo>
                  <a:lnTo>
                    <a:pt x="9913" y="715"/>
                  </a:lnTo>
                  <a:lnTo>
                    <a:pt x="10015" y="715"/>
                  </a:lnTo>
                  <a:lnTo>
                    <a:pt x="10015" y="102"/>
                  </a:lnTo>
                  <a:lnTo>
                    <a:pt x="10228" y="102"/>
                  </a:lnTo>
                  <a:close/>
                  <a:moveTo>
                    <a:pt x="10971" y="365"/>
                  </a:moveTo>
                  <a:lnTo>
                    <a:pt x="10970" y="326"/>
                  </a:lnTo>
                  <a:lnTo>
                    <a:pt x="10965" y="290"/>
                  </a:lnTo>
                  <a:lnTo>
                    <a:pt x="10959" y="255"/>
                  </a:lnTo>
                  <a:lnTo>
                    <a:pt x="10949" y="222"/>
                  </a:lnTo>
                  <a:lnTo>
                    <a:pt x="10937" y="191"/>
                  </a:lnTo>
                  <a:lnTo>
                    <a:pt x="10922" y="161"/>
                  </a:lnTo>
                  <a:lnTo>
                    <a:pt x="10906" y="134"/>
                  </a:lnTo>
                  <a:lnTo>
                    <a:pt x="10885" y="108"/>
                  </a:lnTo>
                  <a:lnTo>
                    <a:pt x="10862" y="83"/>
                  </a:lnTo>
                  <a:lnTo>
                    <a:pt x="10836" y="61"/>
                  </a:lnTo>
                  <a:lnTo>
                    <a:pt x="10808" y="43"/>
                  </a:lnTo>
                  <a:lnTo>
                    <a:pt x="10777" y="28"/>
                  </a:lnTo>
                  <a:lnTo>
                    <a:pt x="10745" y="17"/>
                  </a:lnTo>
                  <a:lnTo>
                    <a:pt x="10710" y="8"/>
                  </a:lnTo>
                  <a:lnTo>
                    <a:pt x="10674" y="3"/>
                  </a:lnTo>
                  <a:lnTo>
                    <a:pt x="10635" y="2"/>
                  </a:lnTo>
                  <a:lnTo>
                    <a:pt x="10596" y="3"/>
                  </a:lnTo>
                  <a:lnTo>
                    <a:pt x="10559" y="8"/>
                  </a:lnTo>
                  <a:lnTo>
                    <a:pt x="10524" y="17"/>
                  </a:lnTo>
                  <a:lnTo>
                    <a:pt x="10492" y="28"/>
                  </a:lnTo>
                  <a:lnTo>
                    <a:pt x="10462" y="43"/>
                  </a:lnTo>
                  <a:lnTo>
                    <a:pt x="10434" y="61"/>
                  </a:lnTo>
                  <a:lnTo>
                    <a:pt x="10408" y="83"/>
                  </a:lnTo>
                  <a:lnTo>
                    <a:pt x="10384" y="108"/>
                  </a:lnTo>
                  <a:lnTo>
                    <a:pt x="10364" y="133"/>
                  </a:lnTo>
                  <a:lnTo>
                    <a:pt x="10347" y="161"/>
                  </a:lnTo>
                  <a:lnTo>
                    <a:pt x="10332" y="190"/>
                  </a:lnTo>
                  <a:lnTo>
                    <a:pt x="10320" y="221"/>
                  </a:lnTo>
                  <a:lnTo>
                    <a:pt x="10311" y="255"/>
                  </a:lnTo>
                  <a:lnTo>
                    <a:pt x="10305" y="289"/>
                  </a:lnTo>
                  <a:lnTo>
                    <a:pt x="10301" y="326"/>
                  </a:lnTo>
                  <a:lnTo>
                    <a:pt x="10300" y="365"/>
                  </a:lnTo>
                  <a:lnTo>
                    <a:pt x="10301" y="404"/>
                  </a:lnTo>
                  <a:lnTo>
                    <a:pt x="10305" y="441"/>
                  </a:lnTo>
                  <a:lnTo>
                    <a:pt x="10311" y="475"/>
                  </a:lnTo>
                  <a:lnTo>
                    <a:pt x="10321" y="509"/>
                  </a:lnTo>
                  <a:lnTo>
                    <a:pt x="10333" y="539"/>
                  </a:lnTo>
                  <a:lnTo>
                    <a:pt x="10347" y="568"/>
                  </a:lnTo>
                  <a:lnTo>
                    <a:pt x="10364" y="596"/>
                  </a:lnTo>
                  <a:lnTo>
                    <a:pt x="10384" y="621"/>
                  </a:lnTo>
                  <a:lnTo>
                    <a:pt x="10408" y="647"/>
                  </a:lnTo>
                  <a:lnTo>
                    <a:pt x="10434" y="669"/>
                  </a:lnTo>
                  <a:lnTo>
                    <a:pt x="10462" y="687"/>
                  </a:lnTo>
                  <a:lnTo>
                    <a:pt x="10492" y="701"/>
                  </a:lnTo>
                  <a:lnTo>
                    <a:pt x="10524" y="713"/>
                  </a:lnTo>
                  <a:lnTo>
                    <a:pt x="10559" y="722"/>
                  </a:lnTo>
                  <a:lnTo>
                    <a:pt x="10596" y="726"/>
                  </a:lnTo>
                  <a:lnTo>
                    <a:pt x="10635" y="728"/>
                  </a:lnTo>
                  <a:lnTo>
                    <a:pt x="10674" y="726"/>
                  </a:lnTo>
                  <a:lnTo>
                    <a:pt x="10710" y="722"/>
                  </a:lnTo>
                  <a:lnTo>
                    <a:pt x="10745" y="713"/>
                  </a:lnTo>
                  <a:lnTo>
                    <a:pt x="10777" y="701"/>
                  </a:lnTo>
                  <a:lnTo>
                    <a:pt x="10808" y="687"/>
                  </a:lnTo>
                  <a:lnTo>
                    <a:pt x="10836" y="669"/>
                  </a:lnTo>
                  <a:lnTo>
                    <a:pt x="10862" y="647"/>
                  </a:lnTo>
                  <a:lnTo>
                    <a:pt x="10885" y="621"/>
                  </a:lnTo>
                  <a:lnTo>
                    <a:pt x="10906" y="595"/>
                  </a:lnTo>
                  <a:lnTo>
                    <a:pt x="10922" y="568"/>
                  </a:lnTo>
                  <a:lnTo>
                    <a:pt x="10937" y="539"/>
                  </a:lnTo>
                  <a:lnTo>
                    <a:pt x="10949" y="508"/>
                  </a:lnTo>
                  <a:lnTo>
                    <a:pt x="10959" y="475"/>
                  </a:lnTo>
                  <a:lnTo>
                    <a:pt x="10965" y="441"/>
                  </a:lnTo>
                  <a:lnTo>
                    <a:pt x="10970" y="404"/>
                  </a:lnTo>
                  <a:lnTo>
                    <a:pt x="10971" y="365"/>
                  </a:lnTo>
                  <a:close/>
                  <a:moveTo>
                    <a:pt x="10866" y="365"/>
                  </a:moveTo>
                  <a:lnTo>
                    <a:pt x="10865" y="394"/>
                  </a:lnTo>
                  <a:lnTo>
                    <a:pt x="10862" y="422"/>
                  </a:lnTo>
                  <a:lnTo>
                    <a:pt x="10857" y="448"/>
                  </a:lnTo>
                  <a:lnTo>
                    <a:pt x="10851" y="473"/>
                  </a:lnTo>
                  <a:lnTo>
                    <a:pt x="10842" y="497"/>
                  </a:lnTo>
                  <a:lnTo>
                    <a:pt x="10831" y="519"/>
                  </a:lnTo>
                  <a:lnTo>
                    <a:pt x="10819" y="540"/>
                  </a:lnTo>
                  <a:lnTo>
                    <a:pt x="10805" y="561"/>
                  </a:lnTo>
                  <a:lnTo>
                    <a:pt x="10788" y="579"/>
                  </a:lnTo>
                  <a:lnTo>
                    <a:pt x="10771" y="594"/>
                  </a:lnTo>
                  <a:lnTo>
                    <a:pt x="10751" y="608"/>
                  </a:lnTo>
                  <a:lnTo>
                    <a:pt x="10731" y="619"/>
                  </a:lnTo>
                  <a:lnTo>
                    <a:pt x="10709" y="628"/>
                  </a:lnTo>
                  <a:lnTo>
                    <a:pt x="10685" y="634"/>
                  </a:lnTo>
                  <a:lnTo>
                    <a:pt x="10661" y="637"/>
                  </a:lnTo>
                  <a:lnTo>
                    <a:pt x="10635" y="638"/>
                  </a:lnTo>
                  <a:lnTo>
                    <a:pt x="10609" y="637"/>
                  </a:lnTo>
                  <a:lnTo>
                    <a:pt x="10584" y="634"/>
                  </a:lnTo>
                  <a:lnTo>
                    <a:pt x="10561" y="628"/>
                  </a:lnTo>
                  <a:lnTo>
                    <a:pt x="10538" y="619"/>
                  </a:lnTo>
                  <a:lnTo>
                    <a:pt x="10518" y="608"/>
                  </a:lnTo>
                  <a:lnTo>
                    <a:pt x="10498" y="594"/>
                  </a:lnTo>
                  <a:lnTo>
                    <a:pt x="10481" y="579"/>
                  </a:lnTo>
                  <a:lnTo>
                    <a:pt x="10465" y="561"/>
                  </a:lnTo>
                  <a:lnTo>
                    <a:pt x="10451" y="540"/>
                  </a:lnTo>
                  <a:lnTo>
                    <a:pt x="10438" y="519"/>
                  </a:lnTo>
                  <a:lnTo>
                    <a:pt x="10427" y="497"/>
                  </a:lnTo>
                  <a:lnTo>
                    <a:pt x="10418" y="473"/>
                  </a:lnTo>
                  <a:lnTo>
                    <a:pt x="10412" y="448"/>
                  </a:lnTo>
                  <a:lnTo>
                    <a:pt x="10408" y="422"/>
                  </a:lnTo>
                  <a:lnTo>
                    <a:pt x="10404" y="394"/>
                  </a:lnTo>
                  <a:lnTo>
                    <a:pt x="10403" y="365"/>
                  </a:lnTo>
                  <a:lnTo>
                    <a:pt x="10404" y="336"/>
                  </a:lnTo>
                  <a:lnTo>
                    <a:pt x="10408" y="309"/>
                  </a:lnTo>
                  <a:lnTo>
                    <a:pt x="10412" y="282"/>
                  </a:lnTo>
                  <a:lnTo>
                    <a:pt x="10418" y="257"/>
                  </a:lnTo>
                  <a:lnTo>
                    <a:pt x="10427" y="233"/>
                  </a:lnTo>
                  <a:lnTo>
                    <a:pt x="10438" y="212"/>
                  </a:lnTo>
                  <a:lnTo>
                    <a:pt x="10451" y="190"/>
                  </a:lnTo>
                  <a:lnTo>
                    <a:pt x="10465" y="171"/>
                  </a:lnTo>
                  <a:lnTo>
                    <a:pt x="10481" y="152"/>
                  </a:lnTo>
                  <a:lnTo>
                    <a:pt x="10499" y="136"/>
                  </a:lnTo>
                  <a:lnTo>
                    <a:pt x="10518" y="122"/>
                  </a:lnTo>
                  <a:lnTo>
                    <a:pt x="10538" y="111"/>
                  </a:lnTo>
                  <a:lnTo>
                    <a:pt x="10561" y="102"/>
                  </a:lnTo>
                  <a:lnTo>
                    <a:pt x="10584" y="96"/>
                  </a:lnTo>
                  <a:lnTo>
                    <a:pt x="10609" y="93"/>
                  </a:lnTo>
                  <a:lnTo>
                    <a:pt x="10635" y="92"/>
                  </a:lnTo>
                  <a:lnTo>
                    <a:pt x="10661" y="93"/>
                  </a:lnTo>
                  <a:lnTo>
                    <a:pt x="10685" y="96"/>
                  </a:lnTo>
                  <a:lnTo>
                    <a:pt x="10708" y="102"/>
                  </a:lnTo>
                  <a:lnTo>
                    <a:pt x="10730" y="111"/>
                  </a:lnTo>
                  <a:lnTo>
                    <a:pt x="10750" y="122"/>
                  </a:lnTo>
                  <a:lnTo>
                    <a:pt x="10770" y="136"/>
                  </a:lnTo>
                  <a:lnTo>
                    <a:pt x="10788" y="152"/>
                  </a:lnTo>
                  <a:lnTo>
                    <a:pt x="10805" y="171"/>
                  </a:lnTo>
                  <a:lnTo>
                    <a:pt x="10819" y="190"/>
                  </a:lnTo>
                  <a:lnTo>
                    <a:pt x="10831" y="212"/>
                  </a:lnTo>
                  <a:lnTo>
                    <a:pt x="10842" y="233"/>
                  </a:lnTo>
                  <a:lnTo>
                    <a:pt x="10851" y="257"/>
                  </a:lnTo>
                  <a:lnTo>
                    <a:pt x="10857" y="282"/>
                  </a:lnTo>
                  <a:lnTo>
                    <a:pt x="10862" y="309"/>
                  </a:lnTo>
                  <a:lnTo>
                    <a:pt x="10865" y="336"/>
                  </a:lnTo>
                  <a:lnTo>
                    <a:pt x="10866" y="365"/>
                  </a:lnTo>
                  <a:close/>
                  <a:moveTo>
                    <a:pt x="11514" y="526"/>
                  </a:moveTo>
                  <a:lnTo>
                    <a:pt x="11513" y="501"/>
                  </a:lnTo>
                  <a:lnTo>
                    <a:pt x="11510" y="478"/>
                  </a:lnTo>
                  <a:lnTo>
                    <a:pt x="11504" y="456"/>
                  </a:lnTo>
                  <a:lnTo>
                    <a:pt x="11495" y="434"/>
                  </a:lnTo>
                  <a:lnTo>
                    <a:pt x="11484" y="415"/>
                  </a:lnTo>
                  <a:lnTo>
                    <a:pt x="11471" y="395"/>
                  </a:lnTo>
                  <a:lnTo>
                    <a:pt x="11455" y="377"/>
                  </a:lnTo>
                  <a:lnTo>
                    <a:pt x="11437" y="360"/>
                  </a:lnTo>
                  <a:lnTo>
                    <a:pt x="11417" y="347"/>
                  </a:lnTo>
                  <a:lnTo>
                    <a:pt x="11387" y="328"/>
                  </a:lnTo>
                  <a:lnTo>
                    <a:pt x="11291" y="274"/>
                  </a:lnTo>
                  <a:lnTo>
                    <a:pt x="11272" y="263"/>
                  </a:lnTo>
                  <a:lnTo>
                    <a:pt x="11256" y="253"/>
                  </a:lnTo>
                  <a:lnTo>
                    <a:pt x="11242" y="242"/>
                  </a:lnTo>
                  <a:lnTo>
                    <a:pt x="11231" y="231"/>
                  </a:lnTo>
                  <a:lnTo>
                    <a:pt x="11223" y="221"/>
                  </a:lnTo>
                  <a:lnTo>
                    <a:pt x="11216" y="211"/>
                  </a:lnTo>
                  <a:lnTo>
                    <a:pt x="11214" y="205"/>
                  </a:lnTo>
                  <a:lnTo>
                    <a:pt x="11212" y="200"/>
                  </a:lnTo>
                  <a:lnTo>
                    <a:pt x="11211" y="190"/>
                  </a:lnTo>
                  <a:lnTo>
                    <a:pt x="11213" y="171"/>
                  </a:lnTo>
                  <a:lnTo>
                    <a:pt x="11219" y="153"/>
                  </a:lnTo>
                  <a:lnTo>
                    <a:pt x="11230" y="136"/>
                  </a:lnTo>
                  <a:lnTo>
                    <a:pt x="11238" y="128"/>
                  </a:lnTo>
                  <a:lnTo>
                    <a:pt x="11245" y="121"/>
                  </a:lnTo>
                  <a:lnTo>
                    <a:pt x="11264" y="107"/>
                  </a:lnTo>
                  <a:lnTo>
                    <a:pt x="11273" y="101"/>
                  </a:lnTo>
                  <a:lnTo>
                    <a:pt x="11284" y="97"/>
                  </a:lnTo>
                  <a:lnTo>
                    <a:pt x="11307" y="92"/>
                  </a:lnTo>
                  <a:lnTo>
                    <a:pt x="11333" y="90"/>
                  </a:lnTo>
                  <a:lnTo>
                    <a:pt x="11356" y="92"/>
                  </a:lnTo>
                  <a:lnTo>
                    <a:pt x="11386" y="97"/>
                  </a:lnTo>
                  <a:lnTo>
                    <a:pt x="11471" y="122"/>
                  </a:lnTo>
                  <a:lnTo>
                    <a:pt x="11489" y="25"/>
                  </a:lnTo>
                  <a:lnTo>
                    <a:pt x="11450" y="14"/>
                  </a:lnTo>
                  <a:lnTo>
                    <a:pt x="11411" y="6"/>
                  </a:lnTo>
                  <a:lnTo>
                    <a:pt x="11372" y="1"/>
                  </a:lnTo>
                  <a:lnTo>
                    <a:pt x="11333" y="0"/>
                  </a:lnTo>
                  <a:lnTo>
                    <a:pt x="11311" y="1"/>
                  </a:lnTo>
                  <a:lnTo>
                    <a:pt x="11291" y="3"/>
                  </a:lnTo>
                  <a:lnTo>
                    <a:pt x="11270" y="6"/>
                  </a:lnTo>
                  <a:lnTo>
                    <a:pt x="11251" y="11"/>
                  </a:lnTo>
                  <a:lnTo>
                    <a:pt x="11214" y="26"/>
                  </a:lnTo>
                  <a:lnTo>
                    <a:pt x="11197" y="35"/>
                  </a:lnTo>
                  <a:lnTo>
                    <a:pt x="11179" y="46"/>
                  </a:lnTo>
                  <a:lnTo>
                    <a:pt x="11162" y="60"/>
                  </a:lnTo>
                  <a:lnTo>
                    <a:pt x="11148" y="74"/>
                  </a:lnTo>
                  <a:lnTo>
                    <a:pt x="11135" y="91"/>
                  </a:lnTo>
                  <a:lnTo>
                    <a:pt x="11124" y="109"/>
                  </a:lnTo>
                  <a:lnTo>
                    <a:pt x="11117" y="127"/>
                  </a:lnTo>
                  <a:lnTo>
                    <a:pt x="11111" y="147"/>
                  </a:lnTo>
                  <a:lnTo>
                    <a:pt x="11107" y="167"/>
                  </a:lnTo>
                  <a:lnTo>
                    <a:pt x="11106" y="190"/>
                  </a:lnTo>
                  <a:lnTo>
                    <a:pt x="11108" y="215"/>
                  </a:lnTo>
                  <a:lnTo>
                    <a:pt x="11111" y="227"/>
                  </a:lnTo>
                  <a:lnTo>
                    <a:pt x="11115" y="239"/>
                  </a:lnTo>
                  <a:lnTo>
                    <a:pt x="11125" y="262"/>
                  </a:lnTo>
                  <a:lnTo>
                    <a:pt x="11139" y="284"/>
                  </a:lnTo>
                  <a:lnTo>
                    <a:pt x="11158" y="306"/>
                  </a:lnTo>
                  <a:lnTo>
                    <a:pt x="11182" y="326"/>
                  </a:lnTo>
                  <a:lnTo>
                    <a:pt x="11209" y="346"/>
                  </a:lnTo>
                  <a:lnTo>
                    <a:pt x="11239" y="364"/>
                  </a:lnTo>
                  <a:lnTo>
                    <a:pt x="11276" y="383"/>
                  </a:lnTo>
                  <a:lnTo>
                    <a:pt x="11312" y="402"/>
                  </a:lnTo>
                  <a:lnTo>
                    <a:pt x="11352" y="428"/>
                  </a:lnTo>
                  <a:lnTo>
                    <a:pt x="11369" y="440"/>
                  </a:lnTo>
                  <a:lnTo>
                    <a:pt x="11380" y="451"/>
                  </a:lnTo>
                  <a:lnTo>
                    <a:pt x="11387" y="460"/>
                  </a:lnTo>
                  <a:lnTo>
                    <a:pt x="11393" y="469"/>
                  </a:lnTo>
                  <a:lnTo>
                    <a:pt x="11403" y="486"/>
                  </a:lnTo>
                  <a:lnTo>
                    <a:pt x="11409" y="505"/>
                  </a:lnTo>
                  <a:lnTo>
                    <a:pt x="11411" y="526"/>
                  </a:lnTo>
                  <a:lnTo>
                    <a:pt x="11407" y="549"/>
                  </a:lnTo>
                  <a:lnTo>
                    <a:pt x="11400" y="570"/>
                  </a:lnTo>
                  <a:lnTo>
                    <a:pt x="11387" y="590"/>
                  </a:lnTo>
                  <a:lnTo>
                    <a:pt x="11369" y="606"/>
                  </a:lnTo>
                  <a:lnTo>
                    <a:pt x="11346" y="620"/>
                  </a:lnTo>
                  <a:lnTo>
                    <a:pt x="11333" y="625"/>
                  </a:lnTo>
                  <a:lnTo>
                    <a:pt x="11320" y="631"/>
                  </a:lnTo>
                  <a:lnTo>
                    <a:pt x="11306" y="634"/>
                  </a:lnTo>
                  <a:lnTo>
                    <a:pt x="11291" y="636"/>
                  </a:lnTo>
                  <a:lnTo>
                    <a:pt x="11259" y="638"/>
                  </a:lnTo>
                  <a:lnTo>
                    <a:pt x="11224" y="636"/>
                  </a:lnTo>
                  <a:lnTo>
                    <a:pt x="11208" y="633"/>
                  </a:lnTo>
                  <a:lnTo>
                    <a:pt x="11190" y="630"/>
                  </a:lnTo>
                  <a:lnTo>
                    <a:pt x="11159" y="619"/>
                  </a:lnTo>
                  <a:lnTo>
                    <a:pt x="11129" y="604"/>
                  </a:lnTo>
                  <a:lnTo>
                    <a:pt x="11115" y="700"/>
                  </a:lnTo>
                  <a:lnTo>
                    <a:pt x="11160" y="715"/>
                  </a:lnTo>
                  <a:lnTo>
                    <a:pt x="11189" y="723"/>
                  </a:lnTo>
                  <a:lnTo>
                    <a:pt x="11202" y="725"/>
                  </a:lnTo>
                  <a:lnTo>
                    <a:pt x="11219" y="727"/>
                  </a:lnTo>
                  <a:lnTo>
                    <a:pt x="11259" y="728"/>
                  </a:lnTo>
                  <a:lnTo>
                    <a:pt x="11284" y="727"/>
                  </a:lnTo>
                  <a:lnTo>
                    <a:pt x="11308" y="725"/>
                  </a:lnTo>
                  <a:lnTo>
                    <a:pt x="11331" y="722"/>
                  </a:lnTo>
                  <a:lnTo>
                    <a:pt x="11352" y="717"/>
                  </a:lnTo>
                  <a:lnTo>
                    <a:pt x="11373" y="711"/>
                  </a:lnTo>
                  <a:lnTo>
                    <a:pt x="11392" y="703"/>
                  </a:lnTo>
                  <a:lnTo>
                    <a:pt x="11412" y="695"/>
                  </a:lnTo>
                  <a:lnTo>
                    <a:pt x="11429" y="684"/>
                  </a:lnTo>
                  <a:lnTo>
                    <a:pt x="11450" y="669"/>
                  </a:lnTo>
                  <a:lnTo>
                    <a:pt x="11467" y="653"/>
                  </a:lnTo>
                  <a:lnTo>
                    <a:pt x="11482" y="635"/>
                  </a:lnTo>
                  <a:lnTo>
                    <a:pt x="11494" y="617"/>
                  </a:lnTo>
                  <a:lnTo>
                    <a:pt x="11503" y="596"/>
                  </a:lnTo>
                  <a:lnTo>
                    <a:pt x="11510" y="575"/>
                  </a:lnTo>
                  <a:lnTo>
                    <a:pt x="11513" y="551"/>
                  </a:lnTo>
                  <a:lnTo>
                    <a:pt x="11514" y="526"/>
                  </a:lnTo>
                  <a:close/>
                </a:path>
              </a:pathLst>
            </a:custGeom>
            <a:solidFill>
              <a:srgbClr val="807f8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Freeform 28"/>
            <p:cNvSpPr/>
            <p:nvPr/>
          </p:nvSpPr>
          <p:spPr>
            <a:xfrm>
              <a:off x="5867280" y="6324480"/>
              <a:ext cx="1049400" cy="103320"/>
            </a:xfrm>
            <a:custGeom>
              <a:avLst/>
              <a:gdLst>
                <a:gd name="textAreaLeft" fmla="*/ 0 w 1049400"/>
                <a:gd name="textAreaRight" fmla="*/ 1049760 w 1049400"/>
                <a:gd name="textAreaTop" fmla="*/ 0 h 103320"/>
                <a:gd name="textAreaBottom" fmla="*/ 103680 h 103320"/>
              </a:gdLst>
              <a:ahLst/>
              <a:rect l="textAreaLeft" t="textAreaTop" r="textAreaRight" b="textAreaBottom"/>
              <a:pathLst>
                <a:path w="7274" h="713">
                  <a:moveTo>
                    <a:pt x="530" y="88"/>
                  </a:moveTo>
                  <a:lnTo>
                    <a:pt x="530" y="0"/>
                  </a:lnTo>
                  <a:lnTo>
                    <a:pt x="0" y="0"/>
                  </a:lnTo>
                  <a:lnTo>
                    <a:pt x="0" y="88"/>
                  </a:lnTo>
                  <a:lnTo>
                    <a:pt x="214" y="88"/>
                  </a:lnTo>
                  <a:lnTo>
                    <a:pt x="214" y="700"/>
                  </a:lnTo>
                  <a:lnTo>
                    <a:pt x="316" y="700"/>
                  </a:lnTo>
                  <a:lnTo>
                    <a:pt x="316" y="88"/>
                  </a:lnTo>
                  <a:lnTo>
                    <a:pt x="530" y="88"/>
                  </a:lnTo>
                  <a:close/>
                  <a:moveTo>
                    <a:pt x="1069" y="88"/>
                  </a:moveTo>
                  <a:lnTo>
                    <a:pt x="1069" y="0"/>
                  </a:lnTo>
                  <a:lnTo>
                    <a:pt x="675" y="0"/>
                  </a:lnTo>
                  <a:lnTo>
                    <a:pt x="675" y="700"/>
                  </a:lnTo>
                  <a:lnTo>
                    <a:pt x="1068" y="700"/>
                  </a:lnTo>
                  <a:lnTo>
                    <a:pt x="1068" y="611"/>
                  </a:lnTo>
                  <a:lnTo>
                    <a:pt x="776" y="611"/>
                  </a:lnTo>
                  <a:lnTo>
                    <a:pt x="776" y="381"/>
                  </a:lnTo>
                  <a:lnTo>
                    <a:pt x="1043" y="381"/>
                  </a:lnTo>
                  <a:lnTo>
                    <a:pt x="1043" y="291"/>
                  </a:lnTo>
                  <a:lnTo>
                    <a:pt x="776" y="291"/>
                  </a:lnTo>
                  <a:lnTo>
                    <a:pt x="776" y="88"/>
                  </a:lnTo>
                  <a:lnTo>
                    <a:pt x="1069" y="88"/>
                  </a:lnTo>
                  <a:close/>
                  <a:moveTo>
                    <a:pt x="1763" y="700"/>
                  </a:moveTo>
                  <a:lnTo>
                    <a:pt x="1763" y="611"/>
                  </a:lnTo>
                  <a:lnTo>
                    <a:pt x="1742" y="611"/>
                  </a:lnTo>
                  <a:lnTo>
                    <a:pt x="1738" y="611"/>
                  </a:lnTo>
                  <a:lnTo>
                    <a:pt x="1734" y="610"/>
                  </a:lnTo>
                  <a:lnTo>
                    <a:pt x="1728" y="608"/>
                  </a:lnTo>
                  <a:lnTo>
                    <a:pt x="1724" y="605"/>
                  </a:lnTo>
                  <a:lnTo>
                    <a:pt x="1720" y="602"/>
                  </a:lnTo>
                  <a:lnTo>
                    <a:pt x="1714" y="598"/>
                  </a:lnTo>
                  <a:lnTo>
                    <a:pt x="1710" y="594"/>
                  </a:lnTo>
                  <a:lnTo>
                    <a:pt x="1705" y="587"/>
                  </a:lnTo>
                  <a:lnTo>
                    <a:pt x="1700" y="582"/>
                  </a:lnTo>
                  <a:lnTo>
                    <a:pt x="1695" y="574"/>
                  </a:lnTo>
                  <a:lnTo>
                    <a:pt x="1685" y="558"/>
                  </a:lnTo>
                  <a:lnTo>
                    <a:pt x="1674" y="538"/>
                  </a:lnTo>
                  <a:lnTo>
                    <a:pt x="1662" y="517"/>
                  </a:lnTo>
                  <a:lnTo>
                    <a:pt x="1650" y="488"/>
                  </a:lnTo>
                  <a:lnTo>
                    <a:pt x="1635" y="462"/>
                  </a:lnTo>
                  <a:lnTo>
                    <a:pt x="1624" y="437"/>
                  </a:lnTo>
                  <a:lnTo>
                    <a:pt x="1611" y="416"/>
                  </a:lnTo>
                  <a:lnTo>
                    <a:pt x="1599" y="397"/>
                  </a:lnTo>
                  <a:lnTo>
                    <a:pt x="1588" y="381"/>
                  </a:lnTo>
                  <a:lnTo>
                    <a:pt x="1577" y="368"/>
                  </a:lnTo>
                  <a:lnTo>
                    <a:pt x="1567" y="357"/>
                  </a:lnTo>
                  <a:lnTo>
                    <a:pt x="1584" y="348"/>
                  </a:lnTo>
                  <a:lnTo>
                    <a:pt x="1600" y="341"/>
                  </a:lnTo>
                  <a:lnTo>
                    <a:pt x="1614" y="331"/>
                  </a:lnTo>
                  <a:lnTo>
                    <a:pt x="1628" y="322"/>
                  </a:lnTo>
                  <a:lnTo>
                    <a:pt x="1641" y="313"/>
                  </a:lnTo>
                  <a:lnTo>
                    <a:pt x="1646" y="308"/>
                  </a:lnTo>
                  <a:lnTo>
                    <a:pt x="1652" y="303"/>
                  </a:lnTo>
                  <a:lnTo>
                    <a:pt x="1662" y="293"/>
                  </a:lnTo>
                  <a:lnTo>
                    <a:pt x="1671" y="282"/>
                  </a:lnTo>
                  <a:lnTo>
                    <a:pt x="1675" y="277"/>
                  </a:lnTo>
                  <a:lnTo>
                    <a:pt x="1680" y="270"/>
                  </a:lnTo>
                  <a:lnTo>
                    <a:pt x="1686" y="260"/>
                  </a:lnTo>
                  <a:lnTo>
                    <a:pt x="1693" y="248"/>
                  </a:lnTo>
                  <a:lnTo>
                    <a:pt x="1697" y="235"/>
                  </a:lnTo>
                  <a:lnTo>
                    <a:pt x="1701" y="223"/>
                  </a:lnTo>
                  <a:lnTo>
                    <a:pt x="1704" y="210"/>
                  </a:lnTo>
                  <a:lnTo>
                    <a:pt x="1705" y="204"/>
                  </a:lnTo>
                  <a:lnTo>
                    <a:pt x="1706" y="196"/>
                  </a:lnTo>
                  <a:lnTo>
                    <a:pt x="1706" y="183"/>
                  </a:lnTo>
                  <a:lnTo>
                    <a:pt x="1706" y="172"/>
                  </a:lnTo>
                  <a:lnTo>
                    <a:pt x="1705" y="162"/>
                  </a:lnTo>
                  <a:lnTo>
                    <a:pt x="1704" y="152"/>
                  </a:lnTo>
                  <a:lnTo>
                    <a:pt x="1702" y="143"/>
                  </a:lnTo>
                  <a:lnTo>
                    <a:pt x="1700" y="133"/>
                  </a:lnTo>
                  <a:lnTo>
                    <a:pt x="1697" y="125"/>
                  </a:lnTo>
                  <a:lnTo>
                    <a:pt x="1695" y="116"/>
                  </a:lnTo>
                  <a:lnTo>
                    <a:pt x="1691" y="107"/>
                  </a:lnTo>
                  <a:lnTo>
                    <a:pt x="1686" y="99"/>
                  </a:lnTo>
                  <a:lnTo>
                    <a:pt x="1682" y="91"/>
                  </a:lnTo>
                  <a:lnTo>
                    <a:pt x="1678" y="84"/>
                  </a:lnTo>
                  <a:lnTo>
                    <a:pt x="1671" y="76"/>
                  </a:lnTo>
                  <a:lnTo>
                    <a:pt x="1666" y="70"/>
                  </a:lnTo>
                  <a:lnTo>
                    <a:pt x="1659" y="62"/>
                  </a:lnTo>
                  <a:lnTo>
                    <a:pt x="1652" y="56"/>
                  </a:lnTo>
                  <a:lnTo>
                    <a:pt x="1644" y="50"/>
                  </a:lnTo>
                  <a:lnTo>
                    <a:pt x="1637" y="44"/>
                  </a:lnTo>
                  <a:lnTo>
                    <a:pt x="1629" y="38"/>
                  </a:lnTo>
                  <a:lnTo>
                    <a:pt x="1620" y="33"/>
                  </a:lnTo>
                  <a:lnTo>
                    <a:pt x="1613" y="28"/>
                  </a:lnTo>
                  <a:lnTo>
                    <a:pt x="1604" y="23"/>
                  </a:lnTo>
                  <a:lnTo>
                    <a:pt x="1594" y="20"/>
                  </a:lnTo>
                  <a:lnTo>
                    <a:pt x="1576" y="12"/>
                  </a:lnTo>
                  <a:lnTo>
                    <a:pt x="1566" y="10"/>
                  </a:lnTo>
                  <a:lnTo>
                    <a:pt x="1557" y="7"/>
                  </a:lnTo>
                  <a:lnTo>
                    <a:pt x="1546" y="5"/>
                  </a:lnTo>
                  <a:lnTo>
                    <a:pt x="1535" y="4"/>
                  </a:lnTo>
                  <a:lnTo>
                    <a:pt x="1524" y="3"/>
                  </a:lnTo>
                  <a:lnTo>
                    <a:pt x="1513" y="1"/>
                  </a:lnTo>
                  <a:lnTo>
                    <a:pt x="1491" y="0"/>
                  </a:lnTo>
                  <a:lnTo>
                    <a:pt x="1257" y="0"/>
                  </a:lnTo>
                  <a:lnTo>
                    <a:pt x="1257" y="700"/>
                  </a:lnTo>
                  <a:lnTo>
                    <a:pt x="1360" y="700"/>
                  </a:lnTo>
                  <a:lnTo>
                    <a:pt x="1360" y="390"/>
                  </a:lnTo>
                  <a:lnTo>
                    <a:pt x="1438" y="390"/>
                  </a:lnTo>
                  <a:lnTo>
                    <a:pt x="1444" y="391"/>
                  </a:lnTo>
                  <a:lnTo>
                    <a:pt x="1451" y="391"/>
                  </a:lnTo>
                  <a:lnTo>
                    <a:pt x="1457" y="394"/>
                  </a:lnTo>
                  <a:lnTo>
                    <a:pt x="1464" y="396"/>
                  </a:lnTo>
                  <a:lnTo>
                    <a:pt x="1470" y="399"/>
                  </a:lnTo>
                  <a:lnTo>
                    <a:pt x="1477" y="402"/>
                  </a:lnTo>
                  <a:lnTo>
                    <a:pt x="1482" y="407"/>
                  </a:lnTo>
                  <a:lnTo>
                    <a:pt x="1488" y="411"/>
                  </a:lnTo>
                  <a:lnTo>
                    <a:pt x="1494" y="416"/>
                  </a:lnTo>
                  <a:lnTo>
                    <a:pt x="1500" y="423"/>
                  </a:lnTo>
                  <a:lnTo>
                    <a:pt x="1506" y="429"/>
                  </a:lnTo>
                  <a:lnTo>
                    <a:pt x="1508" y="433"/>
                  </a:lnTo>
                  <a:lnTo>
                    <a:pt x="1511" y="436"/>
                  </a:lnTo>
                  <a:lnTo>
                    <a:pt x="1517" y="444"/>
                  </a:lnTo>
                  <a:lnTo>
                    <a:pt x="1522" y="452"/>
                  </a:lnTo>
                  <a:lnTo>
                    <a:pt x="1532" y="471"/>
                  </a:lnTo>
                  <a:lnTo>
                    <a:pt x="1568" y="546"/>
                  </a:lnTo>
                  <a:lnTo>
                    <a:pt x="1604" y="621"/>
                  </a:lnTo>
                  <a:lnTo>
                    <a:pt x="1611" y="630"/>
                  </a:lnTo>
                  <a:lnTo>
                    <a:pt x="1618" y="639"/>
                  </a:lnTo>
                  <a:lnTo>
                    <a:pt x="1626" y="648"/>
                  </a:lnTo>
                  <a:lnTo>
                    <a:pt x="1633" y="655"/>
                  </a:lnTo>
                  <a:lnTo>
                    <a:pt x="1641" y="663"/>
                  </a:lnTo>
                  <a:lnTo>
                    <a:pt x="1648" y="669"/>
                  </a:lnTo>
                  <a:lnTo>
                    <a:pt x="1657" y="675"/>
                  </a:lnTo>
                  <a:lnTo>
                    <a:pt x="1666" y="680"/>
                  </a:lnTo>
                  <a:lnTo>
                    <a:pt x="1674" y="685"/>
                  </a:lnTo>
                  <a:lnTo>
                    <a:pt x="1683" y="690"/>
                  </a:lnTo>
                  <a:lnTo>
                    <a:pt x="1693" y="693"/>
                  </a:lnTo>
                  <a:lnTo>
                    <a:pt x="1701" y="695"/>
                  </a:lnTo>
                  <a:lnTo>
                    <a:pt x="1711" y="697"/>
                  </a:lnTo>
                  <a:lnTo>
                    <a:pt x="1722" y="699"/>
                  </a:lnTo>
                  <a:lnTo>
                    <a:pt x="1732" y="700"/>
                  </a:lnTo>
                  <a:lnTo>
                    <a:pt x="1742" y="700"/>
                  </a:lnTo>
                  <a:lnTo>
                    <a:pt x="1763" y="700"/>
                  </a:lnTo>
                  <a:close/>
                  <a:moveTo>
                    <a:pt x="1599" y="183"/>
                  </a:moveTo>
                  <a:lnTo>
                    <a:pt x="1598" y="194"/>
                  </a:lnTo>
                  <a:lnTo>
                    <a:pt x="1597" y="206"/>
                  </a:lnTo>
                  <a:lnTo>
                    <a:pt x="1594" y="211"/>
                  </a:lnTo>
                  <a:lnTo>
                    <a:pt x="1593" y="216"/>
                  </a:lnTo>
                  <a:lnTo>
                    <a:pt x="1589" y="227"/>
                  </a:lnTo>
                  <a:lnTo>
                    <a:pt x="1584" y="237"/>
                  </a:lnTo>
                  <a:lnTo>
                    <a:pt x="1577" y="248"/>
                  </a:lnTo>
                  <a:lnTo>
                    <a:pt x="1570" y="256"/>
                  </a:lnTo>
                  <a:lnTo>
                    <a:pt x="1565" y="262"/>
                  </a:lnTo>
                  <a:lnTo>
                    <a:pt x="1561" y="266"/>
                  </a:lnTo>
                  <a:lnTo>
                    <a:pt x="1552" y="275"/>
                  </a:lnTo>
                  <a:lnTo>
                    <a:pt x="1542" y="281"/>
                  </a:lnTo>
                  <a:lnTo>
                    <a:pt x="1532" y="288"/>
                  </a:lnTo>
                  <a:lnTo>
                    <a:pt x="1521" y="293"/>
                  </a:lnTo>
                  <a:lnTo>
                    <a:pt x="1515" y="295"/>
                  </a:lnTo>
                  <a:lnTo>
                    <a:pt x="1510" y="298"/>
                  </a:lnTo>
                  <a:lnTo>
                    <a:pt x="1505" y="299"/>
                  </a:lnTo>
                  <a:lnTo>
                    <a:pt x="1498" y="300"/>
                  </a:lnTo>
                  <a:lnTo>
                    <a:pt x="1486" y="302"/>
                  </a:lnTo>
                  <a:lnTo>
                    <a:pt x="1473" y="302"/>
                  </a:lnTo>
                  <a:lnTo>
                    <a:pt x="1360" y="302"/>
                  </a:lnTo>
                  <a:lnTo>
                    <a:pt x="1360" y="88"/>
                  </a:lnTo>
                  <a:lnTo>
                    <a:pt x="1473" y="88"/>
                  </a:lnTo>
                  <a:lnTo>
                    <a:pt x="1486" y="88"/>
                  </a:lnTo>
                  <a:lnTo>
                    <a:pt x="1497" y="89"/>
                  </a:lnTo>
                  <a:lnTo>
                    <a:pt x="1509" y="91"/>
                  </a:lnTo>
                  <a:lnTo>
                    <a:pt x="1520" y="94"/>
                  </a:lnTo>
                  <a:lnTo>
                    <a:pt x="1531" y="98"/>
                  </a:lnTo>
                  <a:lnTo>
                    <a:pt x="1540" y="102"/>
                  </a:lnTo>
                  <a:lnTo>
                    <a:pt x="1550" y="106"/>
                  </a:lnTo>
                  <a:lnTo>
                    <a:pt x="1559" y="112"/>
                  </a:lnTo>
                  <a:lnTo>
                    <a:pt x="1568" y="119"/>
                  </a:lnTo>
                  <a:lnTo>
                    <a:pt x="1573" y="122"/>
                  </a:lnTo>
                  <a:lnTo>
                    <a:pt x="1576" y="127"/>
                  </a:lnTo>
                  <a:lnTo>
                    <a:pt x="1582" y="134"/>
                  </a:lnTo>
                  <a:lnTo>
                    <a:pt x="1586" y="139"/>
                  </a:lnTo>
                  <a:lnTo>
                    <a:pt x="1589" y="143"/>
                  </a:lnTo>
                  <a:lnTo>
                    <a:pt x="1593" y="152"/>
                  </a:lnTo>
                  <a:lnTo>
                    <a:pt x="1594" y="157"/>
                  </a:lnTo>
                  <a:lnTo>
                    <a:pt x="1595" y="161"/>
                  </a:lnTo>
                  <a:lnTo>
                    <a:pt x="1598" y="172"/>
                  </a:lnTo>
                  <a:lnTo>
                    <a:pt x="1599" y="178"/>
                  </a:lnTo>
                  <a:lnTo>
                    <a:pt x="1599" y="183"/>
                  </a:lnTo>
                  <a:close/>
                  <a:moveTo>
                    <a:pt x="2466" y="0"/>
                  </a:moveTo>
                  <a:lnTo>
                    <a:pt x="2355" y="0"/>
                  </a:lnTo>
                  <a:lnTo>
                    <a:pt x="2141" y="596"/>
                  </a:lnTo>
                  <a:lnTo>
                    <a:pt x="1926" y="0"/>
                  </a:lnTo>
                  <a:lnTo>
                    <a:pt x="1814" y="0"/>
                  </a:lnTo>
                  <a:lnTo>
                    <a:pt x="2072" y="700"/>
                  </a:lnTo>
                  <a:lnTo>
                    <a:pt x="2209" y="700"/>
                  </a:lnTo>
                  <a:lnTo>
                    <a:pt x="2466" y="0"/>
                  </a:lnTo>
                  <a:close/>
                  <a:moveTo>
                    <a:pt x="3002" y="88"/>
                  </a:moveTo>
                  <a:lnTo>
                    <a:pt x="3002" y="0"/>
                  </a:lnTo>
                  <a:lnTo>
                    <a:pt x="2607" y="0"/>
                  </a:lnTo>
                  <a:lnTo>
                    <a:pt x="2607" y="700"/>
                  </a:lnTo>
                  <a:lnTo>
                    <a:pt x="3000" y="700"/>
                  </a:lnTo>
                  <a:lnTo>
                    <a:pt x="3000" y="611"/>
                  </a:lnTo>
                  <a:lnTo>
                    <a:pt x="2709" y="611"/>
                  </a:lnTo>
                  <a:lnTo>
                    <a:pt x="2709" y="381"/>
                  </a:lnTo>
                  <a:lnTo>
                    <a:pt x="2976" y="381"/>
                  </a:lnTo>
                  <a:lnTo>
                    <a:pt x="2976" y="291"/>
                  </a:lnTo>
                  <a:lnTo>
                    <a:pt x="2709" y="291"/>
                  </a:lnTo>
                  <a:lnTo>
                    <a:pt x="2709" y="88"/>
                  </a:lnTo>
                  <a:lnTo>
                    <a:pt x="3002" y="88"/>
                  </a:lnTo>
                  <a:close/>
                  <a:moveTo>
                    <a:pt x="3752" y="0"/>
                  </a:moveTo>
                  <a:lnTo>
                    <a:pt x="3635" y="0"/>
                  </a:lnTo>
                  <a:lnTo>
                    <a:pt x="3425" y="315"/>
                  </a:lnTo>
                  <a:lnTo>
                    <a:pt x="3216" y="0"/>
                  </a:lnTo>
                  <a:lnTo>
                    <a:pt x="3098" y="0"/>
                  </a:lnTo>
                  <a:lnTo>
                    <a:pt x="3374" y="412"/>
                  </a:lnTo>
                  <a:lnTo>
                    <a:pt x="3374" y="700"/>
                  </a:lnTo>
                  <a:lnTo>
                    <a:pt x="3476" y="700"/>
                  </a:lnTo>
                  <a:lnTo>
                    <a:pt x="3476" y="412"/>
                  </a:lnTo>
                  <a:lnTo>
                    <a:pt x="3752" y="0"/>
                  </a:lnTo>
                  <a:close/>
                  <a:moveTo>
                    <a:pt x="4443" y="354"/>
                  </a:moveTo>
                  <a:lnTo>
                    <a:pt x="4443" y="335"/>
                  </a:lnTo>
                  <a:lnTo>
                    <a:pt x="4442" y="318"/>
                  </a:lnTo>
                  <a:lnTo>
                    <a:pt x="4439" y="300"/>
                  </a:lnTo>
                  <a:lnTo>
                    <a:pt x="4437" y="283"/>
                  </a:lnTo>
                  <a:lnTo>
                    <a:pt x="4434" y="266"/>
                  </a:lnTo>
                  <a:lnTo>
                    <a:pt x="4430" y="250"/>
                  </a:lnTo>
                  <a:lnTo>
                    <a:pt x="4425" y="234"/>
                  </a:lnTo>
                  <a:lnTo>
                    <a:pt x="4420" y="219"/>
                  </a:lnTo>
                  <a:lnTo>
                    <a:pt x="4413" y="204"/>
                  </a:lnTo>
                  <a:lnTo>
                    <a:pt x="4407" y="188"/>
                  </a:lnTo>
                  <a:lnTo>
                    <a:pt x="4399" y="173"/>
                  </a:lnTo>
                  <a:lnTo>
                    <a:pt x="4392" y="159"/>
                  </a:lnTo>
                  <a:lnTo>
                    <a:pt x="4382" y="145"/>
                  </a:lnTo>
                  <a:lnTo>
                    <a:pt x="4378" y="139"/>
                  </a:lnTo>
                  <a:lnTo>
                    <a:pt x="4372" y="132"/>
                  </a:lnTo>
                  <a:lnTo>
                    <a:pt x="4363" y="119"/>
                  </a:lnTo>
                  <a:lnTo>
                    <a:pt x="4351" y="106"/>
                  </a:lnTo>
                  <a:lnTo>
                    <a:pt x="4339" y="93"/>
                  </a:lnTo>
                  <a:lnTo>
                    <a:pt x="4327" y="81"/>
                  </a:lnTo>
                  <a:lnTo>
                    <a:pt x="4314" y="71"/>
                  </a:lnTo>
                  <a:lnTo>
                    <a:pt x="4300" y="60"/>
                  </a:lnTo>
                  <a:lnTo>
                    <a:pt x="4286" y="50"/>
                  </a:lnTo>
                  <a:lnTo>
                    <a:pt x="4272" y="41"/>
                  </a:lnTo>
                  <a:lnTo>
                    <a:pt x="4258" y="34"/>
                  </a:lnTo>
                  <a:lnTo>
                    <a:pt x="4243" y="26"/>
                  </a:lnTo>
                  <a:lnTo>
                    <a:pt x="4226" y="21"/>
                  </a:lnTo>
                  <a:lnTo>
                    <a:pt x="4211" y="16"/>
                  </a:lnTo>
                  <a:lnTo>
                    <a:pt x="4195" y="11"/>
                  </a:lnTo>
                  <a:lnTo>
                    <a:pt x="4178" y="7"/>
                  </a:lnTo>
                  <a:lnTo>
                    <a:pt x="4161" y="4"/>
                  </a:lnTo>
                  <a:lnTo>
                    <a:pt x="4143" y="3"/>
                  </a:lnTo>
                  <a:lnTo>
                    <a:pt x="4125" y="0"/>
                  </a:lnTo>
                  <a:lnTo>
                    <a:pt x="4106" y="0"/>
                  </a:lnTo>
                  <a:lnTo>
                    <a:pt x="3859" y="0"/>
                  </a:lnTo>
                  <a:lnTo>
                    <a:pt x="3859" y="700"/>
                  </a:lnTo>
                  <a:lnTo>
                    <a:pt x="4106" y="700"/>
                  </a:lnTo>
                  <a:lnTo>
                    <a:pt x="4125" y="700"/>
                  </a:lnTo>
                  <a:lnTo>
                    <a:pt x="4143" y="699"/>
                  </a:lnTo>
                  <a:lnTo>
                    <a:pt x="4161" y="697"/>
                  </a:lnTo>
                  <a:lnTo>
                    <a:pt x="4178" y="694"/>
                  </a:lnTo>
                  <a:lnTo>
                    <a:pt x="4195" y="691"/>
                  </a:lnTo>
                  <a:lnTo>
                    <a:pt x="4211" y="686"/>
                  </a:lnTo>
                  <a:lnTo>
                    <a:pt x="4226" y="681"/>
                  </a:lnTo>
                  <a:lnTo>
                    <a:pt x="4243" y="675"/>
                  </a:lnTo>
                  <a:lnTo>
                    <a:pt x="4258" y="668"/>
                  </a:lnTo>
                  <a:lnTo>
                    <a:pt x="4272" y="661"/>
                  </a:lnTo>
                  <a:lnTo>
                    <a:pt x="4286" y="652"/>
                  </a:lnTo>
                  <a:lnTo>
                    <a:pt x="4300" y="643"/>
                  </a:lnTo>
                  <a:lnTo>
                    <a:pt x="4314" y="632"/>
                  </a:lnTo>
                  <a:lnTo>
                    <a:pt x="4327" y="622"/>
                  </a:lnTo>
                  <a:lnTo>
                    <a:pt x="4339" y="611"/>
                  </a:lnTo>
                  <a:lnTo>
                    <a:pt x="4351" y="598"/>
                  </a:lnTo>
                  <a:lnTo>
                    <a:pt x="4363" y="586"/>
                  </a:lnTo>
                  <a:lnTo>
                    <a:pt x="4372" y="573"/>
                  </a:lnTo>
                  <a:lnTo>
                    <a:pt x="4382" y="559"/>
                  </a:lnTo>
                  <a:lnTo>
                    <a:pt x="4392" y="546"/>
                  </a:lnTo>
                  <a:lnTo>
                    <a:pt x="4395" y="538"/>
                  </a:lnTo>
                  <a:lnTo>
                    <a:pt x="4399" y="532"/>
                  </a:lnTo>
                  <a:lnTo>
                    <a:pt x="4407" y="518"/>
                  </a:lnTo>
                  <a:lnTo>
                    <a:pt x="4413" y="503"/>
                  </a:lnTo>
                  <a:lnTo>
                    <a:pt x="4420" y="488"/>
                  </a:lnTo>
                  <a:lnTo>
                    <a:pt x="4425" y="473"/>
                  </a:lnTo>
                  <a:lnTo>
                    <a:pt x="4430" y="456"/>
                  </a:lnTo>
                  <a:lnTo>
                    <a:pt x="4434" y="440"/>
                  </a:lnTo>
                  <a:lnTo>
                    <a:pt x="4437" y="424"/>
                  </a:lnTo>
                  <a:lnTo>
                    <a:pt x="4439" y="407"/>
                  </a:lnTo>
                  <a:lnTo>
                    <a:pt x="4442" y="389"/>
                  </a:lnTo>
                  <a:lnTo>
                    <a:pt x="4443" y="372"/>
                  </a:lnTo>
                  <a:lnTo>
                    <a:pt x="4443" y="354"/>
                  </a:lnTo>
                  <a:close/>
                  <a:moveTo>
                    <a:pt x="4341" y="354"/>
                  </a:moveTo>
                  <a:lnTo>
                    <a:pt x="4341" y="367"/>
                  </a:lnTo>
                  <a:lnTo>
                    <a:pt x="4340" y="380"/>
                  </a:lnTo>
                  <a:lnTo>
                    <a:pt x="4339" y="393"/>
                  </a:lnTo>
                  <a:lnTo>
                    <a:pt x="4337" y="404"/>
                  </a:lnTo>
                  <a:lnTo>
                    <a:pt x="4335" y="417"/>
                  </a:lnTo>
                  <a:lnTo>
                    <a:pt x="4332" y="429"/>
                  </a:lnTo>
                  <a:lnTo>
                    <a:pt x="4328" y="441"/>
                  </a:lnTo>
                  <a:lnTo>
                    <a:pt x="4325" y="452"/>
                  </a:lnTo>
                  <a:lnTo>
                    <a:pt x="4320" y="464"/>
                  </a:lnTo>
                  <a:lnTo>
                    <a:pt x="4316" y="475"/>
                  </a:lnTo>
                  <a:lnTo>
                    <a:pt x="4311" y="485"/>
                  </a:lnTo>
                  <a:lnTo>
                    <a:pt x="4304" y="495"/>
                  </a:lnTo>
                  <a:lnTo>
                    <a:pt x="4298" y="506"/>
                  </a:lnTo>
                  <a:lnTo>
                    <a:pt x="4291" y="516"/>
                  </a:lnTo>
                  <a:lnTo>
                    <a:pt x="4285" y="525"/>
                  </a:lnTo>
                  <a:lnTo>
                    <a:pt x="4276" y="534"/>
                  </a:lnTo>
                  <a:lnTo>
                    <a:pt x="4269" y="544"/>
                  </a:lnTo>
                  <a:lnTo>
                    <a:pt x="4260" y="552"/>
                  </a:lnTo>
                  <a:lnTo>
                    <a:pt x="4250" y="561"/>
                  </a:lnTo>
                  <a:lnTo>
                    <a:pt x="4242" y="569"/>
                  </a:lnTo>
                  <a:lnTo>
                    <a:pt x="4232" y="575"/>
                  </a:lnTo>
                  <a:lnTo>
                    <a:pt x="4222" y="582"/>
                  </a:lnTo>
                  <a:lnTo>
                    <a:pt x="4211" y="587"/>
                  </a:lnTo>
                  <a:lnTo>
                    <a:pt x="4202" y="592"/>
                  </a:lnTo>
                  <a:lnTo>
                    <a:pt x="4191" y="597"/>
                  </a:lnTo>
                  <a:lnTo>
                    <a:pt x="4179" y="600"/>
                  </a:lnTo>
                  <a:lnTo>
                    <a:pt x="4168" y="603"/>
                  </a:lnTo>
                  <a:lnTo>
                    <a:pt x="4156" y="606"/>
                  </a:lnTo>
                  <a:lnTo>
                    <a:pt x="4144" y="609"/>
                  </a:lnTo>
                  <a:lnTo>
                    <a:pt x="4132" y="610"/>
                  </a:lnTo>
                  <a:lnTo>
                    <a:pt x="4119" y="611"/>
                  </a:lnTo>
                  <a:lnTo>
                    <a:pt x="4106" y="611"/>
                  </a:lnTo>
                  <a:lnTo>
                    <a:pt x="3963" y="611"/>
                  </a:lnTo>
                  <a:lnTo>
                    <a:pt x="3963" y="90"/>
                  </a:lnTo>
                  <a:lnTo>
                    <a:pt x="4106" y="90"/>
                  </a:lnTo>
                  <a:lnTo>
                    <a:pt x="4119" y="90"/>
                  </a:lnTo>
                  <a:lnTo>
                    <a:pt x="4132" y="91"/>
                  </a:lnTo>
                  <a:lnTo>
                    <a:pt x="4144" y="92"/>
                  </a:lnTo>
                  <a:lnTo>
                    <a:pt x="4156" y="94"/>
                  </a:lnTo>
                  <a:lnTo>
                    <a:pt x="4168" y="98"/>
                  </a:lnTo>
                  <a:lnTo>
                    <a:pt x="4179" y="101"/>
                  </a:lnTo>
                  <a:lnTo>
                    <a:pt x="4191" y="105"/>
                  </a:lnTo>
                  <a:lnTo>
                    <a:pt x="4202" y="110"/>
                  </a:lnTo>
                  <a:lnTo>
                    <a:pt x="4211" y="115"/>
                  </a:lnTo>
                  <a:lnTo>
                    <a:pt x="4222" y="121"/>
                  </a:lnTo>
                  <a:lnTo>
                    <a:pt x="4232" y="128"/>
                  </a:lnTo>
                  <a:lnTo>
                    <a:pt x="4236" y="131"/>
                  </a:lnTo>
                  <a:lnTo>
                    <a:pt x="4242" y="135"/>
                  </a:lnTo>
                  <a:lnTo>
                    <a:pt x="4250" y="143"/>
                  </a:lnTo>
                  <a:lnTo>
                    <a:pt x="4260" y="152"/>
                  </a:lnTo>
                  <a:lnTo>
                    <a:pt x="4269" y="160"/>
                  </a:lnTo>
                  <a:lnTo>
                    <a:pt x="4276" y="170"/>
                  </a:lnTo>
                  <a:lnTo>
                    <a:pt x="4285" y="180"/>
                  </a:lnTo>
                  <a:lnTo>
                    <a:pt x="4291" y="189"/>
                  </a:lnTo>
                  <a:lnTo>
                    <a:pt x="4298" y="200"/>
                  </a:lnTo>
                  <a:lnTo>
                    <a:pt x="4304" y="210"/>
                  </a:lnTo>
                  <a:lnTo>
                    <a:pt x="4311" y="221"/>
                  </a:lnTo>
                  <a:lnTo>
                    <a:pt x="4316" y="232"/>
                  </a:lnTo>
                  <a:lnTo>
                    <a:pt x="4320" y="242"/>
                  </a:lnTo>
                  <a:lnTo>
                    <a:pt x="4325" y="254"/>
                  </a:lnTo>
                  <a:lnTo>
                    <a:pt x="4328" y="265"/>
                  </a:lnTo>
                  <a:lnTo>
                    <a:pt x="4332" y="277"/>
                  </a:lnTo>
                  <a:lnTo>
                    <a:pt x="4335" y="290"/>
                  </a:lnTo>
                  <a:lnTo>
                    <a:pt x="4337" y="302"/>
                  </a:lnTo>
                  <a:lnTo>
                    <a:pt x="4339" y="315"/>
                  </a:lnTo>
                  <a:lnTo>
                    <a:pt x="4340" y="327"/>
                  </a:lnTo>
                  <a:lnTo>
                    <a:pt x="4341" y="341"/>
                  </a:lnTo>
                  <a:lnTo>
                    <a:pt x="4341" y="354"/>
                  </a:lnTo>
                  <a:close/>
                  <a:moveTo>
                    <a:pt x="4995" y="88"/>
                  </a:moveTo>
                  <a:lnTo>
                    <a:pt x="4995" y="0"/>
                  </a:lnTo>
                  <a:lnTo>
                    <a:pt x="4600" y="0"/>
                  </a:lnTo>
                  <a:lnTo>
                    <a:pt x="4600" y="700"/>
                  </a:lnTo>
                  <a:lnTo>
                    <a:pt x="4993" y="700"/>
                  </a:lnTo>
                  <a:lnTo>
                    <a:pt x="4993" y="611"/>
                  </a:lnTo>
                  <a:lnTo>
                    <a:pt x="4702" y="611"/>
                  </a:lnTo>
                  <a:lnTo>
                    <a:pt x="4702" y="381"/>
                  </a:lnTo>
                  <a:lnTo>
                    <a:pt x="4969" y="381"/>
                  </a:lnTo>
                  <a:lnTo>
                    <a:pt x="4969" y="291"/>
                  </a:lnTo>
                  <a:lnTo>
                    <a:pt x="4702" y="291"/>
                  </a:lnTo>
                  <a:lnTo>
                    <a:pt x="4702" y="88"/>
                  </a:lnTo>
                  <a:lnTo>
                    <a:pt x="4995" y="88"/>
                  </a:lnTo>
                  <a:close/>
                  <a:moveTo>
                    <a:pt x="5735" y="700"/>
                  </a:moveTo>
                  <a:lnTo>
                    <a:pt x="5735" y="0"/>
                  </a:lnTo>
                  <a:lnTo>
                    <a:pt x="5633" y="0"/>
                  </a:lnTo>
                  <a:lnTo>
                    <a:pt x="5633" y="561"/>
                  </a:lnTo>
                  <a:lnTo>
                    <a:pt x="5628" y="561"/>
                  </a:lnTo>
                  <a:lnTo>
                    <a:pt x="5324" y="0"/>
                  </a:lnTo>
                  <a:lnTo>
                    <a:pt x="5191" y="0"/>
                  </a:lnTo>
                  <a:lnTo>
                    <a:pt x="5191" y="700"/>
                  </a:lnTo>
                  <a:lnTo>
                    <a:pt x="5293" y="700"/>
                  </a:lnTo>
                  <a:lnTo>
                    <a:pt x="5293" y="139"/>
                  </a:lnTo>
                  <a:lnTo>
                    <a:pt x="5297" y="139"/>
                  </a:lnTo>
                  <a:lnTo>
                    <a:pt x="5602" y="700"/>
                  </a:lnTo>
                  <a:lnTo>
                    <a:pt x="5735" y="700"/>
                  </a:lnTo>
                  <a:close/>
                  <a:moveTo>
                    <a:pt x="6451" y="507"/>
                  </a:moveTo>
                  <a:lnTo>
                    <a:pt x="6451" y="0"/>
                  </a:lnTo>
                  <a:lnTo>
                    <a:pt x="6348" y="0"/>
                  </a:lnTo>
                  <a:lnTo>
                    <a:pt x="6348" y="507"/>
                  </a:lnTo>
                  <a:lnTo>
                    <a:pt x="6348" y="520"/>
                  </a:lnTo>
                  <a:lnTo>
                    <a:pt x="6346" y="533"/>
                  </a:lnTo>
                  <a:lnTo>
                    <a:pt x="6345" y="538"/>
                  </a:lnTo>
                  <a:lnTo>
                    <a:pt x="6344" y="544"/>
                  </a:lnTo>
                  <a:lnTo>
                    <a:pt x="6343" y="549"/>
                  </a:lnTo>
                  <a:lnTo>
                    <a:pt x="6341" y="555"/>
                  </a:lnTo>
                  <a:lnTo>
                    <a:pt x="6336" y="565"/>
                  </a:lnTo>
                  <a:lnTo>
                    <a:pt x="6331" y="575"/>
                  </a:lnTo>
                  <a:lnTo>
                    <a:pt x="6326" y="584"/>
                  </a:lnTo>
                  <a:lnTo>
                    <a:pt x="6318" y="591"/>
                  </a:lnTo>
                  <a:lnTo>
                    <a:pt x="6310" y="599"/>
                  </a:lnTo>
                  <a:lnTo>
                    <a:pt x="6302" y="605"/>
                  </a:lnTo>
                  <a:lnTo>
                    <a:pt x="6298" y="608"/>
                  </a:lnTo>
                  <a:lnTo>
                    <a:pt x="6293" y="611"/>
                  </a:lnTo>
                  <a:lnTo>
                    <a:pt x="6283" y="615"/>
                  </a:lnTo>
                  <a:lnTo>
                    <a:pt x="6273" y="618"/>
                  </a:lnTo>
                  <a:lnTo>
                    <a:pt x="6261" y="621"/>
                  </a:lnTo>
                  <a:lnTo>
                    <a:pt x="6249" y="623"/>
                  </a:lnTo>
                  <a:lnTo>
                    <a:pt x="6236" y="624"/>
                  </a:lnTo>
                  <a:lnTo>
                    <a:pt x="6214" y="624"/>
                  </a:lnTo>
                  <a:lnTo>
                    <a:pt x="6205" y="624"/>
                  </a:lnTo>
                  <a:lnTo>
                    <a:pt x="6196" y="623"/>
                  </a:lnTo>
                  <a:lnTo>
                    <a:pt x="6187" y="621"/>
                  </a:lnTo>
                  <a:lnTo>
                    <a:pt x="6181" y="618"/>
                  </a:lnTo>
                  <a:lnTo>
                    <a:pt x="6174" y="616"/>
                  </a:lnTo>
                  <a:lnTo>
                    <a:pt x="6168" y="613"/>
                  </a:lnTo>
                  <a:lnTo>
                    <a:pt x="6168" y="694"/>
                  </a:lnTo>
                  <a:lnTo>
                    <a:pt x="6176" y="699"/>
                  </a:lnTo>
                  <a:lnTo>
                    <a:pt x="6185" y="703"/>
                  </a:lnTo>
                  <a:lnTo>
                    <a:pt x="6196" y="706"/>
                  </a:lnTo>
                  <a:lnTo>
                    <a:pt x="6207" y="709"/>
                  </a:lnTo>
                  <a:lnTo>
                    <a:pt x="6220" y="711"/>
                  </a:lnTo>
                  <a:lnTo>
                    <a:pt x="6233" y="712"/>
                  </a:lnTo>
                  <a:lnTo>
                    <a:pt x="6247" y="713"/>
                  </a:lnTo>
                  <a:lnTo>
                    <a:pt x="6262" y="713"/>
                  </a:lnTo>
                  <a:lnTo>
                    <a:pt x="6273" y="713"/>
                  </a:lnTo>
                  <a:lnTo>
                    <a:pt x="6283" y="712"/>
                  </a:lnTo>
                  <a:lnTo>
                    <a:pt x="6293" y="711"/>
                  </a:lnTo>
                  <a:lnTo>
                    <a:pt x="6303" y="709"/>
                  </a:lnTo>
                  <a:lnTo>
                    <a:pt x="6322" y="705"/>
                  </a:lnTo>
                  <a:lnTo>
                    <a:pt x="6332" y="702"/>
                  </a:lnTo>
                  <a:lnTo>
                    <a:pt x="6341" y="698"/>
                  </a:lnTo>
                  <a:lnTo>
                    <a:pt x="6349" y="694"/>
                  </a:lnTo>
                  <a:lnTo>
                    <a:pt x="6357" y="690"/>
                  </a:lnTo>
                  <a:lnTo>
                    <a:pt x="6366" y="685"/>
                  </a:lnTo>
                  <a:lnTo>
                    <a:pt x="6373" y="680"/>
                  </a:lnTo>
                  <a:lnTo>
                    <a:pt x="6381" y="675"/>
                  </a:lnTo>
                  <a:lnTo>
                    <a:pt x="6388" y="668"/>
                  </a:lnTo>
                  <a:lnTo>
                    <a:pt x="6395" y="662"/>
                  </a:lnTo>
                  <a:lnTo>
                    <a:pt x="6401" y="654"/>
                  </a:lnTo>
                  <a:lnTo>
                    <a:pt x="6408" y="648"/>
                  </a:lnTo>
                  <a:lnTo>
                    <a:pt x="6413" y="640"/>
                  </a:lnTo>
                  <a:lnTo>
                    <a:pt x="6419" y="632"/>
                  </a:lnTo>
                  <a:lnTo>
                    <a:pt x="6424" y="624"/>
                  </a:lnTo>
                  <a:lnTo>
                    <a:pt x="6428" y="616"/>
                  </a:lnTo>
                  <a:lnTo>
                    <a:pt x="6432" y="608"/>
                  </a:lnTo>
                  <a:lnTo>
                    <a:pt x="6439" y="589"/>
                  </a:lnTo>
                  <a:lnTo>
                    <a:pt x="6441" y="581"/>
                  </a:lnTo>
                  <a:lnTo>
                    <a:pt x="6445" y="571"/>
                  </a:lnTo>
                  <a:lnTo>
                    <a:pt x="6447" y="561"/>
                  </a:lnTo>
                  <a:lnTo>
                    <a:pt x="6448" y="550"/>
                  </a:lnTo>
                  <a:lnTo>
                    <a:pt x="6449" y="541"/>
                  </a:lnTo>
                  <a:lnTo>
                    <a:pt x="6450" y="530"/>
                  </a:lnTo>
                  <a:lnTo>
                    <a:pt x="6451" y="519"/>
                  </a:lnTo>
                  <a:lnTo>
                    <a:pt x="6451" y="507"/>
                  </a:lnTo>
                  <a:close/>
                  <a:moveTo>
                    <a:pt x="7274" y="700"/>
                  </a:moveTo>
                  <a:lnTo>
                    <a:pt x="6968" y="0"/>
                  </a:lnTo>
                  <a:lnTo>
                    <a:pt x="6870" y="0"/>
                  </a:lnTo>
                  <a:lnTo>
                    <a:pt x="6565" y="700"/>
                  </a:lnTo>
                  <a:lnTo>
                    <a:pt x="6675" y="700"/>
                  </a:lnTo>
                  <a:lnTo>
                    <a:pt x="6747" y="521"/>
                  </a:lnTo>
                  <a:lnTo>
                    <a:pt x="7091" y="521"/>
                  </a:lnTo>
                  <a:lnTo>
                    <a:pt x="7163" y="700"/>
                  </a:lnTo>
                  <a:lnTo>
                    <a:pt x="7274" y="700"/>
                  </a:lnTo>
                  <a:close/>
                  <a:moveTo>
                    <a:pt x="7058" y="441"/>
                  </a:moveTo>
                  <a:lnTo>
                    <a:pt x="6781" y="441"/>
                  </a:lnTo>
                  <a:lnTo>
                    <a:pt x="6919" y="97"/>
                  </a:lnTo>
                  <a:lnTo>
                    <a:pt x="7058" y="441"/>
                  </a:lnTo>
                  <a:close/>
                </a:path>
              </a:pathLst>
            </a:custGeom>
            <a:solidFill>
              <a:srgbClr val="807f8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42" name="Picture 11" descr="SHORT_THL_LOGO_WEB_186x80px.jpg"/>
          <p:cNvPicPr/>
          <p:nvPr/>
        </p:nvPicPr>
        <p:blipFill>
          <a:blip r:embed="rId2"/>
          <a:srcRect l="0" t="9674" r="0" b="12828"/>
          <a:stretch/>
        </p:blipFill>
        <p:spPr>
          <a:xfrm>
            <a:off x="152280" y="5994360"/>
            <a:ext cx="1524240" cy="507960"/>
          </a:xfrm>
          <a:prstGeom prst="rect">
            <a:avLst/>
          </a:prstGeom>
          <a:ln w="0">
            <a:noFill/>
          </a:ln>
        </p:spPr>
      </p:pic>
      <p:sp>
        <p:nvSpPr>
          <p:cNvPr id="143"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bc143"/>
                </a:solidFill>
                <a:latin typeface="Arial"/>
              </a:rPr>
              <a:t>Click to edit the title text format</a:t>
            </a:r>
            <a:endParaRPr b="1" lang="en-US" sz="2800" spc="-1" strike="noStrike">
              <a:solidFill>
                <a:srgbClr val="7bc143"/>
              </a:solidFill>
              <a:latin typeface="Arial"/>
            </a:endParaRPr>
          </a:p>
        </p:txBody>
      </p:sp>
      <p:sp>
        <p:nvSpPr>
          <p:cNvPr id="144" name="PlaceHolder 2"/>
          <p:cNvSpPr>
            <a:spLocks noGrp="1"/>
          </p:cNvSpPr>
          <p:nvPr>
            <p:ph type="body"/>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625320" indent="-264960">
              <a:lnSpc>
                <a:spcPct val="9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00000" indent="-27468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165320" indent="-265320">
              <a:lnSpc>
                <a:spcPct val="9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430280" indent="-264960">
              <a:lnSpc>
                <a:spcPct val="9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430280" indent="-264960">
              <a:lnSpc>
                <a:spcPct val="9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430280" indent="-264960">
              <a:lnSpc>
                <a:spcPct val="9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145" name="PlaceHolder 3"/>
          <p:cNvSpPr>
            <a:spLocks noGrp="1"/>
          </p:cNvSpPr>
          <p:nvPr>
            <p:ph type="dt" idx="9"/>
          </p:nvPr>
        </p:nvSpPr>
        <p:spPr>
          <a:xfrm>
            <a:off x="456840" y="6589800"/>
            <a:ext cx="1090440" cy="2239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83857-F1E9-48F3-B365-05F7F547464F}" type="datetime">
              <a:rPr b="0" lang="fi-FI" sz="1000" spc="-1" strike="noStrike">
                <a:solidFill>
                  <a:srgbClr val="ffffff"/>
                </a:solidFill>
                <a:latin typeface="Times New Roman"/>
              </a:rPr>
              <a:t>29.07.26</a:t>
            </a:fld>
            <a:endParaRPr b="0" lang="en-US" sz="1000" spc="-1" strike="noStrike">
              <a:solidFill>
                <a:srgbClr val="000000"/>
              </a:solidFill>
              <a:latin typeface="Times New Roman"/>
            </a:endParaRPr>
          </a:p>
        </p:txBody>
      </p:sp>
      <p:sp>
        <p:nvSpPr>
          <p:cNvPr id="146" name="PlaceHolder 4"/>
          <p:cNvSpPr>
            <a:spLocks noGrp="1"/>
          </p:cNvSpPr>
          <p:nvPr>
            <p:ph type="ftr" idx="10"/>
          </p:nvPr>
        </p:nvSpPr>
        <p:spPr>
          <a:xfrm>
            <a:off x="1258560" y="6597360"/>
            <a:ext cx="6985080" cy="260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5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Times New Roman"/>
              </a:rPr>
              <a:t>http://fi.opasnet.org/fi/Tiedosto:Ilmastopolitiikka_rakennukset_ja_terveys.ppt</a:t>
            </a:r>
            <a:endParaRPr b="0" lang="en-US" sz="1500" spc="-1" strike="noStrike">
              <a:solidFill>
                <a:srgbClr val="000000"/>
              </a:solidFill>
              <a:latin typeface="Times New Roman"/>
            </a:endParaRPr>
          </a:p>
        </p:txBody>
      </p:sp>
      <p:sp>
        <p:nvSpPr>
          <p:cNvPr id="147" name="PlaceHolder 5"/>
          <p:cNvSpPr>
            <a:spLocks noGrp="1"/>
          </p:cNvSpPr>
          <p:nvPr>
            <p:ph type="sldNum" idx="11"/>
          </p:nvPr>
        </p:nvSpPr>
        <p:spPr>
          <a:xfrm>
            <a:off x="7596360" y="6597720"/>
            <a:ext cx="107928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69271-DCB3-4CE8-B220-09A7724B770F}" type="slidenum">
              <a:rPr b="0" lang="fi-FI"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2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image" Target="../media/image14.png"/><Relationship Id="rId15" Type="http://schemas.openxmlformats.org/officeDocument/2006/relationships/image" Target="../media/image14.png"/><Relationship Id="rId16" Type="http://schemas.openxmlformats.org/officeDocument/2006/relationships/image" Target="../media/image14.png"/><Relationship Id="rId17"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5.pn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7.png"/><Relationship Id="rId3" Type="http://schemas.openxmlformats.org/officeDocument/2006/relationships/slideLayout" Target="../slideLayouts/slideLayout25.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en.opasnet.org/w/Building_model" TargetMode="External"/><Relationship Id="rId2" Type="http://schemas.openxmlformats.org/officeDocument/2006/relationships/hyperlink" Target="http://en.opasnet.org/en-opwiki/index.php?title=Special:RTools&amp;id=t5MWITzIsQX6IThE" TargetMode="External"/><Relationship Id="rId3" Type="http://schemas.openxmlformats.org/officeDocument/2006/relationships/slideLayout" Target="../slideLayouts/slideLayout2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5.png"/><Relationship Id="rId10" Type="http://schemas.openxmlformats.org/officeDocument/2006/relationships/image" Target="../media/image15.png"/><Relationship Id="rId11" Type="http://schemas.openxmlformats.org/officeDocument/2006/relationships/image" Target="../media/image5.png"/><Relationship Id="rId1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5.png"/><Relationship Id="rId10" Type="http://schemas.openxmlformats.org/officeDocument/2006/relationships/image" Target="../media/image15.png"/><Relationship Id="rId11" Type="http://schemas.openxmlformats.org/officeDocument/2006/relationships/image" Target="../media/image5.png"/><Relationship Id="rId12" Type="http://schemas.openxmlformats.org/officeDocument/2006/relationships/slideLayout" Target="../slideLayouts/slideLayout25.xml"/><Relationship Id="rId13" Type="http://schemas.openxmlformats.org/officeDocument/2006/relationships/comments" Target="../comments/commen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hyperlink" Target="http://en.wikipedia.org/wiki/Thinking,_Fast_and_Slow" TargetMode="External"/><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hyperlink" Target="http://fi.opasnet.org/fi/APTK" TargetMode="External"/><Relationship Id="rId2" Type="http://schemas.openxmlformats.org/officeDocument/2006/relationships/hyperlink" Target="http://urn.fi/URN:NBN:fi-fe2014031821621" TargetMode="External"/><Relationship Id="rId3"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1143000"/>
            <a:ext cx="8207280" cy="129528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ffffff"/>
                </a:solidFill>
                <a:latin typeface="Arial"/>
              </a:rPr>
              <a:t>Rakennukset, ilmasto ja terveys</a:t>
            </a:r>
            <a:endParaRPr b="1" lang="en-US" sz="3400" spc="-1" strike="noStrike">
              <a:solidFill>
                <a:srgbClr val="7bc143"/>
              </a:solidFill>
              <a:latin typeface="Arial"/>
            </a:endParaRPr>
          </a:p>
        </p:txBody>
      </p:sp>
      <p:sp>
        <p:nvSpPr>
          <p:cNvPr id="192" name="PlaceHolder 2"/>
          <p:cNvSpPr>
            <a:spLocks noGrp="1"/>
          </p:cNvSpPr>
          <p:nvPr>
            <p:ph type="subTitle"/>
          </p:nvPr>
        </p:nvSpPr>
        <p:spPr>
          <a:xfrm>
            <a:off x="468360" y="2631600"/>
            <a:ext cx="8207280" cy="949320"/>
          </a:xfrm>
          <a:prstGeom prst="rect">
            <a:avLst/>
          </a:prstGeom>
          <a:noFill/>
          <a:ln w="0">
            <a:noFill/>
          </a:ln>
        </p:spPr>
        <p:txBody>
          <a:bodyPr anchor="t">
            <a:noAutofit/>
          </a:bodyPr>
          <a:p>
            <a:pPr indent="0" algn="ctr">
              <a:lnSpc>
                <a:spcPct val="9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ffffff"/>
                </a:solidFill>
                <a:latin typeface="Arial"/>
              </a:rPr>
              <a:t>Mahdollisuuksia kehittää terveysvaikutusten arviointia kaupungin päätöksenteossa </a:t>
            </a:r>
            <a:endParaRPr b="0" lang="en-US" sz="1800" spc="-1" strike="noStrike">
              <a:solidFill>
                <a:srgbClr val="000000"/>
              </a:solidFill>
              <a:latin typeface="Arial"/>
            </a:endParaRPr>
          </a:p>
          <a:p>
            <a:pPr indent="0" algn="ctr">
              <a:lnSpc>
                <a:spcPct val="9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ffffff"/>
                </a:solidFill>
                <a:latin typeface="Arial"/>
              </a:rPr>
              <a:t>Jouni Tuomisto, johtava tutkija, THL</a:t>
            </a:r>
            <a:endParaRPr b="0" lang="en-US" sz="1800" spc="-1" strike="noStrike">
              <a:solidFill>
                <a:srgbClr val="000000"/>
              </a:solidFill>
              <a:latin typeface="Arial"/>
            </a:endParaRPr>
          </a:p>
        </p:txBody>
      </p:sp>
      <p:sp>
        <p:nvSpPr>
          <p:cNvPr id="193" name="Date Placeholder 3"/>
          <p:cNvSpPr/>
          <p:nvPr/>
        </p:nvSpPr>
        <p:spPr>
          <a:xfrm>
            <a:off x="457200" y="6589800"/>
            <a:ext cx="1090440" cy="22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37CB1-9F3A-44CF-8C5B-B92E00BB2256}" type="datetime">
              <a:rPr b="0" lang="fi-FI" sz="1000" spc="-1" strike="noStrike">
                <a:solidFill>
                  <a:srgbClr val="ffffff"/>
                </a:solidFill>
                <a:latin typeface="Arial"/>
              </a:rPr>
              <a:t>29.07.26</a:t>
            </a:fld>
            <a:endParaRPr b="0" lang="en-US" sz="1000" spc="-1" strike="noStrike">
              <a:solidFill>
                <a:srgbClr val="000000"/>
              </a:solidFill>
              <a:latin typeface="Arial"/>
            </a:endParaRPr>
          </a:p>
        </p:txBody>
      </p:sp>
      <p:sp>
        <p:nvSpPr>
          <p:cNvPr id="194" name="Footer Placeholder 4"/>
          <p:cNvSpPr/>
          <p:nvPr/>
        </p:nvSpPr>
        <p:spPr>
          <a:xfrm>
            <a:off x="1258920" y="6553080"/>
            <a:ext cx="6769080" cy="260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ffffff"/>
                </a:solidFill>
                <a:latin typeface="Arial"/>
              </a:rPr>
              <a:t>http://fi.opasnet.org/fi/Tiedosto:Ilmastopolitiikka_rakennukset_ja_terveys.ppt</a:t>
            </a:r>
            <a:endParaRPr b="0" lang="en-US" sz="1400" spc="-1" strike="noStrike">
              <a:solidFill>
                <a:srgbClr val="000000"/>
              </a:solidFill>
              <a:latin typeface="Arial"/>
            </a:endParaRPr>
          </a:p>
        </p:txBody>
      </p:sp>
      <p:sp>
        <p:nvSpPr>
          <p:cNvPr id="195" name="Slide Number Placeholder 5"/>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BBCFD-233F-4263-86C5-B514218F9FD1}" type="slidenum">
              <a:rPr b="0" lang="fi-FI"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7bc143"/>
                </a:solidFill>
                <a:latin typeface="Arial"/>
              </a:rPr>
              <a:t>Rakennukset ja ikä kartalla</a:t>
            </a:r>
            <a:endParaRPr b="1" lang="en-US" sz="2800" spc="-1" strike="noStrike">
              <a:solidFill>
                <a:srgbClr val="7bc143"/>
              </a:solidFill>
              <a:latin typeface="Arial"/>
            </a:endParaRPr>
          </a:p>
        </p:txBody>
      </p:sp>
      <p:sp>
        <p:nvSpPr>
          <p:cNvPr id="308" name=""/>
          <p:cNvSpPr txBox="1"/>
          <p:nvPr/>
        </p:nvSpPr>
        <p:spPr>
          <a:xfrm>
            <a:off x="456840" y="1484280"/>
            <a:ext cx="8218440" cy="4392720"/>
          </a:xfrm>
          <a:prstGeom prst="rect">
            <a:avLst/>
          </a:prstGeom>
          <a:noFill/>
          <a:ln w="0">
            <a:noFill/>
          </a:ln>
        </p:spPr>
        <p:txBody>
          <a:bodyPr anchor="t">
            <a:normAutofit/>
          </a:bodyPr>
          <a:p>
            <a:pPr marL="357120" indent="-3571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9" name="Date Placeholder 3"/>
          <p:cNvSpPr/>
          <p:nvPr/>
        </p:nvSpPr>
        <p:spPr>
          <a:xfrm>
            <a:off x="457200" y="6589800"/>
            <a:ext cx="1090440" cy="22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99484-2ED7-471A-B270-929A48CCAF44}" type="datetime">
              <a:rPr b="0" lang="fi-FI" sz="1000" spc="-1" strike="noStrike">
                <a:solidFill>
                  <a:srgbClr val="ffffff"/>
                </a:solidFill>
                <a:latin typeface="Arial"/>
              </a:rPr>
              <a:t>29.07.26</a:t>
            </a:fld>
            <a:endParaRPr b="0" lang="en-US" sz="1000" spc="-1" strike="noStrike">
              <a:solidFill>
                <a:srgbClr val="000000"/>
              </a:solidFill>
              <a:latin typeface="Arial"/>
            </a:endParaRPr>
          </a:p>
        </p:txBody>
      </p:sp>
      <p:sp>
        <p:nvSpPr>
          <p:cNvPr id="310" name="Footer Placeholder 4"/>
          <p:cNvSpPr/>
          <p:nvPr/>
        </p:nvSpPr>
        <p:spPr>
          <a:xfrm>
            <a:off x="1258920" y="6597720"/>
            <a:ext cx="698508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Arial"/>
              </a:rPr>
              <a:t>http://fi.opasnet.org/fi/Tiedosto:Ilmastopolitiikka_rakennukset_ja_terveys.ppt</a:t>
            </a:r>
            <a:endParaRPr b="0" lang="en-US" sz="1500" spc="-1" strike="noStrike">
              <a:solidFill>
                <a:srgbClr val="000000"/>
              </a:solidFill>
              <a:latin typeface="Arial"/>
            </a:endParaRPr>
          </a:p>
        </p:txBody>
      </p:sp>
      <p:sp>
        <p:nvSpPr>
          <p:cNvPr id="311" name="Slide Number Placeholder 5"/>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8E39A-4313-40F1-ACDA-5A2BF16160FB}" type="slidenum">
              <a:rPr b="0" lang="en-GB" sz="1000" spc="-1" strike="noStrike">
                <a:solidFill>
                  <a:srgbClr val="ffffff"/>
                </a:solidFill>
                <a:latin typeface="Arial"/>
              </a:rPr>
              <a:t>&lt;number&gt;</a:t>
            </a:fld>
            <a:endParaRPr b="0" lang="en-US" sz="1000" spc="-1" strike="noStrike">
              <a:solidFill>
                <a:srgbClr val="000000"/>
              </a:solidFill>
              <a:latin typeface="Arial"/>
            </a:endParaRPr>
          </a:p>
        </p:txBody>
      </p:sp>
      <p:pic>
        <p:nvPicPr>
          <p:cNvPr id="312" name="Picture 2" descr=""/>
          <p:cNvPicPr/>
          <p:nvPr/>
        </p:nvPicPr>
        <p:blipFill>
          <a:blip r:embed="rId1"/>
          <a:stretch/>
        </p:blipFill>
        <p:spPr>
          <a:xfrm>
            <a:off x="0" y="0"/>
            <a:ext cx="10715760" cy="8037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68360" y="1267920"/>
            <a:ext cx="8207280" cy="792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7bc143"/>
                </a:solidFill>
                <a:latin typeface="Arial"/>
              </a:rPr>
              <a:t>Syysuhteiden ketju</a:t>
            </a:r>
            <a:endParaRPr b="1" lang="en-US" sz="2800" spc="-1" strike="noStrike">
              <a:solidFill>
                <a:srgbClr val="7bc143"/>
              </a:solidFill>
              <a:latin typeface="Arial"/>
            </a:endParaRPr>
          </a:p>
        </p:txBody>
      </p:sp>
      <p:sp>
        <p:nvSpPr>
          <p:cNvPr id="314" name=""/>
          <p:cNvSpPr txBox="1"/>
          <p:nvPr/>
        </p:nvSpPr>
        <p:spPr>
          <a:xfrm>
            <a:off x="971640" y="2205000"/>
            <a:ext cx="7704000" cy="3672000"/>
          </a:xfrm>
          <a:prstGeom prst="rect">
            <a:avLst/>
          </a:prstGeom>
          <a:noFill/>
          <a:ln w="0">
            <a:noFill/>
          </a:ln>
        </p:spPr>
        <p:txBody>
          <a:bodyPr anchor="t">
            <a:normAutofit/>
          </a:bodyPr>
          <a:p>
            <a:pPr marL="357120" indent="-3571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Rakennuskanta (rakennusala)</a:t>
            </a:r>
            <a:endParaRPr b="0" lang="en-US" sz="2200" spc="-1" strike="noStrike">
              <a:solidFill>
                <a:srgbClr val="000000"/>
              </a:solidFill>
              <a:latin typeface="Arial"/>
            </a:endParaRPr>
          </a:p>
          <a:p>
            <a:pPr marL="357120" indent="-3571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Lämmitysenergian tarve</a:t>
            </a:r>
            <a:endParaRPr b="0" lang="en-US" sz="2200" spc="-1" strike="noStrike">
              <a:solidFill>
                <a:srgbClr val="000000"/>
              </a:solidFill>
              <a:latin typeface="Arial"/>
            </a:endParaRPr>
          </a:p>
          <a:p>
            <a:pPr marL="357120" indent="-3571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Lämmitysratkaisut</a:t>
            </a:r>
            <a:endParaRPr b="0" lang="en-US" sz="2200" spc="-1" strike="noStrike">
              <a:solidFill>
                <a:srgbClr val="000000"/>
              </a:solidFill>
              <a:latin typeface="Arial"/>
            </a:endParaRPr>
          </a:p>
          <a:p>
            <a:pPr marL="357120" indent="-3571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Pienhiukkas- ja CO</a:t>
            </a:r>
            <a:r>
              <a:rPr b="0" lang="fi-FI" sz="2200" spc="-1" strike="noStrike" baseline="-25000">
                <a:solidFill>
                  <a:srgbClr val="000000"/>
                </a:solidFill>
                <a:latin typeface="Arial"/>
              </a:rPr>
              <a:t>2</a:t>
            </a:r>
            <a:r>
              <a:rPr b="0" lang="fi-FI" sz="2200" spc="-1" strike="noStrike">
                <a:solidFill>
                  <a:srgbClr val="000000"/>
                </a:solidFill>
                <a:latin typeface="Arial"/>
              </a:rPr>
              <a:t>-päästöt</a:t>
            </a:r>
            <a:endParaRPr b="0" lang="en-US" sz="2200" spc="-1" strike="noStrike">
              <a:solidFill>
                <a:srgbClr val="000000"/>
              </a:solidFill>
              <a:latin typeface="Arial"/>
            </a:endParaRPr>
          </a:p>
          <a:p>
            <a:pPr marL="357120" indent="-3571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Pienhiukkasten leviäminen ja altistus</a:t>
            </a:r>
            <a:endParaRPr b="0" lang="en-US" sz="2200" spc="-1" strike="noStrike">
              <a:solidFill>
                <a:srgbClr val="000000"/>
              </a:solidFill>
              <a:latin typeface="Arial"/>
            </a:endParaRPr>
          </a:p>
          <a:p>
            <a:pPr marL="357120" indent="-3571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Pienhiukkasten terveysvaikutukset</a:t>
            </a:r>
            <a:endParaRPr b="0" lang="en-US" sz="2200" spc="-1" strike="noStrike">
              <a:solidFill>
                <a:srgbClr val="000000"/>
              </a:solidFill>
              <a:latin typeface="Arial"/>
            </a:endParaRPr>
          </a:p>
        </p:txBody>
      </p:sp>
      <p:sp>
        <p:nvSpPr>
          <p:cNvPr id="315" name="Date Placeholder 3"/>
          <p:cNvSpPr/>
          <p:nvPr/>
        </p:nvSpPr>
        <p:spPr>
          <a:xfrm>
            <a:off x="457200" y="6589800"/>
            <a:ext cx="1090440" cy="22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1D7D0-458D-43E7-AFEA-8F23373D038D}" type="datetime">
              <a:rPr b="0" lang="fi-FI" sz="1000" spc="-1" strike="noStrike">
                <a:solidFill>
                  <a:srgbClr val="ffffff"/>
                </a:solidFill>
                <a:latin typeface="Arial"/>
              </a:rPr>
              <a:t>29.07.26</a:t>
            </a:fld>
            <a:endParaRPr b="0" lang="en-US" sz="1000" spc="-1" strike="noStrike">
              <a:solidFill>
                <a:srgbClr val="000000"/>
              </a:solidFill>
              <a:latin typeface="Arial"/>
            </a:endParaRPr>
          </a:p>
        </p:txBody>
      </p:sp>
      <p:sp>
        <p:nvSpPr>
          <p:cNvPr id="316" name="Slide Number Placeholder 5"/>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8F14A-4464-4C8D-9758-C9D24BBADB50}" type="slidenum">
              <a:rPr b="0" lang="en-GB" sz="1000" spc="-1" strike="noStrike">
                <a:solidFill>
                  <a:srgbClr val="ffffff"/>
                </a:solidFill>
                <a:latin typeface="Arial"/>
              </a:rPr>
              <a:t>&lt;number&gt;</a:t>
            </a:fld>
            <a:endParaRPr b="0" lang="en-US" sz="1000" spc="-1" strike="noStrike">
              <a:solidFill>
                <a:srgbClr val="000000"/>
              </a:solidFill>
              <a:latin typeface="Arial"/>
            </a:endParaRPr>
          </a:p>
        </p:txBody>
      </p:sp>
      <p:sp>
        <p:nvSpPr>
          <p:cNvPr id="317" name="Down Arrow 6"/>
          <p:cNvSpPr/>
          <p:nvPr/>
        </p:nvSpPr>
        <p:spPr>
          <a:xfrm>
            <a:off x="250920" y="2276640"/>
            <a:ext cx="576000" cy="2736720"/>
          </a:xfrm>
          <a:prstGeom prst="downArrow">
            <a:avLst>
              <a:gd name="adj1" fmla="val 50000"/>
              <a:gd name="adj2" fmla="val 50020"/>
            </a:avLst>
          </a:prstGeom>
          <a:solidFill>
            <a:srgbClr val="7bc143"/>
          </a:solidFill>
          <a:ln w="25560">
            <a:solidFill>
              <a:srgbClr val="598d2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Footer Placeholder 1"/>
          <p:cNvSpPr/>
          <p:nvPr/>
        </p:nvSpPr>
        <p:spPr>
          <a:xfrm>
            <a:off x="1258920" y="6597720"/>
            <a:ext cx="698508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Arial"/>
              </a:rPr>
              <a:t>http://fi.opasnet.org/fi/Tiedosto:Ilmastopolitiikka_rakennukset_ja_terveys.pp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7bc143"/>
                </a:solidFill>
                <a:latin typeface="Arial"/>
              </a:rPr>
              <a:t>Lähtötiedot ja mallit netissä</a:t>
            </a:r>
            <a:endParaRPr b="1" lang="en-US" sz="2800" spc="-1" strike="noStrike">
              <a:solidFill>
                <a:srgbClr val="7bc143"/>
              </a:solidFill>
              <a:latin typeface="Arial"/>
            </a:endParaRPr>
          </a:p>
        </p:txBody>
      </p:sp>
      <p:pic>
        <p:nvPicPr>
          <p:cNvPr id="320" name="Content Placeholder 6" descr=""/>
          <p:cNvPicPr/>
          <p:nvPr/>
        </p:nvPicPr>
        <p:blipFill>
          <a:blip r:embed="rId1"/>
          <a:stretch/>
        </p:blipFill>
        <p:spPr>
          <a:xfrm>
            <a:off x="453960" y="1413000"/>
            <a:ext cx="8359920" cy="4464000"/>
          </a:xfrm>
          <a:prstGeom prst="rect">
            <a:avLst/>
          </a:prstGeom>
          <a:ln w="0">
            <a:noFill/>
          </a:ln>
        </p:spPr>
      </p:pic>
      <p:sp>
        <p:nvSpPr>
          <p:cNvPr id="321" name="Date Placeholder 3"/>
          <p:cNvSpPr/>
          <p:nvPr/>
        </p:nvSpPr>
        <p:spPr>
          <a:xfrm>
            <a:off x="457200" y="6589800"/>
            <a:ext cx="1090440" cy="22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9A6CE-6602-4318-9C58-88A46F590FEF}" type="datetime">
              <a:rPr b="0" lang="fi-FI" sz="1000" spc="-1" strike="noStrike">
                <a:solidFill>
                  <a:srgbClr val="ffffff"/>
                </a:solidFill>
                <a:latin typeface="Arial"/>
              </a:rPr>
              <a:t>29.07.26</a:t>
            </a:fld>
            <a:endParaRPr b="0" lang="en-US" sz="1000" spc="-1" strike="noStrike">
              <a:solidFill>
                <a:srgbClr val="000000"/>
              </a:solidFill>
              <a:latin typeface="Arial"/>
            </a:endParaRPr>
          </a:p>
        </p:txBody>
      </p:sp>
      <p:sp>
        <p:nvSpPr>
          <p:cNvPr id="322" name="Slide Number Placeholder 5"/>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4AD20-34E9-4993-9003-10547A7DE48D}" type="slidenum">
              <a:rPr b="0" lang="en-GB" sz="1000" spc="-1" strike="noStrike">
                <a:solidFill>
                  <a:srgbClr val="ffffff"/>
                </a:solidFill>
                <a:latin typeface="Arial"/>
              </a:rPr>
              <a:t>&lt;number&gt;</a:t>
            </a:fld>
            <a:endParaRPr b="0" lang="en-US" sz="1000" spc="-1" strike="noStrike">
              <a:solidFill>
                <a:srgbClr val="000000"/>
              </a:solidFill>
              <a:latin typeface="Arial"/>
            </a:endParaRPr>
          </a:p>
        </p:txBody>
      </p:sp>
      <p:sp>
        <p:nvSpPr>
          <p:cNvPr id="323" name="Footer Placeholder 1"/>
          <p:cNvSpPr/>
          <p:nvPr/>
        </p:nvSpPr>
        <p:spPr>
          <a:xfrm>
            <a:off x="1258920" y="6597720"/>
            <a:ext cx="698508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Arial"/>
              </a:rPr>
              <a:t>http://fi.opasnet.org/fi/Tiedosto:Ilmastopolitiikka_rakennukset_ja_terveys.pp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7bc143"/>
                </a:solidFill>
                <a:latin typeface="Arial"/>
              </a:rPr>
              <a:t>Rakennuskannan kehitys</a:t>
            </a:r>
            <a:endParaRPr b="1" lang="en-US" sz="2800" spc="-1" strike="noStrike">
              <a:solidFill>
                <a:srgbClr val="7bc143"/>
              </a:solidFill>
              <a:latin typeface="Arial"/>
            </a:endParaRPr>
          </a:p>
        </p:txBody>
      </p:sp>
      <p:pic>
        <p:nvPicPr>
          <p:cNvPr id="325" name="Content Placeholder 6" descr=""/>
          <p:cNvPicPr/>
          <p:nvPr/>
        </p:nvPicPr>
        <p:blipFill>
          <a:blip r:embed="rId1"/>
          <a:stretch/>
        </p:blipFill>
        <p:spPr>
          <a:xfrm>
            <a:off x="0" y="-27000"/>
            <a:ext cx="9144000" cy="6531120"/>
          </a:xfrm>
          <a:prstGeom prst="rect">
            <a:avLst/>
          </a:prstGeom>
          <a:ln w="0">
            <a:noFill/>
          </a:ln>
        </p:spPr>
      </p:pic>
      <p:sp>
        <p:nvSpPr>
          <p:cNvPr id="326" name="Date Placeholder 3"/>
          <p:cNvSpPr/>
          <p:nvPr/>
        </p:nvSpPr>
        <p:spPr>
          <a:xfrm>
            <a:off x="457200" y="6589800"/>
            <a:ext cx="1090440" cy="22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CB4CF-8DE7-4761-8FD9-0EDCAEC376CA}" type="datetime">
              <a:rPr b="0" lang="fi-FI" sz="1000" spc="-1" strike="noStrike">
                <a:solidFill>
                  <a:srgbClr val="ffffff"/>
                </a:solidFill>
                <a:latin typeface="Arial"/>
              </a:rPr>
              <a:t>29.07.26</a:t>
            </a:fld>
            <a:endParaRPr b="0" lang="en-US" sz="1000" spc="-1" strike="noStrike">
              <a:solidFill>
                <a:srgbClr val="000000"/>
              </a:solidFill>
              <a:latin typeface="Arial"/>
            </a:endParaRPr>
          </a:p>
        </p:txBody>
      </p:sp>
      <p:sp>
        <p:nvSpPr>
          <p:cNvPr id="327" name="Slide Number Placeholder 5"/>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973B9-582F-4E82-A686-0891D74881F1}" type="slidenum">
              <a:rPr b="0" lang="en-GB" sz="1000" spc="-1" strike="noStrike">
                <a:solidFill>
                  <a:srgbClr val="ffffff"/>
                </a:solidFill>
                <a:latin typeface="Arial"/>
              </a:rPr>
              <a:t>&lt;number&gt;</a:t>
            </a:fld>
            <a:endParaRPr b="0" lang="en-US" sz="1000" spc="-1" strike="noStrike">
              <a:solidFill>
                <a:srgbClr val="000000"/>
              </a:solidFill>
              <a:latin typeface="Arial"/>
            </a:endParaRPr>
          </a:p>
        </p:txBody>
      </p:sp>
      <p:sp>
        <p:nvSpPr>
          <p:cNvPr id="328" name="Footer Placeholder 1"/>
          <p:cNvSpPr/>
          <p:nvPr/>
        </p:nvSpPr>
        <p:spPr>
          <a:xfrm>
            <a:off x="1258920" y="6597720"/>
            <a:ext cx="698508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Arial"/>
              </a:rPr>
              <a:t>http://fi.opasnet.org/fi/Tiedosto:Ilmastopolitiikka_rakennukset_ja_terveys.pp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7bc143"/>
                </a:solidFill>
                <a:latin typeface="Arial"/>
              </a:rPr>
              <a:t>Lämmitysenergian tarve</a:t>
            </a:r>
            <a:endParaRPr b="1" lang="en-US" sz="2800" spc="-1" strike="noStrike">
              <a:solidFill>
                <a:srgbClr val="7bc143"/>
              </a:solidFill>
              <a:latin typeface="Arial"/>
            </a:endParaRPr>
          </a:p>
        </p:txBody>
      </p:sp>
      <p:pic>
        <p:nvPicPr>
          <p:cNvPr id="330" name="Content Placeholder 10" descr=""/>
          <p:cNvPicPr/>
          <p:nvPr/>
        </p:nvPicPr>
        <p:blipFill>
          <a:blip r:embed="rId1"/>
          <a:stretch/>
        </p:blipFill>
        <p:spPr>
          <a:xfrm>
            <a:off x="0" y="0"/>
            <a:ext cx="9136080" cy="6524640"/>
          </a:xfrm>
          <a:prstGeom prst="rect">
            <a:avLst/>
          </a:prstGeom>
          <a:ln w="0">
            <a:noFill/>
          </a:ln>
        </p:spPr>
      </p:pic>
      <p:sp>
        <p:nvSpPr>
          <p:cNvPr id="331" name="Date Placeholder 3"/>
          <p:cNvSpPr/>
          <p:nvPr/>
        </p:nvSpPr>
        <p:spPr>
          <a:xfrm>
            <a:off x="457200" y="6589800"/>
            <a:ext cx="1090440" cy="22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5DE6B-394B-4BF5-8D79-2AD0E32848EA}" type="datetime">
              <a:rPr b="0" lang="fi-FI" sz="1000" spc="-1" strike="noStrike">
                <a:solidFill>
                  <a:srgbClr val="ffffff"/>
                </a:solidFill>
                <a:latin typeface="Arial"/>
              </a:rPr>
              <a:t>29.07.26</a:t>
            </a:fld>
            <a:endParaRPr b="0" lang="en-US" sz="1000" spc="-1" strike="noStrike">
              <a:solidFill>
                <a:srgbClr val="000000"/>
              </a:solidFill>
              <a:latin typeface="Arial"/>
            </a:endParaRPr>
          </a:p>
        </p:txBody>
      </p:sp>
      <p:sp>
        <p:nvSpPr>
          <p:cNvPr id="332" name="Slide Number Placeholder 5"/>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EE010-E283-4740-B6B8-9AA562DFC3C4}" type="slidenum">
              <a:rPr b="0" lang="en-GB" sz="1000" spc="-1" strike="noStrike">
                <a:solidFill>
                  <a:srgbClr val="ffffff"/>
                </a:solidFill>
                <a:latin typeface="Arial"/>
              </a:rPr>
              <a:t>&lt;number&gt;</a:t>
            </a:fld>
            <a:endParaRPr b="0" lang="en-US" sz="1000" spc="-1" strike="noStrike">
              <a:solidFill>
                <a:srgbClr val="000000"/>
              </a:solidFill>
              <a:latin typeface="Arial"/>
            </a:endParaRPr>
          </a:p>
        </p:txBody>
      </p:sp>
      <p:sp>
        <p:nvSpPr>
          <p:cNvPr id="333" name="Footer Placeholder 1"/>
          <p:cNvSpPr/>
          <p:nvPr/>
        </p:nvSpPr>
        <p:spPr>
          <a:xfrm>
            <a:off x="1258920" y="6597720"/>
            <a:ext cx="698508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Arial"/>
              </a:rPr>
              <a:t>http://fi.opasnet.org/fi/Tiedosto:Ilmastopolitiikka_rakennukset_ja_terveys.pp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7bc143"/>
                </a:solidFill>
                <a:latin typeface="Arial"/>
              </a:rPr>
              <a:t>Päästöt</a:t>
            </a:r>
            <a:endParaRPr b="1" lang="en-US" sz="2800" spc="-1" strike="noStrike">
              <a:solidFill>
                <a:srgbClr val="7bc143"/>
              </a:solidFill>
              <a:latin typeface="Arial"/>
            </a:endParaRPr>
          </a:p>
        </p:txBody>
      </p:sp>
      <p:pic>
        <p:nvPicPr>
          <p:cNvPr id="335" name="Content Placeholder 10" descr=""/>
          <p:cNvPicPr/>
          <p:nvPr/>
        </p:nvPicPr>
        <p:blipFill>
          <a:blip r:embed="rId1"/>
          <a:stretch/>
        </p:blipFill>
        <p:spPr>
          <a:xfrm>
            <a:off x="0" y="0"/>
            <a:ext cx="9144000" cy="6531120"/>
          </a:xfrm>
          <a:prstGeom prst="rect">
            <a:avLst/>
          </a:prstGeom>
          <a:ln w="0">
            <a:noFill/>
          </a:ln>
        </p:spPr>
      </p:pic>
      <p:sp>
        <p:nvSpPr>
          <p:cNvPr id="336" name="Date Placeholder 3"/>
          <p:cNvSpPr/>
          <p:nvPr/>
        </p:nvSpPr>
        <p:spPr>
          <a:xfrm>
            <a:off x="457200" y="6589800"/>
            <a:ext cx="1090440" cy="22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F5A60-0599-4466-80A1-F4DAC6C56DF7}" type="datetime">
              <a:rPr b="0" lang="fi-FI" sz="1000" spc="-1" strike="noStrike">
                <a:solidFill>
                  <a:srgbClr val="ffffff"/>
                </a:solidFill>
                <a:latin typeface="Arial"/>
              </a:rPr>
              <a:t>29.07.26</a:t>
            </a:fld>
            <a:endParaRPr b="0" lang="en-US" sz="1000" spc="-1" strike="noStrike">
              <a:solidFill>
                <a:srgbClr val="000000"/>
              </a:solidFill>
              <a:latin typeface="Arial"/>
            </a:endParaRPr>
          </a:p>
        </p:txBody>
      </p:sp>
      <p:sp>
        <p:nvSpPr>
          <p:cNvPr id="337" name="Slide Number Placeholder 5"/>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80F1C-8425-483B-B86A-BEE27CB32AE4}" type="slidenum">
              <a:rPr b="0" lang="en-GB" sz="1000" spc="-1" strike="noStrike">
                <a:solidFill>
                  <a:srgbClr val="ffffff"/>
                </a:solidFill>
                <a:latin typeface="Arial"/>
              </a:rPr>
              <a:t>&lt;number&gt;</a:t>
            </a:fld>
            <a:endParaRPr b="0" lang="en-US" sz="1000" spc="-1" strike="noStrike">
              <a:solidFill>
                <a:srgbClr val="000000"/>
              </a:solidFill>
              <a:latin typeface="Arial"/>
            </a:endParaRPr>
          </a:p>
        </p:txBody>
      </p:sp>
      <p:sp>
        <p:nvSpPr>
          <p:cNvPr id="338" name="Footer Placeholder 1"/>
          <p:cNvSpPr/>
          <p:nvPr/>
        </p:nvSpPr>
        <p:spPr>
          <a:xfrm>
            <a:off x="1258920" y="6597720"/>
            <a:ext cx="698508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Arial"/>
              </a:rPr>
              <a:t>http://fi.opasnet.org/fi/Tiedosto:Ilmastopolitiikka_rakennukset_ja_terveys.pp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7bc143"/>
                </a:solidFill>
                <a:latin typeface="Arial"/>
              </a:rPr>
              <a:t>Terveysvaikutukset</a:t>
            </a:r>
            <a:endParaRPr b="1" lang="en-US" sz="2800" spc="-1" strike="noStrike">
              <a:solidFill>
                <a:srgbClr val="7bc143"/>
              </a:solidFill>
              <a:latin typeface="Arial"/>
            </a:endParaRPr>
          </a:p>
        </p:txBody>
      </p:sp>
      <p:sp>
        <p:nvSpPr>
          <p:cNvPr id="340" name="Date Placeholder 3"/>
          <p:cNvSpPr/>
          <p:nvPr/>
        </p:nvSpPr>
        <p:spPr>
          <a:xfrm>
            <a:off x="457200" y="6589800"/>
            <a:ext cx="1090440" cy="22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4EDA9-2F2A-4D3C-9A28-8823FF116454}" type="datetime">
              <a:rPr b="0" lang="fi-FI" sz="1000" spc="-1" strike="noStrike">
                <a:solidFill>
                  <a:srgbClr val="ffffff"/>
                </a:solidFill>
                <a:latin typeface="Arial"/>
              </a:rPr>
              <a:t>29.07.26</a:t>
            </a:fld>
            <a:endParaRPr b="0" lang="en-US" sz="1000" spc="-1" strike="noStrike">
              <a:solidFill>
                <a:srgbClr val="000000"/>
              </a:solidFill>
              <a:latin typeface="Arial"/>
            </a:endParaRPr>
          </a:p>
        </p:txBody>
      </p:sp>
      <p:sp>
        <p:nvSpPr>
          <p:cNvPr id="341" name="Slide Number Placeholder 5"/>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D034F-4977-4297-B00E-3AC6F72E58E1}" type="slidenum">
              <a:rPr b="0" lang="en-GB" sz="1000" spc="-1" strike="noStrike">
                <a:solidFill>
                  <a:srgbClr val="ffffff"/>
                </a:solidFill>
                <a:latin typeface="Arial"/>
              </a:rPr>
              <a:t>&lt;number&gt;</a:t>
            </a:fld>
            <a:endParaRPr b="0" lang="en-US" sz="1000" spc="-1" strike="noStrike">
              <a:solidFill>
                <a:srgbClr val="000000"/>
              </a:solidFill>
              <a:latin typeface="Arial"/>
            </a:endParaRPr>
          </a:p>
        </p:txBody>
      </p:sp>
      <p:sp>
        <p:nvSpPr>
          <p:cNvPr id="342" name="Footer Placeholder 1"/>
          <p:cNvSpPr/>
          <p:nvPr/>
        </p:nvSpPr>
        <p:spPr>
          <a:xfrm>
            <a:off x="1258920" y="6597720"/>
            <a:ext cx="698508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Arial"/>
              </a:rPr>
              <a:t>http://fi.opasnet.org/fi/Tiedosto:Ilmastopolitiikka_rakennukset_ja_terveys.ppt</a:t>
            </a:r>
            <a:endParaRPr b="0" lang="en-US" sz="1500" spc="-1" strike="noStrike">
              <a:solidFill>
                <a:srgbClr val="000000"/>
              </a:solidFill>
              <a:latin typeface="Arial"/>
            </a:endParaRPr>
          </a:p>
        </p:txBody>
      </p:sp>
      <p:pic>
        <p:nvPicPr>
          <p:cNvPr id="343" name="" descr=""/>
          <p:cNvPicPr/>
          <p:nvPr/>
        </p:nvPicPr>
        <p:blipFill>
          <a:blip r:embed="rId1"/>
          <a:stretch/>
        </p:blipFill>
        <p:spPr>
          <a:xfrm>
            <a:off x="456840" y="1484280"/>
            <a:ext cx="8218440" cy="4392720"/>
          </a:xfrm>
          <a:prstGeom prst="rect">
            <a:avLst/>
          </a:prstGeom>
          <a:ln w="0">
            <a:noFill/>
          </a:ln>
        </p:spPr>
      </p:pic>
      <p:pic>
        <p:nvPicPr>
          <p:cNvPr id="344" name="Picture 7" descr=""/>
          <p:cNvPicPr/>
          <p:nvPr/>
        </p:nvPicPr>
        <p:blipFill>
          <a:blip r:embed="rId2"/>
          <a:stretch/>
        </p:blipFill>
        <p:spPr>
          <a:xfrm>
            <a:off x="179280" y="7920"/>
            <a:ext cx="8748720" cy="6545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600" spc="-1" strike="noStrike">
                <a:solidFill>
                  <a:srgbClr val="7bc143"/>
                </a:solidFill>
                <a:latin typeface="Arial"/>
              </a:rPr>
              <a:t>Päätelmiä Kuopion-arvioinnista</a:t>
            </a:r>
            <a:endParaRPr b="1" lang="en-US" sz="3600" spc="-1" strike="noStrike">
              <a:solidFill>
                <a:srgbClr val="7bc143"/>
              </a:solidFill>
              <a:latin typeface="Arial"/>
            </a:endParaRPr>
          </a:p>
        </p:txBody>
      </p:sp>
      <p:sp>
        <p:nvSpPr>
          <p:cNvPr id="346" name=""/>
          <p:cNvSpPr txBox="1"/>
          <p:nvPr/>
        </p:nvSpPr>
        <p:spPr>
          <a:xfrm>
            <a:off x="456840" y="1484280"/>
            <a:ext cx="8218440" cy="4392720"/>
          </a:xfrm>
          <a:prstGeom prst="rect">
            <a:avLst/>
          </a:prstGeom>
          <a:noFill/>
          <a:ln w="0">
            <a:noFill/>
          </a:ln>
        </p:spPr>
        <p:txBody>
          <a:bodyPr anchor="t">
            <a:normAutofit/>
          </a:bodyPr>
          <a:p>
            <a:pPr marL="357120" indent="-3571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Sisäympäristön laatu:</a:t>
            </a:r>
            <a:endParaRPr b="0" lang="en-US" sz="2800" spc="-1" strike="noStrike">
              <a:solidFill>
                <a:srgbClr val="000000"/>
              </a:solidFill>
              <a:latin typeface="Arial"/>
            </a:endParaRPr>
          </a:p>
          <a:p>
            <a:pPr lvl="1" marL="625320" indent="-26496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riittinen tekijä ja pitää huomioida.</a:t>
            </a:r>
            <a:endParaRPr b="0" lang="en-US" sz="2000" spc="-1" strike="noStrike">
              <a:solidFill>
                <a:srgbClr val="000000"/>
              </a:solidFill>
              <a:latin typeface="Arial"/>
            </a:endParaRPr>
          </a:p>
          <a:p>
            <a:pPr lvl="1" marL="625320" indent="-26496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uitenkaan nykymalli ei vielä sisällä vaikutuksia sisäympäristöön.</a:t>
            </a:r>
            <a:endParaRPr b="0" lang="en-US" sz="2000" spc="-1" strike="noStrike">
              <a:solidFill>
                <a:srgbClr val="000000"/>
              </a:solidFill>
              <a:latin typeface="Arial"/>
            </a:endParaRPr>
          </a:p>
          <a:p>
            <a:pPr marL="357120" indent="-3571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Vaikutukset terveyteen ovat pienet, MUTTA:</a:t>
            </a:r>
            <a:endParaRPr b="0" lang="en-US" sz="2200" spc="-1" strike="noStrike">
              <a:solidFill>
                <a:srgbClr val="000000"/>
              </a:solidFill>
              <a:latin typeface="Arial"/>
            </a:endParaRPr>
          </a:p>
          <a:p>
            <a:pPr lvl="1" marL="625320" indent="-26496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CO2-päästöarviot riippuvat viitekehyksestä.</a:t>
            </a:r>
            <a:endParaRPr b="0" lang="en-US" sz="2000" spc="-1" strike="noStrike">
              <a:solidFill>
                <a:srgbClr val="000000"/>
              </a:solidFill>
              <a:latin typeface="Arial"/>
            </a:endParaRPr>
          </a:p>
          <a:p>
            <a:pPr lvl="1" marL="625320" indent="-26496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Lisälämmitys puulla aiheuttaa isot päästöt muttei vielä sisälly malliin.</a:t>
            </a:r>
            <a:endParaRPr b="0" lang="en-US" sz="2000" spc="-1" strike="noStrike">
              <a:solidFill>
                <a:srgbClr val="000000"/>
              </a:solidFill>
              <a:latin typeface="Arial"/>
            </a:endParaRPr>
          </a:p>
        </p:txBody>
      </p:sp>
      <p:sp>
        <p:nvSpPr>
          <p:cNvPr id="347" name="Date Placeholder 3"/>
          <p:cNvSpPr/>
          <p:nvPr/>
        </p:nvSpPr>
        <p:spPr>
          <a:xfrm>
            <a:off x="457200" y="6589800"/>
            <a:ext cx="1090440" cy="22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9A3EA-5638-4882-AF4B-1D7B09434FB9}" type="datetime">
              <a:rPr b="0" lang="fi-FI" sz="1000" spc="-1" strike="noStrike">
                <a:solidFill>
                  <a:srgbClr val="ffffff"/>
                </a:solidFill>
                <a:latin typeface="Arial"/>
              </a:rPr>
              <a:t>29.07.26</a:t>
            </a:fld>
            <a:endParaRPr b="0" lang="en-US" sz="1000" spc="-1" strike="noStrike">
              <a:solidFill>
                <a:srgbClr val="000000"/>
              </a:solidFill>
              <a:latin typeface="Arial"/>
            </a:endParaRPr>
          </a:p>
        </p:txBody>
      </p:sp>
      <p:sp>
        <p:nvSpPr>
          <p:cNvPr id="348" name="Slide Number Placeholder 5"/>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A3968-8296-407D-9DC9-B3AA4A53735A}" type="slidenum">
              <a:rPr b="0" lang="en-GB" sz="1000" spc="-1" strike="noStrike">
                <a:solidFill>
                  <a:srgbClr val="ffffff"/>
                </a:solidFill>
                <a:latin typeface="Arial"/>
              </a:rPr>
              <a:t>&lt;number&gt;</a:t>
            </a:fld>
            <a:endParaRPr b="0" lang="en-US" sz="1000" spc="-1" strike="noStrike">
              <a:solidFill>
                <a:srgbClr val="000000"/>
              </a:solidFill>
              <a:latin typeface="Arial"/>
            </a:endParaRPr>
          </a:p>
        </p:txBody>
      </p:sp>
      <p:sp>
        <p:nvSpPr>
          <p:cNvPr id="349" name="Footer Placeholder 1"/>
          <p:cNvSpPr/>
          <p:nvPr/>
        </p:nvSpPr>
        <p:spPr>
          <a:xfrm>
            <a:off x="1258920" y="6597720"/>
            <a:ext cx="698508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Arial"/>
              </a:rPr>
              <a:t>http://fi.opasnet.org/fi/Tiedosto:Ilmastopolitiikka_rakennukset_ja_terveys.pp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7bc143"/>
                </a:solidFill>
                <a:latin typeface="Arial"/>
              </a:rPr>
              <a:t>Tähän esimerkki uudella HIA-mallilla toteutettuna</a:t>
            </a:r>
            <a:endParaRPr b="1" lang="en-US" sz="2800" spc="-1" strike="noStrike">
              <a:solidFill>
                <a:srgbClr val="7bc143"/>
              </a:solidFill>
              <a:latin typeface="Arial"/>
            </a:endParaRPr>
          </a:p>
        </p:txBody>
      </p:sp>
      <p:pic>
        <p:nvPicPr>
          <p:cNvPr id="351" name="" descr=""/>
          <p:cNvPicPr/>
          <p:nvPr/>
        </p:nvPicPr>
        <p:blipFill>
          <a:blip r:embed="rId1"/>
          <a:stretch/>
        </p:blipFill>
        <p:spPr>
          <a:xfrm>
            <a:off x="456840" y="1484280"/>
            <a:ext cx="8218440" cy="4392720"/>
          </a:xfrm>
          <a:prstGeom prst="rect">
            <a:avLst/>
          </a:prstGeom>
          <a:ln w="0">
            <a:noFill/>
          </a:ln>
        </p:spPr>
      </p:pic>
      <p:sp>
        <p:nvSpPr>
          <p:cNvPr id="352" name="Date Placeholder 3"/>
          <p:cNvSpPr/>
          <p:nvPr/>
        </p:nvSpPr>
        <p:spPr>
          <a:xfrm>
            <a:off x="457200" y="6589800"/>
            <a:ext cx="1090440" cy="22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D5985-3E4E-402E-AD14-B36CE283A6A3}" type="datetime">
              <a:rPr b="0" lang="fi-FI" sz="1000" spc="-1" strike="noStrike">
                <a:solidFill>
                  <a:srgbClr val="ffffff"/>
                </a:solidFill>
                <a:latin typeface="Arial"/>
              </a:rPr>
              <a:t>29.07.26</a:t>
            </a:fld>
            <a:endParaRPr b="0" lang="en-US" sz="1000" spc="-1" strike="noStrike">
              <a:solidFill>
                <a:srgbClr val="000000"/>
              </a:solidFill>
              <a:latin typeface="Arial"/>
            </a:endParaRPr>
          </a:p>
        </p:txBody>
      </p:sp>
      <p:sp>
        <p:nvSpPr>
          <p:cNvPr id="353" name="Footer Placeholder 4"/>
          <p:cNvSpPr/>
          <p:nvPr/>
        </p:nvSpPr>
        <p:spPr>
          <a:xfrm>
            <a:off x="1258920" y="6597720"/>
            <a:ext cx="698508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Arial"/>
              </a:rPr>
              <a:t>http://fi.opasnet.org/fi/Tiedosto:Ilmastopolitiikka_rakennukset_ja_terveys.ppt</a:t>
            </a:r>
            <a:endParaRPr b="0" lang="en-US" sz="1500" spc="-1" strike="noStrike">
              <a:solidFill>
                <a:srgbClr val="000000"/>
              </a:solidFill>
              <a:latin typeface="Arial"/>
            </a:endParaRPr>
          </a:p>
        </p:txBody>
      </p:sp>
      <p:sp>
        <p:nvSpPr>
          <p:cNvPr id="354" name="Slide Number Placeholder 5"/>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B9EA0-818A-429F-B035-789547928DD5}" type="slidenum">
              <a:rPr b="0" lang="fi-FI"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7bc143"/>
                </a:solidFill>
                <a:latin typeface="Arial"/>
              </a:rPr>
              <a:t>Päätelmiä arviointityöstä</a:t>
            </a:r>
            <a:endParaRPr b="1" lang="en-US" sz="2800" spc="-1" strike="noStrike">
              <a:solidFill>
                <a:srgbClr val="7bc143"/>
              </a:solidFill>
              <a:latin typeface="Arial"/>
            </a:endParaRPr>
          </a:p>
        </p:txBody>
      </p:sp>
      <p:sp>
        <p:nvSpPr>
          <p:cNvPr id="356" name=""/>
          <p:cNvSpPr txBox="1"/>
          <p:nvPr/>
        </p:nvSpPr>
        <p:spPr>
          <a:xfrm>
            <a:off x="456840" y="1197000"/>
            <a:ext cx="8218440" cy="4680000"/>
          </a:xfrm>
          <a:prstGeom prst="rect">
            <a:avLst/>
          </a:prstGeom>
          <a:noFill/>
          <a:ln w="0">
            <a:noFill/>
          </a:ln>
        </p:spPr>
        <p:txBody>
          <a:bodyPr anchor="t">
            <a:normAutofit fontScale="99000"/>
          </a:bodyPr>
          <a:p>
            <a:pPr marL="353520" indent="-3535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Kuka tahansa voi nyt käyttää rakennuskantamallia ja arvioida päästöjä ja terveysvaikutuksia.</a:t>
            </a:r>
            <a:endParaRPr b="0" lang="en-US" sz="2200" spc="-1" strike="noStrike">
              <a:solidFill>
                <a:srgbClr val="000000"/>
              </a:solidFill>
              <a:latin typeface="Arial"/>
            </a:endParaRPr>
          </a:p>
          <a:p>
            <a:pPr lvl="1" marL="618840" indent="-2620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uopion-mallin soveltaminen Baseliin vei vain kaksi työpäivää, vaikka datan rakenne poikkesi.</a:t>
            </a:r>
            <a:endParaRPr b="0" lang="en-US" sz="2000" spc="-1" strike="noStrike">
              <a:solidFill>
                <a:srgbClr val="000000"/>
              </a:solidFill>
              <a:latin typeface="Arial"/>
            </a:endParaRPr>
          </a:p>
          <a:p>
            <a:pPr marL="353520" indent="-3535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Päätösvaihtoehtojen luominen on vaikeaa niin päättäjille kuin asiantuntijoille.</a:t>
            </a:r>
            <a:endParaRPr b="0" lang="en-US" sz="2200" spc="-1" strike="noStrike">
              <a:solidFill>
                <a:srgbClr val="000000"/>
              </a:solidFill>
              <a:latin typeface="Arial"/>
            </a:endParaRPr>
          </a:p>
          <a:p>
            <a:pPr lvl="1" marL="618840" indent="-2620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Jaetun ymmärryksen tai päätösideointivaihteen saavuttaminen on hankalaa.</a:t>
            </a:r>
            <a:endParaRPr b="0" lang="en-US" sz="2000" spc="-1" strike="noStrike">
              <a:solidFill>
                <a:srgbClr val="000000"/>
              </a:solidFill>
              <a:latin typeface="Arial"/>
            </a:endParaRPr>
          </a:p>
          <a:p>
            <a:pPr marL="353520" indent="-3535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Keskustelu päättäjien ja asiantuntijoiden välillä on vaikeaa.</a:t>
            </a:r>
            <a:endParaRPr b="0" lang="en-US" sz="2200" spc="-1" strike="noStrike">
              <a:solidFill>
                <a:srgbClr val="000000"/>
              </a:solidFill>
              <a:latin typeface="Arial"/>
            </a:endParaRPr>
          </a:p>
          <a:p>
            <a:pPr lvl="1" marL="618840" indent="-2620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Nyt tietoa työnnettiin asiantuntijoiden puolelta.</a:t>
            </a:r>
            <a:endParaRPr b="0" lang="en-US" sz="2000" spc="-1" strike="noStrike">
              <a:solidFill>
                <a:srgbClr val="000000"/>
              </a:solidFill>
              <a:latin typeface="Arial"/>
            </a:endParaRPr>
          </a:p>
          <a:p>
            <a:pPr lvl="1" marL="618840" indent="-2620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arvitaan myös imua päättäjien puolelta.</a:t>
            </a:r>
            <a:endParaRPr b="0" lang="en-US" sz="2000" spc="-1" strike="noStrike">
              <a:solidFill>
                <a:srgbClr val="000000"/>
              </a:solidFill>
              <a:latin typeface="Arial"/>
            </a:endParaRPr>
          </a:p>
          <a:p>
            <a:pPr marL="353520" indent="-3535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Kansalaisella pitää olla käytettävissään sama informaatio ja samat työkalut kuin asian valmistelijalla?</a:t>
            </a:r>
            <a:endParaRPr b="0" lang="en-US" sz="2200" spc="-1" strike="noStrike">
              <a:solidFill>
                <a:srgbClr val="000000"/>
              </a:solidFill>
              <a:latin typeface="Arial"/>
            </a:endParaRPr>
          </a:p>
        </p:txBody>
      </p:sp>
      <p:sp>
        <p:nvSpPr>
          <p:cNvPr id="357" name="Date Placeholder 3"/>
          <p:cNvSpPr/>
          <p:nvPr/>
        </p:nvSpPr>
        <p:spPr>
          <a:xfrm>
            <a:off x="457200" y="6589800"/>
            <a:ext cx="1090440" cy="22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E8EAF-B734-48F5-B94E-402567C125BB}" type="datetime">
              <a:rPr b="0" lang="fi-FI" sz="1000" spc="-1" strike="noStrike">
                <a:solidFill>
                  <a:srgbClr val="ffffff"/>
                </a:solidFill>
                <a:latin typeface="Arial"/>
              </a:rPr>
              <a:t>29.07.26</a:t>
            </a:fld>
            <a:endParaRPr b="0" lang="en-US" sz="1000" spc="-1" strike="noStrike">
              <a:solidFill>
                <a:srgbClr val="000000"/>
              </a:solidFill>
              <a:latin typeface="Arial"/>
            </a:endParaRPr>
          </a:p>
        </p:txBody>
      </p:sp>
      <p:sp>
        <p:nvSpPr>
          <p:cNvPr id="358" name="Slide Number Placeholder 5"/>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8CE9C-0D84-4525-B197-872198B8C0D1}" type="slidenum">
              <a:rPr b="0" lang="en-GB" sz="1000" spc="-1" strike="noStrike">
                <a:solidFill>
                  <a:srgbClr val="ffffff"/>
                </a:solidFill>
                <a:latin typeface="Arial"/>
              </a:rPr>
              <a:t>&lt;number&gt;</a:t>
            </a:fld>
            <a:endParaRPr b="0" lang="en-US" sz="1000" spc="-1" strike="noStrike">
              <a:solidFill>
                <a:srgbClr val="000000"/>
              </a:solidFill>
              <a:latin typeface="Arial"/>
            </a:endParaRPr>
          </a:p>
        </p:txBody>
      </p:sp>
      <p:sp>
        <p:nvSpPr>
          <p:cNvPr id="359" name="Footer Placeholder 1"/>
          <p:cNvSpPr/>
          <p:nvPr/>
        </p:nvSpPr>
        <p:spPr>
          <a:xfrm>
            <a:off x="1258920" y="6597720"/>
            <a:ext cx="698508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Arial"/>
              </a:rPr>
              <a:t>http://fi.opasnet.org/fi/Tiedosto:Ilmastopolitiikka_rakennukset_ja_terveys.pp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680"/>
            <a:ext cx="8229600" cy="79848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7bc143"/>
                </a:solidFill>
                <a:latin typeface="Arial"/>
              </a:rPr>
              <a:t>Tiedonkulku päätösvalmistelussa nyt</a:t>
            </a:r>
            <a:endParaRPr b="1" lang="en-US" sz="2800" spc="-1" strike="noStrike">
              <a:solidFill>
                <a:srgbClr val="7bc143"/>
              </a:solidFill>
              <a:latin typeface="Arial"/>
            </a:endParaRPr>
          </a:p>
        </p:txBody>
      </p:sp>
      <p:grpSp>
        <p:nvGrpSpPr>
          <p:cNvPr id="197" name="Group 3"/>
          <p:cNvGrpSpPr/>
          <p:nvPr/>
        </p:nvGrpSpPr>
        <p:grpSpPr>
          <a:xfrm>
            <a:off x="270000" y="946080"/>
            <a:ext cx="8874000" cy="5562720"/>
            <a:chOff x="270000" y="946080"/>
            <a:chExt cx="8874000" cy="5562720"/>
          </a:xfrm>
        </p:grpSpPr>
        <p:sp>
          <p:nvSpPr>
            <p:cNvPr id="198" name="TextBox 52"/>
            <p:cNvSpPr/>
            <p:nvPr/>
          </p:nvSpPr>
          <p:spPr>
            <a:xfrm>
              <a:off x="7789320" y="1705680"/>
              <a:ext cx="1354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Lobbaus</a:t>
              </a:r>
              <a:endParaRPr b="0" lang="en-US" sz="2000" spc="-1" strike="noStrike">
                <a:solidFill>
                  <a:srgbClr val="000000"/>
                </a:solidFill>
                <a:latin typeface="Arial"/>
              </a:endParaRPr>
            </a:p>
          </p:txBody>
        </p:sp>
        <p:grpSp>
          <p:nvGrpSpPr>
            <p:cNvPr id="199" name="Group 22"/>
            <p:cNvGrpSpPr/>
            <p:nvPr/>
          </p:nvGrpSpPr>
          <p:grpSpPr>
            <a:xfrm>
              <a:off x="270000" y="946080"/>
              <a:ext cx="7607880" cy="5562720"/>
              <a:chOff x="270000" y="946080"/>
              <a:chExt cx="7607880" cy="5562720"/>
            </a:xfrm>
          </p:grpSpPr>
          <p:pic>
            <p:nvPicPr>
              <p:cNvPr id="200" name="Picture 3" descr=""/>
              <p:cNvPicPr/>
              <p:nvPr/>
            </p:nvPicPr>
            <p:blipFill>
              <a:blip r:embed="rId1"/>
              <a:stretch/>
            </p:blipFill>
            <p:spPr>
              <a:xfrm>
                <a:off x="403200" y="5034240"/>
                <a:ext cx="514080" cy="838080"/>
              </a:xfrm>
              <a:prstGeom prst="rect">
                <a:avLst/>
              </a:prstGeom>
              <a:ln w="0">
                <a:noFill/>
              </a:ln>
            </p:spPr>
          </p:pic>
          <p:pic>
            <p:nvPicPr>
              <p:cNvPr id="201" name="Picture 6" descr=""/>
              <p:cNvPicPr/>
              <p:nvPr/>
            </p:nvPicPr>
            <p:blipFill>
              <a:blip r:embed="rId2"/>
              <a:stretch/>
            </p:blipFill>
            <p:spPr>
              <a:xfrm>
                <a:off x="2412360" y="1810440"/>
                <a:ext cx="495720" cy="648000"/>
              </a:xfrm>
              <a:prstGeom prst="rect">
                <a:avLst/>
              </a:prstGeom>
              <a:ln w="0">
                <a:noFill/>
              </a:ln>
            </p:spPr>
          </p:pic>
          <p:pic>
            <p:nvPicPr>
              <p:cNvPr id="202" name="Picture 7" descr=""/>
              <p:cNvPicPr/>
              <p:nvPr/>
            </p:nvPicPr>
            <p:blipFill>
              <a:blip r:embed="rId3"/>
              <a:stretch/>
            </p:blipFill>
            <p:spPr>
              <a:xfrm>
                <a:off x="1002600" y="2850480"/>
                <a:ext cx="620280" cy="613800"/>
              </a:xfrm>
              <a:prstGeom prst="rect">
                <a:avLst/>
              </a:prstGeom>
              <a:ln w="0">
                <a:noFill/>
              </a:ln>
            </p:spPr>
          </p:pic>
          <p:pic>
            <p:nvPicPr>
              <p:cNvPr id="203" name="Picture 10" descr=""/>
              <p:cNvPicPr/>
              <p:nvPr/>
            </p:nvPicPr>
            <p:blipFill>
              <a:blip r:embed="rId4"/>
              <a:stretch/>
            </p:blipFill>
            <p:spPr>
              <a:xfrm>
                <a:off x="5146200" y="2443680"/>
                <a:ext cx="623160" cy="813600"/>
              </a:xfrm>
              <a:prstGeom prst="rect">
                <a:avLst/>
              </a:prstGeom>
              <a:ln w="0">
                <a:noFill/>
              </a:ln>
            </p:spPr>
          </p:pic>
          <p:pic>
            <p:nvPicPr>
              <p:cNvPr id="204" name="Picture 11" descr=""/>
              <p:cNvPicPr/>
              <p:nvPr/>
            </p:nvPicPr>
            <p:blipFill>
              <a:blip r:embed="rId5"/>
              <a:stretch/>
            </p:blipFill>
            <p:spPr>
              <a:xfrm>
                <a:off x="6906960" y="1472400"/>
                <a:ext cx="970920" cy="769320"/>
              </a:xfrm>
              <a:prstGeom prst="rect">
                <a:avLst/>
              </a:prstGeom>
              <a:ln w="0">
                <a:noFill/>
              </a:ln>
            </p:spPr>
          </p:pic>
          <p:pic>
            <p:nvPicPr>
              <p:cNvPr id="205" name="Picture 15" descr=""/>
              <p:cNvPicPr/>
              <p:nvPr/>
            </p:nvPicPr>
            <p:blipFill>
              <a:blip r:embed="rId6"/>
              <a:stretch/>
            </p:blipFill>
            <p:spPr>
              <a:xfrm>
                <a:off x="4233240" y="2321280"/>
                <a:ext cx="990360" cy="942840"/>
              </a:xfrm>
              <a:prstGeom prst="rect">
                <a:avLst/>
              </a:prstGeom>
              <a:ln w="0">
                <a:noFill/>
              </a:ln>
            </p:spPr>
          </p:pic>
          <p:pic>
            <p:nvPicPr>
              <p:cNvPr id="206" name="Picture 16" descr=""/>
              <p:cNvPicPr/>
              <p:nvPr/>
            </p:nvPicPr>
            <p:blipFill>
              <a:blip r:embed="rId7"/>
              <a:stretch/>
            </p:blipFill>
            <p:spPr>
              <a:xfrm>
                <a:off x="5802120" y="1397160"/>
                <a:ext cx="1104840" cy="924120"/>
              </a:xfrm>
              <a:prstGeom prst="rect">
                <a:avLst/>
              </a:prstGeom>
              <a:ln w="0">
                <a:noFill/>
              </a:ln>
            </p:spPr>
          </p:pic>
          <p:pic>
            <p:nvPicPr>
              <p:cNvPr id="207" name="Picture 17" descr=""/>
              <p:cNvPicPr/>
              <p:nvPr/>
            </p:nvPicPr>
            <p:blipFill>
              <a:blip r:embed="rId8"/>
              <a:stretch/>
            </p:blipFill>
            <p:spPr>
              <a:xfrm>
                <a:off x="565200" y="5789880"/>
                <a:ext cx="747360" cy="718920"/>
              </a:xfrm>
              <a:prstGeom prst="rect">
                <a:avLst/>
              </a:prstGeom>
              <a:ln w="0">
                <a:noFill/>
              </a:ln>
            </p:spPr>
          </p:pic>
          <p:pic>
            <p:nvPicPr>
              <p:cNvPr id="208" name="Picture 18" descr=""/>
              <p:cNvPicPr/>
              <p:nvPr/>
            </p:nvPicPr>
            <p:blipFill>
              <a:blip r:embed="rId9"/>
              <a:stretch/>
            </p:blipFill>
            <p:spPr>
              <a:xfrm>
                <a:off x="1795320" y="5789880"/>
                <a:ext cx="694440" cy="680040"/>
              </a:xfrm>
              <a:prstGeom prst="rect">
                <a:avLst/>
              </a:prstGeom>
              <a:ln w="0">
                <a:noFill/>
              </a:ln>
            </p:spPr>
          </p:pic>
          <p:pic>
            <p:nvPicPr>
              <p:cNvPr id="209" name="Picture 20" descr=""/>
              <p:cNvPicPr/>
              <p:nvPr/>
            </p:nvPicPr>
            <p:blipFill>
              <a:blip r:embed="rId10"/>
              <a:stretch/>
            </p:blipFill>
            <p:spPr>
              <a:xfrm>
                <a:off x="2892960" y="1700280"/>
                <a:ext cx="914400" cy="924120"/>
              </a:xfrm>
              <a:prstGeom prst="rect">
                <a:avLst/>
              </a:prstGeom>
              <a:ln w="0">
                <a:noFill/>
              </a:ln>
            </p:spPr>
          </p:pic>
          <p:pic>
            <p:nvPicPr>
              <p:cNvPr id="210" name="Picture 21" descr=""/>
              <p:cNvPicPr/>
              <p:nvPr/>
            </p:nvPicPr>
            <p:blipFill>
              <a:blip r:embed="rId11"/>
              <a:stretch/>
            </p:blipFill>
            <p:spPr>
              <a:xfrm>
                <a:off x="4325400" y="946080"/>
                <a:ext cx="1057320" cy="933480"/>
              </a:xfrm>
              <a:prstGeom prst="rect">
                <a:avLst/>
              </a:prstGeom>
              <a:ln w="0">
                <a:noFill/>
              </a:ln>
            </p:spPr>
          </p:pic>
          <p:pic>
            <p:nvPicPr>
              <p:cNvPr id="211" name="Picture 3" descr=""/>
              <p:cNvPicPr/>
              <p:nvPr/>
            </p:nvPicPr>
            <p:blipFill>
              <a:blip r:embed="rId12"/>
              <a:stretch/>
            </p:blipFill>
            <p:spPr>
              <a:xfrm>
                <a:off x="1819080" y="5034240"/>
                <a:ext cx="514080" cy="838080"/>
              </a:xfrm>
              <a:prstGeom prst="rect">
                <a:avLst/>
              </a:prstGeom>
              <a:ln w="0">
                <a:noFill/>
              </a:ln>
            </p:spPr>
          </p:pic>
          <p:pic>
            <p:nvPicPr>
              <p:cNvPr id="212" name="Picture 3" descr=""/>
              <p:cNvPicPr/>
              <p:nvPr/>
            </p:nvPicPr>
            <p:blipFill>
              <a:blip r:embed="rId13"/>
              <a:stretch/>
            </p:blipFill>
            <p:spPr>
              <a:xfrm>
                <a:off x="1099440" y="5034240"/>
                <a:ext cx="514080" cy="838080"/>
              </a:xfrm>
              <a:prstGeom prst="rect">
                <a:avLst/>
              </a:prstGeom>
              <a:ln w="0">
                <a:noFill/>
              </a:ln>
            </p:spPr>
          </p:pic>
          <p:pic>
            <p:nvPicPr>
              <p:cNvPr id="213" name="Picture 9" descr=""/>
              <p:cNvPicPr/>
              <p:nvPr/>
            </p:nvPicPr>
            <p:blipFill>
              <a:blip r:embed="rId14"/>
              <a:stretch/>
            </p:blipFill>
            <p:spPr>
              <a:xfrm>
                <a:off x="1807200" y="4010040"/>
                <a:ext cx="526320" cy="615240"/>
              </a:xfrm>
              <a:prstGeom prst="rect">
                <a:avLst/>
              </a:prstGeom>
              <a:ln w="0">
                <a:noFill/>
              </a:ln>
            </p:spPr>
          </p:pic>
          <p:pic>
            <p:nvPicPr>
              <p:cNvPr id="214" name="Picture 9" descr=""/>
              <p:cNvPicPr/>
              <p:nvPr/>
            </p:nvPicPr>
            <p:blipFill>
              <a:blip r:embed="rId15"/>
              <a:stretch/>
            </p:blipFill>
            <p:spPr>
              <a:xfrm>
                <a:off x="1096200" y="3994560"/>
                <a:ext cx="526320" cy="615240"/>
              </a:xfrm>
              <a:prstGeom prst="rect">
                <a:avLst/>
              </a:prstGeom>
              <a:ln w="0">
                <a:noFill/>
              </a:ln>
            </p:spPr>
          </p:pic>
          <p:pic>
            <p:nvPicPr>
              <p:cNvPr id="215" name="Picture 9" descr=""/>
              <p:cNvPicPr/>
              <p:nvPr/>
            </p:nvPicPr>
            <p:blipFill>
              <a:blip r:embed="rId16"/>
              <a:stretch/>
            </p:blipFill>
            <p:spPr>
              <a:xfrm>
                <a:off x="403200" y="4010040"/>
                <a:ext cx="526320" cy="615240"/>
              </a:xfrm>
              <a:prstGeom prst="rect">
                <a:avLst/>
              </a:prstGeom>
              <a:ln w="0">
                <a:noFill/>
              </a:ln>
            </p:spPr>
          </p:pic>
          <p:cxnSp>
            <p:nvCxnSpPr>
              <p:cNvPr id="216" name="Straight Arrow Connector 6"/>
              <p:cNvCxnSpPr/>
              <p:nvPr/>
            </p:nvCxnSpPr>
            <p:spPr>
              <a:xfrm flipV="1">
                <a:off x="659880" y="4625280"/>
                <a:ext cx="6840" cy="309960"/>
              </a:xfrm>
              <a:prstGeom prst="straightConnector1">
                <a:avLst/>
              </a:prstGeom>
              <a:ln w="9360">
                <a:solidFill>
                  <a:srgbClr val="000000"/>
                </a:solidFill>
                <a:miter/>
                <a:tailEnd len="med" type="arrow" w="med"/>
              </a:ln>
            </p:spPr>
          </p:cxnSp>
          <p:cxnSp>
            <p:nvCxnSpPr>
              <p:cNvPr id="217" name="Straight Arrow Connector 35"/>
              <p:cNvCxnSpPr/>
              <p:nvPr/>
            </p:nvCxnSpPr>
            <p:spPr>
              <a:xfrm flipV="1">
                <a:off x="2063520" y="4611240"/>
                <a:ext cx="6840" cy="311760"/>
              </a:xfrm>
              <a:prstGeom prst="straightConnector1">
                <a:avLst/>
              </a:prstGeom>
              <a:ln w="9360">
                <a:solidFill>
                  <a:srgbClr val="000000"/>
                </a:solidFill>
                <a:miter/>
                <a:tailEnd len="med" type="arrow" w="med"/>
              </a:ln>
            </p:spPr>
          </p:cxnSp>
          <p:cxnSp>
            <p:nvCxnSpPr>
              <p:cNvPr id="218" name="Straight Arrow Connector 36"/>
              <p:cNvCxnSpPr/>
              <p:nvPr/>
            </p:nvCxnSpPr>
            <p:spPr>
              <a:xfrm flipV="1">
                <a:off x="1358640" y="4606200"/>
                <a:ext cx="6840" cy="309960"/>
              </a:xfrm>
              <a:prstGeom prst="straightConnector1">
                <a:avLst/>
              </a:prstGeom>
              <a:ln w="9360">
                <a:solidFill>
                  <a:srgbClr val="000000"/>
                </a:solidFill>
                <a:miter/>
                <a:tailEnd len="med" type="arrow" w="med"/>
              </a:ln>
            </p:spPr>
          </p:cxnSp>
          <p:cxnSp>
            <p:nvCxnSpPr>
              <p:cNvPr id="219" name="Straight Arrow Connector 37"/>
              <p:cNvCxnSpPr/>
              <p:nvPr/>
            </p:nvCxnSpPr>
            <p:spPr>
              <a:xfrm flipV="1">
                <a:off x="1299960" y="3507840"/>
                <a:ext cx="6840" cy="311760"/>
              </a:xfrm>
              <a:prstGeom prst="straightConnector1">
                <a:avLst/>
              </a:prstGeom>
              <a:ln w="9360">
                <a:solidFill>
                  <a:srgbClr val="000000"/>
                </a:solidFill>
                <a:miter/>
                <a:tailEnd len="med" type="arrow" w="med"/>
              </a:ln>
            </p:spPr>
          </p:cxnSp>
          <p:cxnSp>
            <p:nvCxnSpPr>
              <p:cNvPr id="220" name="Straight Arrow Connector 38"/>
              <p:cNvCxnSpPr/>
              <p:nvPr/>
            </p:nvCxnSpPr>
            <p:spPr>
              <a:xfrm flipH="1" flipV="1">
                <a:off x="1613880" y="3483720"/>
                <a:ext cx="430920" cy="423000"/>
              </a:xfrm>
              <a:prstGeom prst="straightConnector1">
                <a:avLst/>
              </a:prstGeom>
              <a:ln w="9360">
                <a:solidFill>
                  <a:srgbClr val="000000"/>
                </a:solidFill>
                <a:miter/>
                <a:tailEnd len="med" type="arrow" w="med"/>
              </a:ln>
            </p:spPr>
          </p:cxnSp>
          <p:cxnSp>
            <p:nvCxnSpPr>
              <p:cNvPr id="221" name="Straight Arrow Connector 39"/>
              <p:cNvCxnSpPr/>
              <p:nvPr/>
            </p:nvCxnSpPr>
            <p:spPr>
              <a:xfrm flipV="1">
                <a:off x="671400" y="3498120"/>
                <a:ext cx="429120" cy="415080"/>
              </a:xfrm>
              <a:prstGeom prst="straightConnector1">
                <a:avLst/>
              </a:prstGeom>
              <a:ln w="9360">
                <a:solidFill>
                  <a:srgbClr val="000000"/>
                </a:solidFill>
                <a:miter/>
                <a:tailEnd len="med" type="arrow" w="med"/>
              </a:ln>
            </p:spPr>
          </p:cxnSp>
          <p:cxnSp>
            <p:nvCxnSpPr>
              <p:cNvPr id="222" name="Straight Arrow Connector 42"/>
              <p:cNvCxnSpPr/>
              <p:nvPr/>
            </p:nvCxnSpPr>
            <p:spPr>
              <a:xfrm flipV="1">
                <a:off x="1622520" y="2458080"/>
                <a:ext cx="776880" cy="392760"/>
              </a:xfrm>
              <a:prstGeom prst="straightConnector1">
                <a:avLst/>
              </a:prstGeom>
              <a:ln w="9360">
                <a:solidFill>
                  <a:srgbClr val="000000"/>
                </a:solidFill>
                <a:miter/>
                <a:tailEnd len="med" type="arrow" w="med"/>
              </a:ln>
            </p:spPr>
          </p:cxnSp>
          <p:cxnSp>
            <p:nvCxnSpPr>
              <p:cNvPr id="223" name="Straight Arrow Connector 43"/>
              <p:cNvCxnSpPr/>
              <p:nvPr/>
            </p:nvCxnSpPr>
            <p:spPr>
              <a:xfrm flipV="1">
                <a:off x="3789360" y="1690200"/>
                <a:ext cx="498960" cy="267120"/>
              </a:xfrm>
              <a:prstGeom prst="straightConnector1">
                <a:avLst/>
              </a:prstGeom>
              <a:ln w="9360">
                <a:solidFill>
                  <a:srgbClr val="000000"/>
                </a:solidFill>
                <a:miter/>
                <a:headEnd len="med" type="arrow" w="med"/>
                <a:tailEnd len="med" type="arrow" w="med"/>
              </a:ln>
            </p:spPr>
          </p:cxnSp>
          <p:cxnSp>
            <p:nvCxnSpPr>
              <p:cNvPr id="224" name="Straight Arrow Connector 45"/>
              <p:cNvCxnSpPr/>
              <p:nvPr/>
            </p:nvCxnSpPr>
            <p:spPr>
              <a:xfrm>
                <a:off x="5290920" y="1566720"/>
                <a:ext cx="511560" cy="119520"/>
              </a:xfrm>
              <a:prstGeom prst="straightConnector1">
                <a:avLst/>
              </a:prstGeom>
              <a:ln w="9360">
                <a:solidFill>
                  <a:srgbClr val="000000"/>
                </a:solidFill>
                <a:miter/>
                <a:headEnd len="med" type="arrow" w="med"/>
                <a:tailEnd len="med" type="arrow" w="med"/>
              </a:ln>
            </p:spPr>
          </p:cxnSp>
          <p:sp>
            <p:nvSpPr>
              <p:cNvPr id="225" name="TextBox 13"/>
              <p:cNvSpPr/>
              <p:nvPr/>
            </p:nvSpPr>
            <p:spPr>
              <a:xfrm>
                <a:off x="2398680" y="5251680"/>
                <a:ext cx="1888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Alkuperäisdata</a:t>
                </a:r>
                <a:endParaRPr b="0" lang="en-US" sz="2000" spc="-1" strike="noStrike">
                  <a:solidFill>
                    <a:srgbClr val="000000"/>
                  </a:solidFill>
                  <a:latin typeface="Arial"/>
                </a:endParaRPr>
              </a:p>
            </p:txBody>
          </p:sp>
          <p:sp>
            <p:nvSpPr>
              <p:cNvPr id="226" name="TextBox 48"/>
              <p:cNvSpPr/>
              <p:nvPr/>
            </p:nvSpPr>
            <p:spPr>
              <a:xfrm>
                <a:off x="2398680" y="4074840"/>
                <a:ext cx="1888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ieteelliset julkaisut</a:t>
                </a:r>
                <a:endParaRPr b="0" lang="en-US" sz="2000" spc="-1" strike="noStrike">
                  <a:solidFill>
                    <a:srgbClr val="000000"/>
                  </a:solidFill>
                  <a:latin typeface="Arial"/>
                </a:endParaRPr>
              </a:p>
            </p:txBody>
          </p:sp>
          <p:sp>
            <p:nvSpPr>
              <p:cNvPr id="227" name="TextBox 49"/>
              <p:cNvSpPr/>
              <p:nvPr/>
            </p:nvSpPr>
            <p:spPr>
              <a:xfrm>
                <a:off x="270000" y="1750680"/>
                <a:ext cx="2142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Ennakkoarviointi, YVA tm. suositus</a:t>
                </a:r>
                <a:endParaRPr b="0" lang="en-US" sz="2000" spc="-1" strike="noStrike">
                  <a:solidFill>
                    <a:srgbClr val="000000"/>
                  </a:solidFill>
                  <a:latin typeface="Arial"/>
                </a:endParaRPr>
              </a:p>
            </p:txBody>
          </p:sp>
          <p:sp>
            <p:nvSpPr>
              <p:cNvPr id="228" name="TextBox 50"/>
              <p:cNvSpPr/>
              <p:nvPr/>
            </p:nvSpPr>
            <p:spPr>
              <a:xfrm>
                <a:off x="1780200" y="2957400"/>
                <a:ext cx="1888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ieteellinen katsaus</a:t>
                </a:r>
                <a:endParaRPr b="0" lang="en-US" sz="2000" spc="-1" strike="noStrike">
                  <a:solidFill>
                    <a:srgbClr val="000000"/>
                  </a:solidFill>
                  <a:latin typeface="Arial"/>
                </a:endParaRPr>
              </a:p>
            </p:txBody>
          </p:sp>
          <p:sp>
            <p:nvSpPr>
              <p:cNvPr id="229" name="TextBox 51"/>
              <p:cNvSpPr/>
              <p:nvPr/>
            </p:nvSpPr>
            <p:spPr>
              <a:xfrm>
                <a:off x="5715720" y="2443680"/>
                <a:ext cx="1888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Virkamies-raportti</a:t>
                </a:r>
                <a:endParaRPr b="0" lang="en-US" sz="2000" spc="-1" strike="noStrike">
                  <a:solidFill>
                    <a:srgbClr val="000000"/>
                  </a:solidFill>
                  <a:latin typeface="Arial"/>
                </a:endParaRPr>
              </a:p>
            </p:txBody>
          </p:sp>
          <p:cxnSp>
            <p:nvCxnSpPr>
              <p:cNvPr id="230" name="Straight Arrow Connector 53"/>
              <p:cNvCxnSpPr/>
              <p:nvPr/>
            </p:nvCxnSpPr>
            <p:spPr>
              <a:xfrm flipV="1">
                <a:off x="4744800" y="1856520"/>
                <a:ext cx="108360" cy="464040"/>
              </a:xfrm>
              <a:prstGeom prst="straightConnector1">
                <a:avLst/>
              </a:prstGeom>
              <a:ln w="9360">
                <a:solidFill>
                  <a:srgbClr val="000000"/>
                </a:solidFill>
                <a:miter/>
                <a:headEnd len="med" type="arrow" w="med"/>
                <a:tailEnd len="med" type="arrow" w="med"/>
              </a:ln>
            </p:spPr>
          </p:cxnSp>
        </p:grpSp>
        <p:sp>
          <p:nvSpPr>
            <p:cNvPr id="231" name="Rectangle 2"/>
            <p:cNvSpPr/>
            <p:nvPr/>
          </p:nvSpPr>
          <p:spPr>
            <a:xfrm>
              <a:off x="1312920" y="6021720"/>
              <a:ext cx="301320" cy="449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40"/>
            <p:cNvSpPr/>
            <p:nvPr/>
          </p:nvSpPr>
          <p:spPr>
            <a:xfrm>
              <a:off x="270000" y="6021720"/>
              <a:ext cx="301320" cy="449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3" name="TextBox 41"/>
          <p:cNvSpPr/>
          <p:nvPr/>
        </p:nvSpPr>
        <p:spPr>
          <a:xfrm>
            <a:off x="3335400" y="1023840"/>
            <a:ext cx="1193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Päättäjä</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7bc143"/>
                </a:solidFill>
                <a:latin typeface="Arial"/>
              </a:rPr>
              <a:t>Avoimuus on in ja pop valtionhallinnossa</a:t>
            </a:r>
            <a:endParaRPr b="1" lang="en-US" sz="2800" spc="-1" strike="noStrike">
              <a:solidFill>
                <a:srgbClr val="7bc143"/>
              </a:solidFill>
              <a:latin typeface="Arial"/>
            </a:endParaRPr>
          </a:p>
        </p:txBody>
      </p:sp>
      <p:pic>
        <p:nvPicPr>
          <p:cNvPr id="361" name="" descr=""/>
          <p:cNvPicPr/>
          <p:nvPr/>
        </p:nvPicPr>
        <p:blipFill>
          <a:blip r:embed="rId1"/>
          <a:stretch/>
        </p:blipFill>
        <p:spPr>
          <a:xfrm>
            <a:off x="456840" y="1484280"/>
            <a:ext cx="8218440" cy="4392720"/>
          </a:xfrm>
          <a:prstGeom prst="rect">
            <a:avLst/>
          </a:prstGeom>
          <a:ln w="0">
            <a:noFill/>
          </a:ln>
        </p:spPr>
      </p:pic>
      <p:sp>
        <p:nvSpPr>
          <p:cNvPr id="362" name="Date Placeholder 3"/>
          <p:cNvSpPr/>
          <p:nvPr/>
        </p:nvSpPr>
        <p:spPr>
          <a:xfrm>
            <a:off x="457200" y="6589800"/>
            <a:ext cx="1090440" cy="22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8CE2B-789A-49F9-8DFB-60DF4EC58B19}" type="datetime">
              <a:rPr b="0" lang="fi-FI" sz="1000" spc="-1" strike="noStrike">
                <a:solidFill>
                  <a:srgbClr val="ffffff"/>
                </a:solidFill>
                <a:latin typeface="Arial"/>
              </a:rPr>
              <a:t>29.07.26</a:t>
            </a:fld>
            <a:endParaRPr b="0" lang="en-US" sz="1000" spc="-1" strike="noStrike">
              <a:solidFill>
                <a:srgbClr val="000000"/>
              </a:solidFill>
              <a:latin typeface="Arial"/>
            </a:endParaRPr>
          </a:p>
        </p:txBody>
      </p:sp>
      <p:sp>
        <p:nvSpPr>
          <p:cNvPr id="363" name="Footer Placeholder 4"/>
          <p:cNvSpPr/>
          <p:nvPr/>
        </p:nvSpPr>
        <p:spPr>
          <a:xfrm>
            <a:off x="1258920" y="6597720"/>
            <a:ext cx="698508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Arial"/>
              </a:rPr>
              <a:t>http://fi.opasnet.org/fi/Tiedosto:Ilmastopolitiikka_rakennukset_ja_terveys.ppt</a:t>
            </a:r>
            <a:endParaRPr b="0" lang="en-US" sz="1500" spc="-1" strike="noStrike">
              <a:solidFill>
                <a:srgbClr val="000000"/>
              </a:solidFill>
              <a:latin typeface="Arial"/>
            </a:endParaRPr>
          </a:p>
        </p:txBody>
      </p:sp>
      <p:sp>
        <p:nvSpPr>
          <p:cNvPr id="364" name="Slide Number Placeholder 5"/>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3D8BB-B7AF-40B4-A52F-17FE0DBB2687}" type="slidenum">
              <a:rPr b="0" lang="fi-FI" sz="1000" spc="-1" strike="noStrike">
                <a:solidFill>
                  <a:srgbClr val="ffffff"/>
                </a:solidFill>
                <a:latin typeface="Arial"/>
              </a:rPr>
              <a:t>&lt;number&gt;</a:t>
            </a:fld>
            <a:endParaRPr b="0" lang="en-US" sz="1000" spc="-1" strike="noStrike">
              <a:solidFill>
                <a:srgbClr val="000000"/>
              </a:solidFill>
              <a:latin typeface="Arial"/>
            </a:endParaRPr>
          </a:p>
        </p:txBody>
      </p:sp>
      <p:pic>
        <p:nvPicPr>
          <p:cNvPr id="365" name="Picture 2" descr=""/>
          <p:cNvPicPr/>
          <p:nvPr/>
        </p:nvPicPr>
        <p:blipFill>
          <a:blip r:embed="rId2"/>
          <a:stretch/>
        </p:blipFill>
        <p:spPr>
          <a:xfrm>
            <a:off x="0" y="1739880"/>
            <a:ext cx="9144000" cy="5118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7bc143"/>
                </a:solidFill>
                <a:latin typeface="Arial"/>
              </a:rPr>
              <a:t>Avoin data laajasti edustettuna</a:t>
            </a:r>
            <a:endParaRPr b="1" lang="en-US" sz="2800" spc="-1" strike="noStrike">
              <a:solidFill>
                <a:srgbClr val="7bc143"/>
              </a:solidFill>
              <a:latin typeface="Arial"/>
            </a:endParaRPr>
          </a:p>
        </p:txBody>
      </p:sp>
      <p:pic>
        <p:nvPicPr>
          <p:cNvPr id="367" name="Content Placeholder 6" descr=""/>
          <p:cNvPicPr/>
          <p:nvPr/>
        </p:nvPicPr>
        <p:blipFill>
          <a:blip r:embed="rId1"/>
          <a:stretch/>
        </p:blipFill>
        <p:spPr>
          <a:xfrm>
            <a:off x="1271520" y="1484280"/>
            <a:ext cx="6589800" cy="4392720"/>
          </a:xfrm>
          <a:prstGeom prst="rect">
            <a:avLst/>
          </a:prstGeom>
          <a:ln w="0">
            <a:noFill/>
          </a:ln>
        </p:spPr>
      </p:pic>
      <p:sp>
        <p:nvSpPr>
          <p:cNvPr id="368" name="Date Placeholder 3"/>
          <p:cNvSpPr/>
          <p:nvPr/>
        </p:nvSpPr>
        <p:spPr>
          <a:xfrm>
            <a:off x="457200" y="6589800"/>
            <a:ext cx="1090440" cy="22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2A295-8203-435E-BE82-D76AE0CD82D5}" type="datetime">
              <a:rPr b="0" lang="fi-FI" sz="1000" spc="-1" strike="noStrike">
                <a:solidFill>
                  <a:srgbClr val="ffffff"/>
                </a:solidFill>
                <a:latin typeface="Arial"/>
              </a:rPr>
              <a:t>29.07.26</a:t>
            </a:fld>
            <a:endParaRPr b="0" lang="en-US" sz="1000" spc="-1" strike="noStrike">
              <a:solidFill>
                <a:srgbClr val="000000"/>
              </a:solidFill>
              <a:latin typeface="Arial"/>
            </a:endParaRPr>
          </a:p>
        </p:txBody>
      </p:sp>
      <p:sp>
        <p:nvSpPr>
          <p:cNvPr id="369" name="Footer Placeholder 4"/>
          <p:cNvSpPr/>
          <p:nvPr/>
        </p:nvSpPr>
        <p:spPr>
          <a:xfrm>
            <a:off x="1258920" y="6597720"/>
            <a:ext cx="698508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Arial"/>
              </a:rPr>
              <a:t>http://fi.opasnet.org/fi/Tiedosto:Ilmastopolitiikka_rakennukset_ja_terveys.ppt</a:t>
            </a:r>
            <a:endParaRPr b="0" lang="en-US" sz="1500" spc="-1" strike="noStrike">
              <a:solidFill>
                <a:srgbClr val="000000"/>
              </a:solidFill>
              <a:latin typeface="Arial"/>
            </a:endParaRPr>
          </a:p>
        </p:txBody>
      </p:sp>
      <p:sp>
        <p:nvSpPr>
          <p:cNvPr id="370" name="Slide Number Placeholder 5"/>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7FCB5-B470-4BD4-B885-7B54DA3D4AC0}" type="slidenum">
              <a:rPr b="0" lang="fi-FI" sz="1000" spc="-1" strike="noStrike">
                <a:solidFill>
                  <a:srgbClr val="ffffff"/>
                </a:solidFill>
                <a:latin typeface="Arial"/>
              </a:rPr>
              <a:t>&lt;number&gt;</a:t>
            </a:fld>
            <a:endParaRPr b="0" lang="en-US" sz="1000" spc="-1" strike="noStrike">
              <a:solidFill>
                <a:srgbClr val="000000"/>
              </a:solidFill>
              <a:latin typeface="Arial"/>
            </a:endParaRPr>
          </a:p>
        </p:txBody>
      </p:sp>
      <p:sp>
        <p:nvSpPr>
          <p:cNvPr id="371" name="TextBox 7"/>
          <p:cNvSpPr/>
          <p:nvPr/>
        </p:nvSpPr>
        <p:spPr>
          <a:xfrm>
            <a:off x="1476360" y="5445000"/>
            <a:ext cx="684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ffffff"/>
                </a:solidFill>
                <a:latin typeface="Arial"/>
              </a:rPr>
              <a:t>Tuomas Sauliala / Valtioneuvoston kanslia CC-BY-NC-ND</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7bc143"/>
                </a:solidFill>
                <a:latin typeface="Arial"/>
              </a:rPr>
              <a:t>FinICT edistää nettimalleja</a:t>
            </a:r>
            <a:endParaRPr b="1" lang="en-US" sz="2800" spc="-1" strike="noStrike">
              <a:solidFill>
                <a:srgbClr val="7bc143"/>
              </a:solidFill>
              <a:latin typeface="Arial"/>
            </a:endParaRPr>
          </a:p>
        </p:txBody>
      </p:sp>
      <p:pic>
        <p:nvPicPr>
          <p:cNvPr id="373" name="" descr=""/>
          <p:cNvPicPr/>
          <p:nvPr/>
        </p:nvPicPr>
        <p:blipFill>
          <a:blip r:embed="rId1"/>
          <a:stretch/>
        </p:blipFill>
        <p:spPr>
          <a:xfrm>
            <a:off x="456840" y="1484280"/>
            <a:ext cx="8218440" cy="4392720"/>
          </a:xfrm>
          <a:prstGeom prst="rect">
            <a:avLst/>
          </a:prstGeom>
          <a:ln w="0">
            <a:noFill/>
          </a:ln>
        </p:spPr>
      </p:pic>
      <p:sp>
        <p:nvSpPr>
          <p:cNvPr id="374" name="Date Placeholder 3"/>
          <p:cNvSpPr/>
          <p:nvPr/>
        </p:nvSpPr>
        <p:spPr>
          <a:xfrm>
            <a:off x="457200" y="6589800"/>
            <a:ext cx="1090440" cy="22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AB4E4-A990-4709-9FD3-FD8FB9ECAAA0}" type="datetime">
              <a:rPr b="0" lang="fi-FI" sz="1000" spc="-1" strike="noStrike">
                <a:solidFill>
                  <a:srgbClr val="ffffff"/>
                </a:solidFill>
                <a:latin typeface="Arial"/>
              </a:rPr>
              <a:t>29.07.26</a:t>
            </a:fld>
            <a:endParaRPr b="0" lang="en-US" sz="1000" spc="-1" strike="noStrike">
              <a:solidFill>
                <a:srgbClr val="000000"/>
              </a:solidFill>
              <a:latin typeface="Arial"/>
            </a:endParaRPr>
          </a:p>
        </p:txBody>
      </p:sp>
      <p:sp>
        <p:nvSpPr>
          <p:cNvPr id="375" name="Footer Placeholder 4"/>
          <p:cNvSpPr/>
          <p:nvPr/>
        </p:nvSpPr>
        <p:spPr>
          <a:xfrm>
            <a:off x="1258920" y="6597720"/>
            <a:ext cx="698508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Arial"/>
              </a:rPr>
              <a:t>http://fi.opasnet.org/fi/Tiedosto:Ilmastopolitiikka_rakennukset_ja_terveys.ppt</a:t>
            </a:r>
            <a:endParaRPr b="0" lang="en-US" sz="1500" spc="-1" strike="noStrike">
              <a:solidFill>
                <a:srgbClr val="000000"/>
              </a:solidFill>
              <a:latin typeface="Arial"/>
            </a:endParaRPr>
          </a:p>
        </p:txBody>
      </p:sp>
      <p:sp>
        <p:nvSpPr>
          <p:cNvPr id="376" name="Slide Number Placeholder 5"/>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2F07E-A267-4679-8B70-EB07C4B1A4E0}" type="slidenum">
              <a:rPr b="0" lang="fi-FI" sz="1000" spc="-1" strike="noStrike">
                <a:solidFill>
                  <a:srgbClr val="ffffff"/>
                </a:solidFill>
                <a:latin typeface="Arial"/>
              </a:rPr>
              <a:t>&lt;number&gt;</a:t>
            </a:fld>
            <a:endParaRPr b="0" lang="en-US" sz="1000" spc="-1" strike="noStrike">
              <a:solidFill>
                <a:srgbClr val="000000"/>
              </a:solidFill>
              <a:latin typeface="Arial"/>
            </a:endParaRPr>
          </a:p>
        </p:txBody>
      </p:sp>
      <p:pic>
        <p:nvPicPr>
          <p:cNvPr id="377" name="Picture 3" descr=""/>
          <p:cNvPicPr/>
          <p:nvPr/>
        </p:nvPicPr>
        <p:blipFill>
          <a:blip r:embed="rId2"/>
          <a:stretch/>
        </p:blipFill>
        <p:spPr>
          <a:xfrm>
            <a:off x="0" y="0"/>
            <a:ext cx="9161640" cy="6929280"/>
          </a:xfrm>
          <a:prstGeom prst="rect">
            <a:avLst/>
          </a:prstGeom>
          <a:ln w="0">
            <a:noFill/>
          </a:ln>
        </p:spPr>
      </p:pic>
      <p:sp>
        <p:nvSpPr>
          <p:cNvPr id="378" name="TextBox 6"/>
          <p:cNvSpPr/>
          <p:nvPr/>
        </p:nvSpPr>
        <p:spPr>
          <a:xfrm>
            <a:off x="2268360" y="907920"/>
            <a:ext cx="2313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7bc143"/>
                </a:solidFill>
                <a:latin typeface="Arial"/>
              </a:rPr>
              <a:t>http://finict.f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7bc143"/>
                </a:solidFill>
                <a:latin typeface="Arial"/>
              </a:rPr>
              <a:t>Avoimen datan ja algoritmien (”nettimallinnuksen”) laatukriteereitä</a:t>
            </a:r>
            <a:endParaRPr b="1" lang="en-US" sz="2800" spc="-1" strike="noStrike">
              <a:solidFill>
                <a:srgbClr val="7bc143"/>
              </a:solidFill>
              <a:latin typeface="Arial"/>
            </a:endParaRPr>
          </a:p>
        </p:txBody>
      </p:sp>
      <p:sp>
        <p:nvSpPr>
          <p:cNvPr id="380" name=""/>
          <p:cNvSpPr txBox="1"/>
          <p:nvPr/>
        </p:nvSpPr>
        <p:spPr>
          <a:xfrm>
            <a:off x="456840" y="1268280"/>
            <a:ext cx="8218440" cy="4608720"/>
          </a:xfrm>
          <a:prstGeom prst="rect">
            <a:avLst/>
          </a:prstGeom>
          <a:noFill/>
          <a:ln w="0">
            <a:noFill/>
          </a:ln>
        </p:spPr>
        <p:txBody>
          <a:bodyPr anchor="t">
            <a:normAutofit fontScale="98000"/>
          </a:bodyPr>
          <a:p>
            <a:pPr marL="349920" indent="-3499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Vastaa todelliseen päätöstarpeeseen.</a:t>
            </a:r>
            <a:endParaRPr b="0" lang="en-US" sz="2200" spc="-1" strike="noStrike">
              <a:solidFill>
                <a:srgbClr val="000000"/>
              </a:solidFill>
              <a:latin typeface="Arial"/>
            </a:endParaRPr>
          </a:p>
          <a:p>
            <a:pPr marL="349920" indent="-3499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Kuvastaa todellisia ilmiöitä ja vaikutuksia.</a:t>
            </a:r>
            <a:endParaRPr b="0" lang="en-US" sz="2200" spc="-1" strike="noStrike">
              <a:solidFill>
                <a:srgbClr val="000000"/>
              </a:solidFill>
              <a:latin typeface="Arial"/>
            </a:endParaRPr>
          </a:p>
          <a:p>
            <a:pPr marL="349920" indent="-3499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Vapaasti käytettävissä. </a:t>
            </a:r>
            <a:r>
              <a:rPr b="0" lang="fi-FI" sz="1800" spc="-1" strike="noStrike">
                <a:solidFill>
                  <a:srgbClr val="000000"/>
                </a:solidFill>
                <a:latin typeface="Arial"/>
              </a:rPr>
              <a:t>(esim. Opasnetissä </a:t>
            </a:r>
            <a:r>
              <a:rPr b="0" lang="fi-FI" sz="1800" spc="-1" strike="noStrike" u="sng">
                <a:solidFill>
                  <a:srgbClr val="c1df63"/>
                </a:solidFill>
                <a:uFillTx/>
                <a:latin typeface="Arial"/>
                <a:hlinkClick r:id="rId1"/>
              </a:rPr>
              <a:t>[1]</a:t>
            </a:r>
            <a:r>
              <a:rPr b="0" lang="fi-FI" sz="1800" spc="-1" strike="noStrike">
                <a:solidFill>
                  <a:srgbClr val="000000"/>
                </a:solidFill>
                <a:latin typeface="Arial"/>
              </a:rPr>
              <a:t> )</a:t>
            </a:r>
            <a:endParaRPr b="0" lang="en-US" sz="1800" spc="-1" strike="noStrike">
              <a:solidFill>
                <a:srgbClr val="000000"/>
              </a:solidFill>
              <a:latin typeface="Arial"/>
            </a:endParaRPr>
          </a:p>
          <a:p>
            <a:pPr lvl="1" marL="612720" indent="-25956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Data aina käyttövalmiina päivitettäessäkin.</a:t>
            </a:r>
            <a:endParaRPr b="0" lang="en-US" sz="2000" spc="-1" strike="noStrike">
              <a:solidFill>
                <a:srgbClr val="000000"/>
              </a:solidFill>
              <a:latin typeface="Arial"/>
            </a:endParaRPr>
          </a:p>
          <a:p>
            <a:pPr lvl="1" marL="612720" indent="-25956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allit ajettavissa suoraan nettisivulta selaimella.</a:t>
            </a:r>
            <a:endParaRPr b="0" lang="en-US" sz="2000" spc="-1" strike="noStrike">
              <a:solidFill>
                <a:srgbClr val="000000"/>
              </a:solidFill>
              <a:latin typeface="Arial"/>
            </a:endParaRPr>
          </a:p>
          <a:p>
            <a:pPr lvl="1" marL="612720" indent="-25956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ahdollisuus imuroida omalle koneelle ja jatkotyöstää.</a:t>
            </a:r>
            <a:endParaRPr b="0" lang="en-US" sz="2000" spc="-1" strike="noStrike">
              <a:solidFill>
                <a:srgbClr val="000000"/>
              </a:solidFill>
              <a:latin typeface="Arial"/>
            </a:endParaRPr>
          </a:p>
          <a:p>
            <a:pPr marL="349920" indent="-3499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Kaikki sisältö kritisoitavissa ja kehitettävissä.</a:t>
            </a:r>
            <a:endParaRPr b="0" lang="en-US" sz="2200" spc="-1" strike="noStrike">
              <a:solidFill>
                <a:srgbClr val="000000"/>
              </a:solidFill>
              <a:latin typeface="Arial"/>
            </a:endParaRPr>
          </a:p>
          <a:p>
            <a:pPr marL="349920" indent="-3499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Mahdollisuus uusiokäyttää samantapaisissa keiseissä. </a:t>
            </a:r>
            <a:r>
              <a:rPr b="0" lang="fi-FI" sz="2200" spc="-1" strike="noStrike" u="sng">
                <a:solidFill>
                  <a:srgbClr val="c1df63"/>
                </a:solidFill>
                <a:uFillTx/>
                <a:latin typeface="Arial"/>
                <a:hlinkClick r:id="rId2"/>
              </a:rPr>
              <a:t>[2]</a:t>
            </a:r>
            <a:r>
              <a:rPr b="0" lang="fi-FI" sz="2200" spc="-1" strike="noStrike">
                <a:solidFill>
                  <a:srgbClr val="000000"/>
                </a:solidFill>
                <a:latin typeface="Arial"/>
              </a:rPr>
              <a:t>  </a:t>
            </a:r>
            <a:endParaRPr b="0" lang="en-US" sz="2200" spc="-1" strike="noStrike">
              <a:solidFill>
                <a:srgbClr val="000000"/>
              </a:solidFill>
              <a:latin typeface="Arial"/>
            </a:endParaRPr>
          </a:p>
          <a:p>
            <a:pPr marL="349920" indent="-3499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Toimivat avoimen lähdekoodin tehokkailla ohjelmilla. </a:t>
            </a:r>
            <a:endParaRPr b="0" lang="en-US" sz="2200" spc="-1" strike="noStrike">
              <a:solidFill>
                <a:srgbClr val="000000"/>
              </a:solidFill>
              <a:latin typeface="Arial"/>
            </a:endParaRPr>
          </a:p>
          <a:p>
            <a:pPr lvl="1" marL="612720" indent="-25956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esim. Opasnet: käyttöliittymä (MediaWiki), laskenta (R), tietokanta (MySQL, MongoDB), CRAN-paketti OpasnetUtils)</a:t>
            </a:r>
            <a:endParaRPr b="0" lang="en-US" sz="1800" spc="-1" strike="noStrike">
              <a:solidFill>
                <a:srgbClr val="000000"/>
              </a:solidFill>
              <a:latin typeface="Arial"/>
            </a:endParaRPr>
          </a:p>
          <a:p>
            <a:pPr marL="349920" indent="-3499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Ammattilainen olisi tyytyväinen tarjottuihin työkaluihin.</a:t>
            </a:r>
            <a:endParaRPr b="0" lang="en-US" sz="2200" spc="-1" strike="noStrike">
              <a:solidFill>
                <a:srgbClr val="000000"/>
              </a:solidFill>
              <a:latin typeface="Arial"/>
            </a:endParaRPr>
          </a:p>
        </p:txBody>
      </p:sp>
      <p:sp>
        <p:nvSpPr>
          <p:cNvPr id="381" name="Date Placeholder 3"/>
          <p:cNvSpPr/>
          <p:nvPr/>
        </p:nvSpPr>
        <p:spPr>
          <a:xfrm>
            <a:off x="457200" y="6589800"/>
            <a:ext cx="1090440" cy="22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D946F-EDDF-44DE-B8C8-CD1D4EB1E451}" type="datetime">
              <a:rPr b="0" lang="fi-FI" sz="1000" spc="-1" strike="noStrike">
                <a:solidFill>
                  <a:srgbClr val="ffffff"/>
                </a:solidFill>
                <a:latin typeface="Arial"/>
              </a:rPr>
              <a:t>29.07.26</a:t>
            </a:fld>
            <a:endParaRPr b="0" lang="en-US" sz="1000" spc="-1" strike="noStrike">
              <a:solidFill>
                <a:srgbClr val="000000"/>
              </a:solidFill>
              <a:latin typeface="Arial"/>
            </a:endParaRPr>
          </a:p>
        </p:txBody>
      </p:sp>
      <p:sp>
        <p:nvSpPr>
          <p:cNvPr id="382" name="Footer Placeholder 4"/>
          <p:cNvSpPr/>
          <p:nvPr/>
        </p:nvSpPr>
        <p:spPr>
          <a:xfrm>
            <a:off x="1258920" y="6597720"/>
            <a:ext cx="698508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Arial"/>
              </a:rPr>
              <a:t>http://fi.opasnet.org/fi/Tiedosto:Ilmastopolitiikka_rakennukset_ja_terveys.ppt</a:t>
            </a:r>
            <a:endParaRPr b="0" lang="en-US" sz="1500" spc="-1" strike="noStrike">
              <a:solidFill>
                <a:srgbClr val="000000"/>
              </a:solidFill>
              <a:latin typeface="Arial"/>
            </a:endParaRPr>
          </a:p>
        </p:txBody>
      </p:sp>
      <p:sp>
        <p:nvSpPr>
          <p:cNvPr id="383" name="Slide Number Placeholder 5"/>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38771-38BD-4E01-9007-D94B322222EF}" type="slidenum">
              <a:rPr b="0" lang="fi-FI"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7bc143"/>
                </a:solidFill>
                <a:latin typeface="Arial"/>
              </a:rPr>
              <a:t>Teesit nettimallinnuksesta</a:t>
            </a:r>
            <a:endParaRPr b="1" lang="en-US" sz="2800" spc="-1" strike="noStrike">
              <a:solidFill>
                <a:srgbClr val="7bc143"/>
              </a:solidFill>
              <a:latin typeface="Arial"/>
            </a:endParaRPr>
          </a:p>
        </p:txBody>
      </p:sp>
      <p:sp>
        <p:nvSpPr>
          <p:cNvPr id="385" name=""/>
          <p:cNvSpPr txBox="1"/>
          <p:nvPr/>
        </p:nvSpPr>
        <p:spPr>
          <a:xfrm>
            <a:off x="456840" y="1484280"/>
            <a:ext cx="8218440" cy="4392720"/>
          </a:xfrm>
          <a:prstGeom prst="rect">
            <a:avLst/>
          </a:prstGeom>
          <a:noFill/>
          <a:ln w="0">
            <a:noFill/>
          </a:ln>
        </p:spPr>
        <p:txBody>
          <a:bodyPr anchor="t">
            <a:normAutofit/>
          </a:bodyPr>
          <a:p>
            <a:pPr marL="357120" indent="-3571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Niihin perustuva mallinnus on jo käytössä ja kaikkien ulottuvilla.</a:t>
            </a:r>
            <a:endParaRPr b="0" lang="en-US" sz="2200" spc="-1" strike="noStrike">
              <a:solidFill>
                <a:srgbClr val="000000"/>
              </a:solidFill>
              <a:latin typeface="Arial"/>
            </a:endParaRPr>
          </a:p>
          <a:p>
            <a:pPr marL="357120" indent="-3571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Ne soveltuvat yhteiskunnallisten päätösten vaikutusarviointiin.</a:t>
            </a:r>
            <a:endParaRPr b="0" lang="en-US" sz="2200" spc="-1" strike="noStrike">
              <a:solidFill>
                <a:srgbClr val="000000"/>
              </a:solidFill>
              <a:latin typeface="Arial"/>
            </a:endParaRPr>
          </a:p>
          <a:p>
            <a:pPr marL="357120" indent="-3571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Ne soveltuvat hyvin joukkoistamiseen ja yksityiskohtaiseen keskusteluun päätöksistä.</a:t>
            </a:r>
            <a:endParaRPr b="0" lang="en-US" sz="2200" spc="-1" strike="noStrike">
              <a:solidFill>
                <a:srgbClr val="000000"/>
              </a:solidFill>
              <a:latin typeface="Arial"/>
            </a:endParaRPr>
          </a:p>
          <a:p>
            <a:pPr marL="357120" indent="-3571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Ne soveltuvat työkaluksi päättäjien, asiantuntijoiden ja sidosryhmien yhteiselle työskentelylle jaetun ymmärryksen luomiseksi.</a:t>
            </a:r>
            <a:endParaRPr b="0" lang="en-US" sz="2200" spc="-1" strike="noStrike">
              <a:solidFill>
                <a:srgbClr val="000000"/>
              </a:solidFill>
              <a:latin typeface="Arial"/>
            </a:endParaRPr>
          </a:p>
          <a:p>
            <a:pPr marL="357120" indent="-3571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57120" indent="-3571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Syntyykö yhteisö nettimallinnuksen edistämiseksi ja soveltamiseksi?</a:t>
            </a:r>
            <a:endParaRPr b="0" lang="en-US" sz="2200" spc="-1" strike="noStrike">
              <a:solidFill>
                <a:srgbClr val="000000"/>
              </a:solidFill>
              <a:latin typeface="Arial"/>
            </a:endParaRPr>
          </a:p>
        </p:txBody>
      </p:sp>
      <p:sp>
        <p:nvSpPr>
          <p:cNvPr id="386" name="Date Placeholder 3"/>
          <p:cNvSpPr/>
          <p:nvPr/>
        </p:nvSpPr>
        <p:spPr>
          <a:xfrm>
            <a:off x="457200" y="6589800"/>
            <a:ext cx="1090440" cy="22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1AEDD-997F-410D-A01E-AAAB4CA991CE}" type="datetime">
              <a:rPr b="0" lang="fi-FI" sz="1000" spc="-1" strike="noStrike">
                <a:solidFill>
                  <a:srgbClr val="ffffff"/>
                </a:solidFill>
                <a:latin typeface="Arial"/>
              </a:rPr>
              <a:t>29.07.26</a:t>
            </a:fld>
            <a:endParaRPr b="0" lang="en-US" sz="1000" spc="-1" strike="noStrike">
              <a:solidFill>
                <a:srgbClr val="000000"/>
              </a:solidFill>
              <a:latin typeface="Arial"/>
            </a:endParaRPr>
          </a:p>
        </p:txBody>
      </p:sp>
      <p:sp>
        <p:nvSpPr>
          <p:cNvPr id="387" name="Footer Placeholder 4"/>
          <p:cNvSpPr/>
          <p:nvPr/>
        </p:nvSpPr>
        <p:spPr>
          <a:xfrm>
            <a:off x="1258920" y="6597720"/>
            <a:ext cx="698508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Arial"/>
              </a:rPr>
              <a:t>http://fi.opasnet.org/fi/Tiedosto:Ilmastopolitiikka_rakennukset_ja_terveys.ppt</a:t>
            </a:r>
            <a:endParaRPr b="0" lang="en-US" sz="1500" spc="-1" strike="noStrike">
              <a:solidFill>
                <a:srgbClr val="000000"/>
              </a:solidFill>
              <a:latin typeface="Arial"/>
            </a:endParaRPr>
          </a:p>
        </p:txBody>
      </p:sp>
      <p:sp>
        <p:nvSpPr>
          <p:cNvPr id="388" name="Slide Number Placeholder 5"/>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7AF36-11F4-4BF7-B6C1-43D45F18CE76}" type="slidenum">
              <a:rPr b="0" lang="fi-FI"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7bc143"/>
                </a:solidFill>
                <a:latin typeface="Arial"/>
              </a:rPr>
              <a:t>Päätelmiä avoimesta datasta ja avoimesta päätöksenteosta</a:t>
            </a:r>
            <a:endParaRPr b="1" lang="en-US" sz="2800" spc="-1" strike="noStrike">
              <a:solidFill>
                <a:srgbClr val="7bc143"/>
              </a:solidFill>
              <a:latin typeface="Arial"/>
            </a:endParaRPr>
          </a:p>
        </p:txBody>
      </p:sp>
      <p:sp>
        <p:nvSpPr>
          <p:cNvPr id="390" name=""/>
          <p:cNvSpPr txBox="1"/>
          <p:nvPr/>
        </p:nvSpPr>
        <p:spPr>
          <a:xfrm>
            <a:off x="456840" y="1484280"/>
            <a:ext cx="8218440" cy="4392720"/>
          </a:xfrm>
          <a:prstGeom prst="rect">
            <a:avLst/>
          </a:prstGeom>
          <a:noFill/>
          <a:ln w="0">
            <a:noFill/>
          </a:ln>
        </p:spPr>
        <p:txBody>
          <a:bodyPr anchor="t">
            <a:normAutofit/>
          </a:bodyPr>
          <a:p>
            <a:pPr marL="357120" indent="-3571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Valtionhallinnossa on nyt isosti huomattu avoimuuden merkitys.</a:t>
            </a:r>
            <a:endParaRPr b="0" lang="en-US" sz="2200" spc="-1" strike="noStrike">
              <a:solidFill>
                <a:srgbClr val="000000"/>
              </a:solidFill>
              <a:latin typeface="Arial"/>
            </a:endParaRPr>
          </a:p>
          <a:p>
            <a:pPr marL="357120" indent="-3571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Alivaltiosihteeri Timo Lankinen: Tarvitaan yhteinen läpinäkyvä päätöksenteon tukijärjestelmä.</a:t>
            </a:r>
            <a:endParaRPr b="0" lang="en-US" sz="2200" spc="-1" strike="noStrike">
              <a:solidFill>
                <a:srgbClr val="000000"/>
              </a:solidFill>
              <a:latin typeface="Arial"/>
            </a:endParaRPr>
          </a:p>
          <a:p>
            <a:pPr marL="357120" indent="-3571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Halutaan kykyä nopeisiin selvitystyyppisiin toimeksiantoihin ja perusteltuihin vastauksiin.</a:t>
            </a:r>
            <a:endParaRPr b="0" lang="en-US" sz="2200" spc="-1" strike="noStrike">
              <a:solidFill>
                <a:srgbClr val="000000"/>
              </a:solidFill>
              <a:latin typeface="Arial"/>
            </a:endParaRPr>
          </a:p>
          <a:p>
            <a:pPr marL="357120" indent="-3571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1" name="Date Placeholder 3"/>
          <p:cNvSpPr/>
          <p:nvPr/>
        </p:nvSpPr>
        <p:spPr>
          <a:xfrm>
            <a:off x="457200" y="6589800"/>
            <a:ext cx="1090440" cy="22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3EA25-F526-459B-A357-AD68BC8D2B73}" type="datetime">
              <a:rPr b="0" lang="fi-FI" sz="1000" spc="-1" strike="noStrike">
                <a:solidFill>
                  <a:srgbClr val="ffffff"/>
                </a:solidFill>
                <a:latin typeface="Arial"/>
              </a:rPr>
              <a:t>29.07.26</a:t>
            </a:fld>
            <a:endParaRPr b="0" lang="en-US" sz="1000" spc="-1" strike="noStrike">
              <a:solidFill>
                <a:srgbClr val="000000"/>
              </a:solidFill>
              <a:latin typeface="Arial"/>
            </a:endParaRPr>
          </a:p>
        </p:txBody>
      </p:sp>
      <p:sp>
        <p:nvSpPr>
          <p:cNvPr id="392" name="Footer Placeholder 4"/>
          <p:cNvSpPr/>
          <p:nvPr/>
        </p:nvSpPr>
        <p:spPr>
          <a:xfrm>
            <a:off x="1258920" y="6597720"/>
            <a:ext cx="698508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Arial"/>
              </a:rPr>
              <a:t>http://fi.opasnet.org/fi/Tiedosto:Ilmastopolitiikka_rakennukset_ja_terveys.ppt</a:t>
            </a:r>
            <a:endParaRPr b="0" lang="en-US" sz="1500" spc="-1" strike="noStrike">
              <a:solidFill>
                <a:srgbClr val="000000"/>
              </a:solidFill>
              <a:latin typeface="Arial"/>
            </a:endParaRPr>
          </a:p>
        </p:txBody>
      </p:sp>
      <p:sp>
        <p:nvSpPr>
          <p:cNvPr id="393" name="Slide Number Placeholder 5"/>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C43C1-83E7-4292-AFA4-A33CB4B77040}" type="slidenum">
              <a:rPr b="0" lang="fi-FI"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42"/>
          <p:cNvSpPr/>
          <p:nvPr/>
        </p:nvSpPr>
        <p:spPr>
          <a:xfrm>
            <a:off x="250920" y="6021360"/>
            <a:ext cx="1363680" cy="44784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PlaceHolder 1"/>
          <p:cNvSpPr>
            <a:spLocks noGrp="1"/>
          </p:cNvSpPr>
          <p:nvPr>
            <p:ph type="title"/>
          </p:nvPr>
        </p:nvSpPr>
        <p:spPr>
          <a:xfrm>
            <a:off x="428760" y="274680"/>
            <a:ext cx="8229600" cy="79848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500" spc="-1" strike="noStrike">
                <a:solidFill>
                  <a:srgbClr val="7bc143"/>
                </a:solidFill>
                <a:latin typeface="Arial"/>
              </a:rPr>
              <a:t>Tiedonkulku päätösvalmistelussa tulevaisuudessa</a:t>
            </a:r>
            <a:endParaRPr b="1" lang="en-US" sz="2500" spc="-1" strike="noStrike">
              <a:solidFill>
                <a:srgbClr val="7bc143"/>
              </a:solidFill>
              <a:latin typeface="Arial"/>
            </a:endParaRPr>
          </a:p>
        </p:txBody>
      </p:sp>
      <p:pic>
        <p:nvPicPr>
          <p:cNvPr id="396" name="Picture 10" descr=""/>
          <p:cNvPicPr/>
          <p:nvPr/>
        </p:nvPicPr>
        <p:blipFill>
          <a:blip r:embed="rId1"/>
          <a:stretch/>
        </p:blipFill>
        <p:spPr>
          <a:xfrm>
            <a:off x="6229440" y="3111480"/>
            <a:ext cx="623880" cy="814320"/>
          </a:xfrm>
          <a:prstGeom prst="rect">
            <a:avLst/>
          </a:prstGeom>
          <a:ln w="0">
            <a:noFill/>
          </a:ln>
        </p:spPr>
      </p:pic>
      <p:pic>
        <p:nvPicPr>
          <p:cNvPr id="397" name="Picture 11" descr=""/>
          <p:cNvPicPr/>
          <p:nvPr/>
        </p:nvPicPr>
        <p:blipFill>
          <a:blip r:embed="rId2"/>
          <a:stretch/>
        </p:blipFill>
        <p:spPr>
          <a:xfrm>
            <a:off x="6934320" y="1704960"/>
            <a:ext cx="971280" cy="770040"/>
          </a:xfrm>
          <a:prstGeom prst="rect">
            <a:avLst/>
          </a:prstGeom>
          <a:ln w="0">
            <a:noFill/>
          </a:ln>
        </p:spPr>
      </p:pic>
      <p:pic>
        <p:nvPicPr>
          <p:cNvPr id="398" name="Picture 15" descr=""/>
          <p:cNvPicPr/>
          <p:nvPr/>
        </p:nvPicPr>
        <p:blipFill>
          <a:blip r:embed="rId3"/>
          <a:stretch/>
        </p:blipFill>
        <p:spPr>
          <a:xfrm>
            <a:off x="4962600" y="3495600"/>
            <a:ext cx="990360" cy="943200"/>
          </a:xfrm>
          <a:prstGeom prst="rect">
            <a:avLst/>
          </a:prstGeom>
          <a:ln w="0">
            <a:noFill/>
          </a:ln>
        </p:spPr>
      </p:pic>
      <p:pic>
        <p:nvPicPr>
          <p:cNvPr id="399" name="Picture 16" descr=""/>
          <p:cNvPicPr/>
          <p:nvPr/>
        </p:nvPicPr>
        <p:blipFill>
          <a:blip r:embed="rId4"/>
          <a:stretch/>
        </p:blipFill>
        <p:spPr>
          <a:xfrm>
            <a:off x="5127480" y="1554120"/>
            <a:ext cx="1105200" cy="924120"/>
          </a:xfrm>
          <a:prstGeom prst="rect">
            <a:avLst/>
          </a:prstGeom>
          <a:ln w="0">
            <a:noFill/>
          </a:ln>
        </p:spPr>
      </p:pic>
      <p:pic>
        <p:nvPicPr>
          <p:cNvPr id="400" name="Picture 17" descr=""/>
          <p:cNvPicPr/>
          <p:nvPr/>
        </p:nvPicPr>
        <p:blipFill>
          <a:blip r:embed="rId5"/>
          <a:stretch/>
        </p:blipFill>
        <p:spPr>
          <a:xfrm>
            <a:off x="0" y="4541760"/>
            <a:ext cx="747720" cy="719280"/>
          </a:xfrm>
          <a:prstGeom prst="rect">
            <a:avLst/>
          </a:prstGeom>
          <a:ln w="0">
            <a:noFill/>
          </a:ln>
        </p:spPr>
      </p:pic>
      <p:pic>
        <p:nvPicPr>
          <p:cNvPr id="401" name="Picture 18" descr=""/>
          <p:cNvPicPr/>
          <p:nvPr/>
        </p:nvPicPr>
        <p:blipFill>
          <a:blip r:embed="rId6"/>
          <a:stretch/>
        </p:blipFill>
        <p:spPr>
          <a:xfrm>
            <a:off x="2655720" y="5307120"/>
            <a:ext cx="694080" cy="679320"/>
          </a:xfrm>
          <a:prstGeom prst="rect">
            <a:avLst/>
          </a:prstGeom>
          <a:ln w="0">
            <a:noFill/>
          </a:ln>
        </p:spPr>
      </p:pic>
      <p:pic>
        <p:nvPicPr>
          <p:cNvPr id="402" name="Picture 20" descr=""/>
          <p:cNvPicPr/>
          <p:nvPr/>
        </p:nvPicPr>
        <p:blipFill>
          <a:blip r:embed="rId7"/>
          <a:stretch/>
        </p:blipFill>
        <p:spPr>
          <a:xfrm>
            <a:off x="1617840" y="2108160"/>
            <a:ext cx="914400" cy="924120"/>
          </a:xfrm>
          <a:prstGeom prst="rect">
            <a:avLst/>
          </a:prstGeom>
          <a:ln w="0">
            <a:noFill/>
          </a:ln>
        </p:spPr>
      </p:pic>
      <p:pic>
        <p:nvPicPr>
          <p:cNvPr id="403" name="Picture 21" descr=""/>
          <p:cNvPicPr/>
          <p:nvPr/>
        </p:nvPicPr>
        <p:blipFill>
          <a:blip r:embed="rId8"/>
          <a:stretch/>
        </p:blipFill>
        <p:spPr>
          <a:xfrm>
            <a:off x="3402000" y="1289160"/>
            <a:ext cx="1057320" cy="933480"/>
          </a:xfrm>
          <a:prstGeom prst="rect">
            <a:avLst/>
          </a:prstGeom>
          <a:ln w="0">
            <a:noFill/>
          </a:ln>
        </p:spPr>
      </p:pic>
      <p:cxnSp>
        <p:nvCxnSpPr>
          <p:cNvPr id="404" name="Straight Arrow Connector 20"/>
          <p:cNvCxnSpPr/>
          <p:nvPr/>
        </p:nvCxnSpPr>
        <p:spPr>
          <a:xfrm flipH="1">
            <a:off x="5952600" y="3652920"/>
            <a:ext cx="248400" cy="118080"/>
          </a:xfrm>
          <a:prstGeom prst="straightConnector1">
            <a:avLst/>
          </a:prstGeom>
          <a:ln w="9360">
            <a:solidFill>
              <a:srgbClr val="000000"/>
            </a:solidFill>
            <a:miter/>
            <a:tailEnd len="med" type="arrow" w="med"/>
          </a:ln>
        </p:spPr>
      </p:cxnSp>
      <p:cxnSp>
        <p:nvCxnSpPr>
          <p:cNvPr id="405" name="Straight Arrow Connector 22"/>
          <p:cNvCxnSpPr/>
          <p:nvPr/>
        </p:nvCxnSpPr>
        <p:spPr>
          <a:xfrm flipH="1">
            <a:off x="6279480" y="2090880"/>
            <a:ext cx="654840" cy="3600"/>
          </a:xfrm>
          <a:prstGeom prst="straightConnector1">
            <a:avLst/>
          </a:prstGeom>
          <a:ln w="9360">
            <a:solidFill>
              <a:srgbClr val="000000"/>
            </a:solidFill>
            <a:miter/>
            <a:tailEnd len="med" type="arrow" w="med"/>
          </a:ln>
        </p:spPr>
      </p:cxnSp>
      <p:cxnSp>
        <p:nvCxnSpPr>
          <p:cNvPr id="406" name="Straight Arrow Connector 23"/>
          <p:cNvCxnSpPr/>
          <p:nvPr/>
        </p:nvCxnSpPr>
        <p:spPr>
          <a:xfrm flipV="1">
            <a:off x="1500120" y="5449680"/>
            <a:ext cx="7200" cy="311760"/>
          </a:xfrm>
          <a:prstGeom prst="straightConnector1">
            <a:avLst/>
          </a:prstGeom>
          <a:ln w="9360">
            <a:solidFill>
              <a:srgbClr val="000000"/>
            </a:solidFill>
            <a:miter/>
            <a:tailEnd len="med" type="arrow" w="med"/>
          </a:ln>
        </p:spPr>
      </p:cxnSp>
      <p:cxnSp>
        <p:nvCxnSpPr>
          <p:cNvPr id="407" name="Straight Arrow Connector 24"/>
          <p:cNvCxnSpPr/>
          <p:nvPr/>
        </p:nvCxnSpPr>
        <p:spPr>
          <a:xfrm flipH="1" flipV="1">
            <a:off x="1814040" y="5425200"/>
            <a:ext cx="432720" cy="423000"/>
          </a:xfrm>
          <a:prstGeom prst="straightConnector1">
            <a:avLst/>
          </a:prstGeom>
          <a:ln w="9360">
            <a:solidFill>
              <a:srgbClr val="000000"/>
            </a:solidFill>
            <a:miter/>
            <a:tailEnd len="med" type="arrow" w="med"/>
          </a:ln>
        </p:spPr>
      </p:cxnSp>
      <p:cxnSp>
        <p:nvCxnSpPr>
          <p:cNvPr id="408" name="Straight Arrow Connector 25"/>
          <p:cNvCxnSpPr/>
          <p:nvPr/>
        </p:nvCxnSpPr>
        <p:spPr>
          <a:xfrm flipV="1">
            <a:off x="871200" y="5439600"/>
            <a:ext cx="429480" cy="415080"/>
          </a:xfrm>
          <a:prstGeom prst="straightConnector1">
            <a:avLst/>
          </a:prstGeom>
          <a:ln w="9360">
            <a:solidFill>
              <a:srgbClr val="000000"/>
            </a:solidFill>
            <a:miter/>
            <a:tailEnd len="med" type="arrow" w="med"/>
          </a:ln>
        </p:spPr>
      </p:cxnSp>
      <p:cxnSp>
        <p:nvCxnSpPr>
          <p:cNvPr id="409" name="Straight Arrow Connector 26"/>
          <p:cNvCxnSpPr/>
          <p:nvPr/>
        </p:nvCxnSpPr>
        <p:spPr>
          <a:xfrm>
            <a:off x="968400" y="2499840"/>
            <a:ext cx="545040" cy="1080"/>
          </a:xfrm>
          <a:prstGeom prst="straightConnector1">
            <a:avLst/>
          </a:prstGeom>
          <a:ln w="9360">
            <a:solidFill>
              <a:srgbClr val="000000"/>
            </a:solidFill>
            <a:miter/>
            <a:tailEnd len="med" type="arrow" w="med"/>
          </a:ln>
        </p:spPr>
      </p:cxnSp>
      <p:cxnSp>
        <p:nvCxnSpPr>
          <p:cNvPr id="410" name="Straight Arrow Connector 27"/>
          <p:cNvCxnSpPr/>
          <p:nvPr/>
        </p:nvCxnSpPr>
        <p:spPr>
          <a:xfrm flipV="1">
            <a:off x="3695400" y="2221920"/>
            <a:ext cx="111960" cy="548280"/>
          </a:xfrm>
          <a:prstGeom prst="straightConnector1">
            <a:avLst/>
          </a:prstGeom>
          <a:ln w="9360">
            <a:solidFill>
              <a:srgbClr val="000000"/>
            </a:solidFill>
            <a:miter/>
            <a:headEnd len="med" type="arrow" w="med"/>
            <a:tailEnd len="med" type="arrow" w="med"/>
          </a:ln>
        </p:spPr>
      </p:cxnSp>
      <p:cxnSp>
        <p:nvCxnSpPr>
          <p:cNvPr id="411" name="Straight Arrow Connector 28"/>
          <p:cNvCxnSpPr/>
          <p:nvPr/>
        </p:nvCxnSpPr>
        <p:spPr>
          <a:xfrm>
            <a:off x="4459320" y="1817280"/>
            <a:ext cx="511920" cy="121320"/>
          </a:xfrm>
          <a:prstGeom prst="straightConnector1">
            <a:avLst/>
          </a:prstGeom>
          <a:ln w="9360">
            <a:solidFill>
              <a:srgbClr val="000000"/>
            </a:solidFill>
            <a:miter/>
            <a:headEnd len="med" type="arrow" w="med"/>
            <a:tailEnd len="med" type="arrow" w="med"/>
          </a:ln>
        </p:spPr>
      </p:cxnSp>
      <p:sp>
        <p:nvSpPr>
          <p:cNvPr id="412" name="TextBox 29"/>
          <p:cNvSpPr/>
          <p:nvPr/>
        </p:nvSpPr>
        <p:spPr>
          <a:xfrm>
            <a:off x="2660760" y="5967360"/>
            <a:ext cx="18889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Avoin alkuperäisdata</a:t>
            </a:r>
            <a:endParaRPr b="0" lang="en-US" sz="2000" spc="-1" strike="noStrike">
              <a:solidFill>
                <a:srgbClr val="000000"/>
              </a:solidFill>
              <a:latin typeface="Arial"/>
            </a:endParaRPr>
          </a:p>
        </p:txBody>
      </p:sp>
      <p:sp>
        <p:nvSpPr>
          <p:cNvPr id="413" name="TextBox 30"/>
          <p:cNvSpPr/>
          <p:nvPr/>
        </p:nvSpPr>
        <p:spPr>
          <a:xfrm>
            <a:off x="2043000" y="4484520"/>
            <a:ext cx="1887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ieteen tilannekatsaus</a:t>
            </a:r>
            <a:endParaRPr b="0" lang="en-US" sz="2000" spc="-1" strike="noStrike">
              <a:solidFill>
                <a:srgbClr val="000000"/>
              </a:solidFill>
              <a:latin typeface="Arial"/>
            </a:endParaRPr>
          </a:p>
        </p:txBody>
      </p:sp>
      <p:sp>
        <p:nvSpPr>
          <p:cNvPr id="414" name="TextBox 32"/>
          <p:cNvSpPr/>
          <p:nvPr/>
        </p:nvSpPr>
        <p:spPr>
          <a:xfrm>
            <a:off x="1854360" y="3195720"/>
            <a:ext cx="12110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Avoin arviointi</a:t>
            </a:r>
            <a:endParaRPr b="0" lang="en-US" sz="2000" spc="-1" strike="noStrike">
              <a:solidFill>
                <a:srgbClr val="000000"/>
              </a:solidFill>
              <a:latin typeface="Arial"/>
            </a:endParaRPr>
          </a:p>
        </p:txBody>
      </p:sp>
      <p:pic>
        <p:nvPicPr>
          <p:cNvPr id="415" name="Picture 2" descr=""/>
          <p:cNvPicPr/>
          <p:nvPr/>
        </p:nvPicPr>
        <p:blipFill>
          <a:blip r:embed="rId9"/>
          <a:stretch/>
        </p:blipFill>
        <p:spPr>
          <a:xfrm>
            <a:off x="949320" y="4446720"/>
            <a:ext cx="1125720" cy="966600"/>
          </a:xfrm>
          <a:prstGeom prst="rect">
            <a:avLst/>
          </a:prstGeom>
          <a:ln w="0">
            <a:noFill/>
          </a:ln>
        </p:spPr>
      </p:pic>
      <p:sp>
        <p:nvSpPr>
          <p:cNvPr id="416" name="Can 36"/>
          <p:cNvSpPr/>
          <p:nvPr/>
        </p:nvSpPr>
        <p:spPr>
          <a:xfrm>
            <a:off x="642960" y="6089760"/>
            <a:ext cx="368280" cy="455400"/>
          </a:xfrm>
          <a:prstGeom prst="can">
            <a:avLst>
              <a:gd name="adj" fmla="val 20208"/>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Can 37"/>
          <p:cNvSpPr/>
          <p:nvPr/>
        </p:nvSpPr>
        <p:spPr>
          <a:xfrm>
            <a:off x="2070000" y="6093000"/>
            <a:ext cx="368280" cy="457200"/>
          </a:xfrm>
          <a:prstGeom prst="can">
            <a:avLst>
              <a:gd name="adj" fmla="val 20138"/>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Can 38"/>
          <p:cNvSpPr/>
          <p:nvPr/>
        </p:nvSpPr>
        <p:spPr>
          <a:xfrm>
            <a:off x="1355760" y="6089760"/>
            <a:ext cx="368280" cy="455400"/>
          </a:xfrm>
          <a:prstGeom prst="can">
            <a:avLst>
              <a:gd name="adj" fmla="val 20208"/>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Freeform 39"/>
          <p:cNvSpPr/>
          <p:nvPr/>
        </p:nvSpPr>
        <p:spPr>
          <a:xfrm>
            <a:off x="1278000" y="4686480"/>
            <a:ext cx="434880" cy="214200"/>
          </a:xfrm>
          <a:custGeom>
            <a:avLst/>
            <a:gdLst/>
            <a:ahLst/>
            <a:rect l="l" t="t" r="r" b="b"/>
            <a:pathLst>
              <a:path w="434743" h="214830">
                <a:moveTo>
                  <a:pt x="0" y="212304"/>
                </a:moveTo>
                <a:cubicBezTo>
                  <a:pt x="6803" y="107529"/>
                  <a:pt x="13607" y="2754"/>
                  <a:pt x="81643" y="33"/>
                </a:cubicBezTo>
                <a:cubicBezTo>
                  <a:pt x="149679" y="-2688"/>
                  <a:pt x="356507" y="163319"/>
                  <a:pt x="408214" y="195976"/>
                </a:cubicBezTo>
                <a:cubicBezTo>
                  <a:pt x="459921" y="228633"/>
                  <a:pt x="425903" y="212304"/>
                  <a:pt x="391886" y="195976"/>
                </a:cubicBezTo>
              </a:path>
            </a:pathLst>
          </a:custGeom>
          <a:noFill/>
          <a:ln w="25560">
            <a:solidFill>
              <a:srgbClr val="598d2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420" name="Straight Arrow Connector 40"/>
          <p:cNvCxnSpPr/>
          <p:nvPr/>
        </p:nvCxnSpPr>
        <p:spPr>
          <a:xfrm flipV="1">
            <a:off x="747720" y="4776480"/>
            <a:ext cx="373680" cy="124560"/>
          </a:xfrm>
          <a:prstGeom prst="straightConnector1">
            <a:avLst/>
          </a:prstGeom>
          <a:ln w="9360">
            <a:solidFill>
              <a:srgbClr val="000000"/>
            </a:solidFill>
            <a:miter/>
            <a:headEnd len="med" type="arrow" w="med"/>
            <a:tailEnd len="med" type="arrow" w="med"/>
          </a:ln>
        </p:spPr>
      </p:cxnSp>
      <p:cxnSp>
        <p:nvCxnSpPr>
          <p:cNvPr id="421" name="Straight Arrow Connector 41"/>
          <p:cNvCxnSpPr/>
          <p:nvPr/>
        </p:nvCxnSpPr>
        <p:spPr>
          <a:xfrm>
            <a:off x="2069640" y="5157720"/>
            <a:ext cx="586440" cy="293040"/>
          </a:xfrm>
          <a:prstGeom prst="straightConnector1">
            <a:avLst/>
          </a:prstGeom>
          <a:ln w="9360">
            <a:solidFill>
              <a:srgbClr val="000000"/>
            </a:solidFill>
            <a:miter/>
            <a:headEnd len="med" type="arrow" w="med"/>
            <a:tailEnd len="med" type="arrow" w="med"/>
          </a:ln>
        </p:spPr>
      </p:cxnSp>
      <p:pic>
        <p:nvPicPr>
          <p:cNvPr id="422" name="Picture 2" descr=""/>
          <p:cNvPicPr/>
          <p:nvPr/>
        </p:nvPicPr>
        <p:blipFill>
          <a:blip r:embed="rId10"/>
          <a:stretch/>
        </p:blipFill>
        <p:spPr>
          <a:xfrm>
            <a:off x="2806560" y="2870280"/>
            <a:ext cx="1519200" cy="1401840"/>
          </a:xfrm>
          <a:prstGeom prst="rect">
            <a:avLst/>
          </a:prstGeom>
          <a:ln w="0">
            <a:noFill/>
          </a:ln>
        </p:spPr>
      </p:pic>
      <p:grpSp>
        <p:nvGrpSpPr>
          <p:cNvPr id="423" name="Group 53"/>
          <p:cNvGrpSpPr/>
          <p:nvPr/>
        </p:nvGrpSpPr>
        <p:grpSpPr>
          <a:xfrm>
            <a:off x="3321000" y="3343320"/>
            <a:ext cx="647640" cy="250920"/>
            <a:chOff x="3321000" y="3343320"/>
            <a:chExt cx="647640" cy="250920"/>
          </a:xfrm>
        </p:grpSpPr>
        <p:sp>
          <p:nvSpPr>
            <p:cNvPr id="424" name="Rectangle 49"/>
            <p:cNvSpPr/>
            <p:nvPr/>
          </p:nvSpPr>
          <p:spPr>
            <a:xfrm>
              <a:off x="3396960" y="3343320"/>
              <a:ext cx="160200" cy="250920"/>
            </a:xfrm>
            <a:prstGeom prst="rect">
              <a:avLst/>
            </a:prstGeom>
            <a:solidFill>
              <a:srgbClr val="7bc143"/>
            </a:solidFill>
            <a:ln w="25560">
              <a:solidFill>
                <a:srgbClr val="598d2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Rectangle 50"/>
            <p:cNvSpPr/>
            <p:nvPr/>
          </p:nvSpPr>
          <p:spPr>
            <a:xfrm>
              <a:off x="3670200" y="3438720"/>
              <a:ext cx="189000" cy="155520"/>
            </a:xfrm>
            <a:prstGeom prst="rect">
              <a:avLst/>
            </a:prstGeom>
            <a:solidFill>
              <a:srgbClr val="6bc9c7"/>
            </a:solidFill>
            <a:ln w="25560">
              <a:solidFill>
                <a:srgbClr val="598d2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Straight Connector 52"/>
            <p:cNvSpPr/>
            <p:nvPr/>
          </p:nvSpPr>
          <p:spPr>
            <a:xfrm>
              <a:off x="3321000" y="3594240"/>
              <a:ext cx="647640" cy="0"/>
            </a:xfrm>
            <a:prstGeom prst="line">
              <a:avLst/>
            </a:prstGeom>
            <a:ln w="28440">
              <a:solidFill>
                <a:srgbClr val="78c03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7" name="Straight Connector 57"/>
          <p:cNvSpPr/>
          <p:nvPr/>
        </p:nvSpPr>
        <p:spPr>
          <a:xfrm>
            <a:off x="3363840" y="3156120"/>
            <a:ext cx="443160" cy="0"/>
          </a:xfrm>
          <a:prstGeom prst="line">
            <a:avLst/>
          </a:prstGeom>
          <a:ln w="9360">
            <a:solidFill>
              <a:srgbClr val="78c03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Straight Connector 58"/>
          <p:cNvSpPr/>
          <p:nvPr/>
        </p:nvSpPr>
        <p:spPr>
          <a:xfrm>
            <a:off x="3386160" y="3193920"/>
            <a:ext cx="442800" cy="0"/>
          </a:xfrm>
          <a:prstGeom prst="line">
            <a:avLst/>
          </a:prstGeom>
          <a:ln w="9360">
            <a:solidFill>
              <a:srgbClr val="78c03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Straight Connector 59"/>
          <p:cNvSpPr/>
          <p:nvPr/>
        </p:nvSpPr>
        <p:spPr>
          <a:xfrm>
            <a:off x="3375000" y="3265560"/>
            <a:ext cx="442800" cy="0"/>
          </a:xfrm>
          <a:prstGeom prst="line">
            <a:avLst/>
          </a:prstGeom>
          <a:ln w="9360">
            <a:solidFill>
              <a:srgbClr val="78c03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30" name="Straight Arrow Connector 61"/>
          <p:cNvCxnSpPr/>
          <p:nvPr/>
        </p:nvCxnSpPr>
        <p:spPr>
          <a:xfrm flipV="1">
            <a:off x="1899720" y="3863520"/>
            <a:ext cx="1008720" cy="542160"/>
          </a:xfrm>
          <a:prstGeom prst="straightConnector1">
            <a:avLst/>
          </a:prstGeom>
          <a:ln w="9360">
            <a:solidFill>
              <a:srgbClr val="000000"/>
            </a:solidFill>
            <a:miter/>
            <a:headEnd len="med" type="arrow" w="med"/>
            <a:tailEnd len="med" type="arrow" w="med"/>
          </a:ln>
        </p:spPr>
      </p:cxnSp>
      <p:cxnSp>
        <p:nvCxnSpPr>
          <p:cNvPr id="431" name="Straight Arrow Connector 63"/>
          <p:cNvCxnSpPr/>
          <p:nvPr/>
        </p:nvCxnSpPr>
        <p:spPr>
          <a:xfrm>
            <a:off x="2531880" y="2634840"/>
            <a:ext cx="456120" cy="397800"/>
          </a:xfrm>
          <a:prstGeom prst="straightConnector1">
            <a:avLst/>
          </a:prstGeom>
          <a:ln w="9360">
            <a:solidFill>
              <a:srgbClr val="000000"/>
            </a:solidFill>
            <a:miter/>
            <a:headEnd len="med" type="arrow" w="med"/>
            <a:tailEnd len="med" type="arrow" w="med"/>
          </a:ln>
        </p:spPr>
      </p:cxnSp>
      <p:cxnSp>
        <p:nvCxnSpPr>
          <p:cNvPr id="432" name="Straight Arrow Connector 34"/>
          <p:cNvCxnSpPr/>
          <p:nvPr/>
        </p:nvCxnSpPr>
        <p:spPr>
          <a:xfrm>
            <a:off x="4215960" y="3439800"/>
            <a:ext cx="747000" cy="424440"/>
          </a:xfrm>
          <a:prstGeom prst="straightConnector1">
            <a:avLst/>
          </a:prstGeom>
          <a:ln w="9360">
            <a:solidFill>
              <a:srgbClr val="000000"/>
            </a:solidFill>
            <a:miter/>
            <a:headEnd len="med" type="arrow" w="med"/>
            <a:tailEnd len="med" type="arrow" w="med"/>
          </a:ln>
        </p:spPr>
      </p:cxnSp>
      <p:cxnSp>
        <p:nvCxnSpPr>
          <p:cNvPr id="433" name="Straight Arrow Connector 71"/>
          <p:cNvCxnSpPr/>
          <p:nvPr/>
        </p:nvCxnSpPr>
        <p:spPr>
          <a:xfrm flipV="1">
            <a:off x="4214520" y="2474640"/>
            <a:ext cx="967320" cy="619920"/>
          </a:xfrm>
          <a:prstGeom prst="straightConnector1">
            <a:avLst/>
          </a:prstGeom>
          <a:ln w="9360">
            <a:solidFill>
              <a:srgbClr val="000000"/>
            </a:solidFill>
            <a:miter/>
            <a:headEnd len="med" type="arrow" w="med"/>
            <a:tailEnd len="med" type="arrow" w="med"/>
          </a:ln>
        </p:spPr>
      </p:cxnSp>
      <p:cxnSp>
        <p:nvCxnSpPr>
          <p:cNvPr id="434" name="Straight Arrow Connector 73"/>
          <p:cNvCxnSpPr/>
          <p:nvPr/>
        </p:nvCxnSpPr>
        <p:spPr>
          <a:xfrm flipV="1">
            <a:off x="2475000" y="1937880"/>
            <a:ext cx="875520" cy="310320"/>
          </a:xfrm>
          <a:prstGeom prst="straightConnector1">
            <a:avLst/>
          </a:prstGeom>
          <a:ln w="9360">
            <a:solidFill>
              <a:srgbClr val="000000"/>
            </a:solidFill>
            <a:miter/>
            <a:headEnd len="med" type="arrow" w="med"/>
            <a:tailEnd len="med" type="arrow" w="med"/>
          </a:ln>
        </p:spPr>
      </p:cxnSp>
      <p:pic>
        <p:nvPicPr>
          <p:cNvPr id="435" name="Picture 7" descr=""/>
          <p:cNvPicPr/>
          <p:nvPr/>
        </p:nvPicPr>
        <p:blipFill>
          <a:blip r:embed="rId11"/>
          <a:stretch/>
        </p:blipFill>
        <p:spPr>
          <a:xfrm>
            <a:off x="250920" y="2247840"/>
            <a:ext cx="620640" cy="612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pic>
        <p:nvPicPr>
          <p:cNvPr id="437" name="" descr=""/>
          <p:cNvPicPr/>
          <p:nvPr/>
        </p:nvPicPr>
        <p:blipFill>
          <a:blip r:embed="rId1"/>
          <a:stretch/>
        </p:blipFill>
        <p:spPr>
          <a:xfrm>
            <a:off x="456840" y="1484280"/>
            <a:ext cx="8218440" cy="4392720"/>
          </a:xfrm>
          <a:prstGeom prst="rect">
            <a:avLst/>
          </a:prstGeom>
          <a:ln w="0">
            <a:noFill/>
          </a:ln>
        </p:spPr>
      </p:pic>
      <p:sp>
        <p:nvSpPr>
          <p:cNvPr id="438" name="Date Placeholder 3"/>
          <p:cNvSpPr/>
          <p:nvPr/>
        </p:nvSpPr>
        <p:spPr>
          <a:xfrm>
            <a:off x="457200" y="6589800"/>
            <a:ext cx="1090440" cy="22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DC078-3F1E-40EC-A111-1CB05FF92230}" type="datetime">
              <a:rPr b="0" lang="fi-FI" sz="1000" spc="-1" strike="noStrike">
                <a:solidFill>
                  <a:srgbClr val="ffffff"/>
                </a:solidFill>
                <a:latin typeface="Arial"/>
              </a:rPr>
              <a:t>29.07.26</a:t>
            </a:fld>
            <a:endParaRPr b="0" lang="en-US" sz="1000" spc="-1" strike="noStrike">
              <a:solidFill>
                <a:srgbClr val="000000"/>
              </a:solidFill>
              <a:latin typeface="Arial"/>
            </a:endParaRPr>
          </a:p>
        </p:txBody>
      </p:sp>
      <p:sp>
        <p:nvSpPr>
          <p:cNvPr id="439" name="Footer Placeholder 4"/>
          <p:cNvSpPr/>
          <p:nvPr/>
        </p:nvSpPr>
        <p:spPr>
          <a:xfrm>
            <a:off x="1258920" y="6597720"/>
            <a:ext cx="698508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Arial"/>
              </a:rPr>
              <a:t>http://fi.opasnet.org/fi/Tiedosto:Ilmastopolitiikka_rakennukset_ja_terveys.ppt</a:t>
            </a:r>
            <a:endParaRPr b="0" lang="en-US" sz="1500" spc="-1" strike="noStrike">
              <a:solidFill>
                <a:srgbClr val="000000"/>
              </a:solidFill>
              <a:latin typeface="Arial"/>
            </a:endParaRPr>
          </a:p>
        </p:txBody>
      </p:sp>
      <p:sp>
        <p:nvSpPr>
          <p:cNvPr id="440" name="Slide Number Placeholder 5"/>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B0F40-C0EB-4C77-BB30-A71F7FC65CE6}" type="slidenum">
              <a:rPr b="0" lang="fi-FI" sz="1000" spc="-1" strike="noStrike">
                <a:solidFill>
                  <a:srgbClr val="ffffff"/>
                </a:solidFill>
                <a:latin typeface="Arial"/>
              </a:rPr>
              <a:t>&lt;number&gt;</a:t>
            </a:fld>
            <a:endParaRPr b="0" lang="en-US" sz="1000" spc="-1" strike="noStrike">
              <a:solidFill>
                <a:srgbClr val="000000"/>
              </a:solidFill>
              <a:latin typeface="Arial"/>
            </a:endParaRPr>
          </a:p>
        </p:txBody>
      </p:sp>
      <p:sp>
        <p:nvSpPr>
          <p:cNvPr id="441" name="Rectangle 6"/>
          <p:cNvSpPr/>
          <p:nvPr/>
        </p:nvSpPr>
        <p:spPr>
          <a:xfrm>
            <a:off x="0" y="0"/>
            <a:ext cx="91440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7bc143"/>
                </a:solidFill>
                <a:latin typeface="Arial"/>
              </a:rPr>
              <a:t>Miten tämä on mahdollista </a:t>
            </a:r>
            <a:endParaRPr b="1" lang="en-US" sz="2800" spc="-1" strike="noStrike">
              <a:solidFill>
                <a:srgbClr val="7bc143"/>
              </a:solidFill>
              <a:latin typeface="Arial"/>
            </a:endParaRPr>
          </a:p>
        </p:txBody>
      </p:sp>
      <p:sp>
        <p:nvSpPr>
          <p:cNvPr id="443" name=""/>
          <p:cNvSpPr txBox="1"/>
          <p:nvPr/>
        </p:nvSpPr>
        <p:spPr>
          <a:xfrm>
            <a:off x="456840" y="1484280"/>
            <a:ext cx="8218440" cy="4392720"/>
          </a:xfrm>
          <a:prstGeom prst="rect">
            <a:avLst/>
          </a:prstGeom>
          <a:noFill/>
          <a:ln w="0">
            <a:noFill/>
          </a:ln>
        </p:spPr>
        <p:txBody>
          <a:bodyPr anchor="t">
            <a:normAutofit/>
          </a:bodyPr>
          <a:p>
            <a:pPr marL="414360" indent="-41436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Tieto on yksinkertaista ja rakenteeltaan selkeää: Kuka on esiintynyt elokuvassa x? Missä elokuvissa y on esiintynyt? </a:t>
            </a:r>
            <a:endParaRPr b="0" lang="en-US" sz="2200" spc="-1" strike="noStrike">
              <a:solidFill>
                <a:srgbClr val="000000"/>
              </a:solidFill>
              <a:latin typeface="Arial"/>
            </a:endParaRPr>
          </a:p>
          <a:p>
            <a:pPr marL="414360" indent="-41436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Imdb ja Wikipedia sisältävät hyvin kattavasti tämäntyyppisen tiedon. </a:t>
            </a:r>
            <a:endParaRPr b="0" lang="en-US" sz="2200" spc="-1" strike="noStrike">
              <a:solidFill>
                <a:srgbClr val="000000"/>
              </a:solidFill>
              <a:latin typeface="Arial"/>
            </a:endParaRPr>
          </a:p>
          <a:p>
            <a:pPr marL="414360" indent="-41436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Suuri joukko vapaaehtoisia päivittää ja jäsentää tietoa, joka on heille merkityksellistä. </a:t>
            </a:r>
            <a:endParaRPr b="0" lang="en-US" sz="2200" spc="-1" strike="noStrike">
              <a:solidFill>
                <a:srgbClr val="000000"/>
              </a:solidFill>
              <a:latin typeface="Arial"/>
            </a:endParaRPr>
          </a:p>
          <a:p>
            <a:pPr marL="414360" indent="-41436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4360" indent="-41436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Päätöksenteossa tämä toimintamalli on vasta lapsenkengissä. Miksi? </a:t>
            </a:r>
            <a:endParaRPr b="0" lang="en-US" sz="2200" spc="-1" strike="noStrike">
              <a:solidFill>
                <a:srgbClr val="000000"/>
              </a:solidFill>
              <a:latin typeface="Arial"/>
            </a:endParaRPr>
          </a:p>
        </p:txBody>
      </p:sp>
      <p:sp>
        <p:nvSpPr>
          <p:cNvPr id="444" name="Date Placeholder 1"/>
          <p:cNvSpPr/>
          <p:nvPr/>
        </p:nvSpPr>
        <p:spPr>
          <a:xfrm>
            <a:off x="457200" y="6589800"/>
            <a:ext cx="1090440" cy="22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B5201-E5CD-41D5-BAF4-E27D1983ED93}" type="datetime">
              <a:rPr b="0" lang="fi-FI" sz="1000" spc="-1" strike="noStrike">
                <a:solidFill>
                  <a:srgbClr val="ffffff"/>
                </a:solidFill>
                <a:latin typeface="Arial"/>
              </a:rPr>
              <a:t>29.07.26</a:t>
            </a:fld>
            <a:endParaRPr b="0" lang="en-US" sz="1000" spc="-1" strike="noStrike">
              <a:solidFill>
                <a:srgbClr val="000000"/>
              </a:solidFill>
              <a:latin typeface="Arial"/>
            </a:endParaRPr>
          </a:p>
        </p:txBody>
      </p:sp>
      <p:sp>
        <p:nvSpPr>
          <p:cNvPr id="445" name="Footer Placeholder 2"/>
          <p:cNvSpPr/>
          <p:nvPr/>
        </p:nvSpPr>
        <p:spPr>
          <a:xfrm>
            <a:off x="1258920" y="6597720"/>
            <a:ext cx="698508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Arial"/>
              </a:rPr>
              <a:t>http://fi.opasnet.org/fi/Tiedosto:Ilmastopolitiikka_rakennukset_ja_terveys.ppt</a:t>
            </a:r>
            <a:endParaRPr b="0" lang="en-US" sz="1500" spc="-1" strike="noStrike">
              <a:solidFill>
                <a:srgbClr val="000000"/>
              </a:solidFill>
              <a:latin typeface="Arial"/>
            </a:endParaRPr>
          </a:p>
        </p:txBody>
      </p:sp>
      <p:sp>
        <p:nvSpPr>
          <p:cNvPr id="446" name="Slide Number Placeholder 3"/>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8026D-BE93-4685-9808-28FD6CE64B74}" type="slidenum">
              <a:rPr b="0" lang="fi-FI"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7bc143"/>
                </a:solidFill>
                <a:latin typeface="Arial"/>
              </a:rPr>
              <a:t>Tieto-ongelmia päätöksenteossa</a:t>
            </a:r>
            <a:endParaRPr b="1" lang="en-US" sz="2800" spc="-1" strike="noStrike">
              <a:solidFill>
                <a:srgbClr val="7bc143"/>
              </a:solidFill>
              <a:latin typeface="Arial"/>
            </a:endParaRPr>
          </a:p>
        </p:txBody>
      </p:sp>
      <p:sp>
        <p:nvSpPr>
          <p:cNvPr id="448" name=""/>
          <p:cNvSpPr txBox="1"/>
          <p:nvPr/>
        </p:nvSpPr>
        <p:spPr>
          <a:xfrm>
            <a:off x="456840" y="1484280"/>
            <a:ext cx="8218440" cy="4392720"/>
          </a:xfrm>
          <a:prstGeom prst="rect">
            <a:avLst/>
          </a:prstGeom>
          <a:noFill/>
          <a:ln w="0">
            <a:noFill/>
          </a:ln>
        </p:spPr>
        <p:txBody>
          <a:bodyPr anchor="t">
            <a:normAutofit/>
          </a:bodyPr>
          <a:p>
            <a:pPr marL="414360" indent="-41436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Ei ajatella että tutkimuksen ja päätösvalmistelun tieto kuuluu kaikille. </a:t>
            </a:r>
            <a:endParaRPr b="0" lang="en-US" sz="2200" spc="-1" strike="noStrike">
              <a:solidFill>
                <a:srgbClr val="000000"/>
              </a:solidFill>
              <a:latin typeface="Arial"/>
            </a:endParaRPr>
          </a:p>
          <a:p>
            <a:pPr marL="414360" indent="-41436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Tietorakenteet ovat paljon monimutkaisempia ja ihmisille oudompia kuin Imdbssä. Ei edes ajatella että sitä voisi vakioida. </a:t>
            </a:r>
            <a:endParaRPr b="0" lang="en-US" sz="2200" spc="-1" strike="noStrike">
              <a:solidFill>
                <a:srgbClr val="000000"/>
              </a:solidFill>
              <a:latin typeface="Arial"/>
            </a:endParaRPr>
          </a:p>
          <a:p>
            <a:pPr marL="414360" indent="-41436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Kuitenkin vakiokysymyksiä voi käyttää:</a:t>
            </a:r>
            <a:endParaRPr b="0" lang="en-US" sz="2200" spc="-1" strike="noStrike">
              <a:solidFill>
                <a:srgbClr val="000000"/>
              </a:solidFill>
              <a:latin typeface="Arial"/>
            </a:endParaRPr>
          </a:p>
          <a:p>
            <a:pPr lvl="1" marL="776160" indent="-41436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itkä toimenpiteet on ehdotettu tehtäväksi? </a:t>
            </a:r>
            <a:endParaRPr b="0" lang="en-US" sz="2000" spc="-1" strike="noStrike">
              <a:solidFill>
                <a:srgbClr val="000000"/>
              </a:solidFill>
              <a:latin typeface="Arial"/>
            </a:endParaRPr>
          </a:p>
          <a:p>
            <a:pPr lvl="1" marL="776160" indent="-41436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ihin asioihin ne vaikuttaisivat? </a:t>
            </a:r>
            <a:endParaRPr b="0" lang="en-US" sz="2000" spc="-1" strike="noStrike">
              <a:solidFill>
                <a:srgbClr val="000000"/>
              </a:solidFill>
              <a:latin typeface="Arial"/>
            </a:endParaRPr>
          </a:p>
          <a:p>
            <a:pPr lvl="1" marL="776160" indent="-41436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iten tärkeinä pidämme niitä asioita, jotka toimenpiteen takia muuttuisivat? </a:t>
            </a:r>
            <a:endParaRPr b="0" lang="en-US" sz="2000" spc="-1" strike="noStrike">
              <a:solidFill>
                <a:srgbClr val="000000"/>
              </a:solidFill>
              <a:latin typeface="Arial"/>
            </a:endParaRPr>
          </a:p>
          <a:p>
            <a:pPr marL="414360" indent="-41436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Vaaditaan halu ymmärtää kaikkia eikä voittaa väittelyä.</a:t>
            </a:r>
            <a:endParaRPr b="0" lang="en-US" sz="2200" spc="-1" strike="noStrike">
              <a:solidFill>
                <a:srgbClr val="000000"/>
              </a:solidFill>
              <a:latin typeface="Arial"/>
            </a:endParaRPr>
          </a:p>
        </p:txBody>
      </p:sp>
      <p:sp>
        <p:nvSpPr>
          <p:cNvPr id="449" name="Date Placeholder 1"/>
          <p:cNvSpPr/>
          <p:nvPr/>
        </p:nvSpPr>
        <p:spPr>
          <a:xfrm>
            <a:off x="457200" y="6589800"/>
            <a:ext cx="1090440" cy="22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20B4F-A9E3-43DF-A7AA-049CAE0635BE}" type="datetime">
              <a:rPr b="0" lang="fi-FI" sz="1000" spc="-1" strike="noStrike">
                <a:solidFill>
                  <a:srgbClr val="ffffff"/>
                </a:solidFill>
                <a:latin typeface="Arial"/>
              </a:rPr>
              <a:t>29.07.26</a:t>
            </a:fld>
            <a:endParaRPr b="0" lang="en-US" sz="1000" spc="-1" strike="noStrike">
              <a:solidFill>
                <a:srgbClr val="000000"/>
              </a:solidFill>
              <a:latin typeface="Arial"/>
            </a:endParaRPr>
          </a:p>
        </p:txBody>
      </p:sp>
      <p:sp>
        <p:nvSpPr>
          <p:cNvPr id="450" name="Footer Placeholder 3"/>
          <p:cNvSpPr/>
          <p:nvPr/>
        </p:nvSpPr>
        <p:spPr>
          <a:xfrm>
            <a:off x="1258920" y="6597720"/>
            <a:ext cx="698508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Arial"/>
              </a:rPr>
              <a:t>http://fi.opasnet.org/fi/Tiedosto:Ilmastopolitiikka_rakennukset_ja_terveys.ppt</a:t>
            </a:r>
            <a:endParaRPr b="0" lang="en-US" sz="1500" spc="-1" strike="noStrike">
              <a:solidFill>
                <a:srgbClr val="000000"/>
              </a:solidFill>
              <a:latin typeface="Arial"/>
            </a:endParaRPr>
          </a:p>
        </p:txBody>
      </p:sp>
      <p:sp>
        <p:nvSpPr>
          <p:cNvPr id="451" name="Slide Number Placeholder 4"/>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BC41E-26EA-44B8-888C-D554859A5505}" type="slidenum">
              <a:rPr b="0" lang="fi-FI"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42"/>
          <p:cNvSpPr/>
          <p:nvPr/>
        </p:nvSpPr>
        <p:spPr>
          <a:xfrm>
            <a:off x="250920" y="6021360"/>
            <a:ext cx="1363680" cy="44784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1"/>
          <p:cNvSpPr>
            <a:spLocks noGrp="1"/>
          </p:cNvSpPr>
          <p:nvPr>
            <p:ph type="title"/>
          </p:nvPr>
        </p:nvSpPr>
        <p:spPr>
          <a:xfrm>
            <a:off x="428760" y="274680"/>
            <a:ext cx="8229600" cy="79848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500" spc="-1" strike="noStrike">
                <a:solidFill>
                  <a:srgbClr val="7bc143"/>
                </a:solidFill>
                <a:latin typeface="Arial"/>
              </a:rPr>
              <a:t>Tiedonkulku päätösvalmistelussa tulevaisuudessa</a:t>
            </a:r>
            <a:endParaRPr b="1" lang="en-US" sz="2500" spc="-1" strike="noStrike">
              <a:solidFill>
                <a:srgbClr val="7bc143"/>
              </a:solidFill>
              <a:latin typeface="Arial"/>
            </a:endParaRPr>
          </a:p>
        </p:txBody>
      </p:sp>
      <p:pic>
        <p:nvPicPr>
          <p:cNvPr id="236" name="Picture 10" descr=""/>
          <p:cNvPicPr/>
          <p:nvPr/>
        </p:nvPicPr>
        <p:blipFill>
          <a:blip r:embed="rId1"/>
          <a:stretch/>
        </p:blipFill>
        <p:spPr>
          <a:xfrm>
            <a:off x="6229440" y="3111480"/>
            <a:ext cx="623880" cy="814320"/>
          </a:xfrm>
          <a:prstGeom prst="rect">
            <a:avLst/>
          </a:prstGeom>
          <a:ln w="0">
            <a:noFill/>
          </a:ln>
        </p:spPr>
      </p:pic>
      <p:pic>
        <p:nvPicPr>
          <p:cNvPr id="237" name="Picture 11" descr=""/>
          <p:cNvPicPr/>
          <p:nvPr/>
        </p:nvPicPr>
        <p:blipFill>
          <a:blip r:embed="rId2"/>
          <a:stretch/>
        </p:blipFill>
        <p:spPr>
          <a:xfrm>
            <a:off x="6934320" y="1704960"/>
            <a:ext cx="971280" cy="770040"/>
          </a:xfrm>
          <a:prstGeom prst="rect">
            <a:avLst/>
          </a:prstGeom>
          <a:ln w="0">
            <a:noFill/>
          </a:ln>
        </p:spPr>
      </p:pic>
      <p:pic>
        <p:nvPicPr>
          <p:cNvPr id="238" name="Picture 15" descr=""/>
          <p:cNvPicPr/>
          <p:nvPr/>
        </p:nvPicPr>
        <p:blipFill>
          <a:blip r:embed="rId3"/>
          <a:stretch/>
        </p:blipFill>
        <p:spPr>
          <a:xfrm>
            <a:off x="4962600" y="3495600"/>
            <a:ext cx="990360" cy="943200"/>
          </a:xfrm>
          <a:prstGeom prst="rect">
            <a:avLst/>
          </a:prstGeom>
          <a:ln w="0">
            <a:noFill/>
          </a:ln>
        </p:spPr>
      </p:pic>
      <p:pic>
        <p:nvPicPr>
          <p:cNvPr id="239" name="Picture 16" descr=""/>
          <p:cNvPicPr/>
          <p:nvPr/>
        </p:nvPicPr>
        <p:blipFill>
          <a:blip r:embed="rId4"/>
          <a:stretch/>
        </p:blipFill>
        <p:spPr>
          <a:xfrm>
            <a:off x="5127480" y="1554120"/>
            <a:ext cx="1105200" cy="924120"/>
          </a:xfrm>
          <a:prstGeom prst="rect">
            <a:avLst/>
          </a:prstGeom>
          <a:ln w="0">
            <a:noFill/>
          </a:ln>
        </p:spPr>
      </p:pic>
      <p:pic>
        <p:nvPicPr>
          <p:cNvPr id="240" name="Picture 17" descr=""/>
          <p:cNvPicPr/>
          <p:nvPr/>
        </p:nvPicPr>
        <p:blipFill>
          <a:blip r:embed="rId5"/>
          <a:stretch/>
        </p:blipFill>
        <p:spPr>
          <a:xfrm>
            <a:off x="0" y="4541760"/>
            <a:ext cx="747720" cy="719280"/>
          </a:xfrm>
          <a:prstGeom prst="rect">
            <a:avLst/>
          </a:prstGeom>
          <a:ln w="0">
            <a:noFill/>
          </a:ln>
        </p:spPr>
      </p:pic>
      <p:pic>
        <p:nvPicPr>
          <p:cNvPr id="241" name="Picture 18" descr=""/>
          <p:cNvPicPr/>
          <p:nvPr/>
        </p:nvPicPr>
        <p:blipFill>
          <a:blip r:embed="rId6"/>
          <a:stretch/>
        </p:blipFill>
        <p:spPr>
          <a:xfrm>
            <a:off x="2655720" y="5307120"/>
            <a:ext cx="694080" cy="679320"/>
          </a:xfrm>
          <a:prstGeom prst="rect">
            <a:avLst/>
          </a:prstGeom>
          <a:ln w="0">
            <a:noFill/>
          </a:ln>
        </p:spPr>
      </p:pic>
      <p:pic>
        <p:nvPicPr>
          <p:cNvPr id="242" name="Picture 20" descr=""/>
          <p:cNvPicPr/>
          <p:nvPr/>
        </p:nvPicPr>
        <p:blipFill>
          <a:blip r:embed="rId7"/>
          <a:stretch/>
        </p:blipFill>
        <p:spPr>
          <a:xfrm>
            <a:off x="1617840" y="2108160"/>
            <a:ext cx="914400" cy="924120"/>
          </a:xfrm>
          <a:prstGeom prst="rect">
            <a:avLst/>
          </a:prstGeom>
          <a:ln w="0">
            <a:noFill/>
          </a:ln>
        </p:spPr>
      </p:pic>
      <p:pic>
        <p:nvPicPr>
          <p:cNvPr id="243" name="Picture 21" descr=""/>
          <p:cNvPicPr/>
          <p:nvPr/>
        </p:nvPicPr>
        <p:blipFill>
          <a:blip r:embed="rId8"/>
          <a:stretch/>
        </p:blipFill>
        <p:spPr>
          <a:xfrm>
            <a:off x="3402000" y="1289160"/>
            <a:ext cx="1057320" cy="933480"/>
          </a:xfrm>
          <a:prstGeom prst="rect">
            <a:avLst/>
          </a:prstGeom>
          <a:ln w="0">
            <a:noFill/>
          </a:ln>
        </p:spPr>
      </p:pic>
      <p:cxnSp>
        <p:nvCxnSpPr>
          <p:cNvPr id="244" name="Straight Arrow Connector 20"/>
          <p:cNvCxnSpPr/>
          <p:nvPr/>
        </p:nvCxnSpPr>
        <p:spPr>
          <a:xfrm flipH="1">
            <a:off x="5952600" y="3652920"/>
            <a:ext cx="248400" cy="118080"/>
          </a:xfrm>
          <a:prstGeom prst="straightConnector1">
            <a:avLst/>
          </a:prstGeom>
          <a:ln w="9360">
            <a:solidFill>
              <a:srgbClr val="000000"/>
            </a:solidFill>
            <a:miter/>
            <a:tailEnd len="med" type="arrow" w="med"/>
          </a:ln>
        </p:spPr>
      </p:cxnSp>
      <p:cxnSp>
        <p:nvCxnSpPr>
          <p:cNvPr id="245" name="Straight Arrow Connector 22"/>
          <p:cNvCxnSpPr/>
          <p:nvPr/>
        </p:nvCxnSpPr>
        <p:spPr>
          <a:xfrm flipH="1">
            <a:off x="6279480" y="2090880"/>
            <a:ext cx="654840" cy="3600"/>
          </a:xfrm>
          <a:prstGeom prst="straightConnector1">
            <a:avLst/>
          </a:prstGeom>
          <a:ln w="9360">
            <a:solidFill>
              <a:srgbClr val="000000"/>
            </a:solidFill>
            <a:miter/>
            <a:tailEnd len="med" type="arrow" w="med"/>
          </a:ln>
        </p:spPr>
      </p:cxnSp>
      <p:cxnSp>
        <p:nvCxnSpPr>
          <p:cNvPr id="246" name="Straight Arrow Connector 23"/>
          <p:cNvCxnSpPr/>
          <p:nvPr/>
        </p:nvCxnSpPr>
        <p:spPr>
          <a:xfrm flipV="1">
            <a:off x="1500120" y="5449680"/>
            <a:ext cx="7200" cy="311760"/>
          </a:xfrm>
          <a:prstGeom prst="straightConnector1">
            <a:avLst/>
          </a:prstGeom>
          <a:ln w="9360">
            <a:solidFill>
              <a:srgbClr val="000000"/>
            </a:solidFill>
            <a:miter/>
            <a:tailEnd len="med" type="arrow" w="med"/>
          </a:ln>
        </p:spPr>
      </p:cxnSp>
      <p:cxnSp>
        <p:nvCxnSpPr>
          <p:cNvPr id="247" name="Straight Arrow Connector 24"/>
          <p:cNvCxnSpPr/>
          <p:nvPr/>
        </p:nvCxnSpPr>
        <p:spPr>
          <a:xfrm flipH="1" flipV="1">
            <a:off x="1814040" y="5425200"/>
            <a:ext cx="432720" cy="423000"/>
          </a:xfrm>
          <a:prstGeom prst="straightConnector1">
            <a:avLst/>
          </a:prstGeom>
          <a:ln w="9360">
            <a:solidFill>
              <a:srgbClr val="000000"/>
            </a:solidFill>
            <a:miter/>
            <a:tailEnd len="med" type="arrow" w="med"/>
          </a:ln>
        </p:spPr>
      </p:cxnSp>
      <p:cxnSp>
        <p:nvCxnSpPr>
          <p:cNvPr id="248" name="Straight Arrow Connector 25"/>
          <p:cNvCxnSpPr/>
          <p:nvPr/>
        </p:nvCxnSpPr>
        <p:spPr>
          <a:xfrm flipV="1">
            <a:off x="871200" y="5439600"/>
            <a:ext cx="429480" cy="415080"/>
          </a:xfrm>
          <a:prstGeom prst="straightConnector1">
            <a:avLst/>
          </a:prstGeom>
          <a:ln w="9360">
            <a:solidFill>
              <a:srgbClr val="000000"/>
            </a:solidFill>
            <a:miter/>
            <a:tailEnd len="med" type="arrow" w="med"/>
          </a:ln>
        </p:spPr>
      </p:cxnSp>
      <p:cxnSp>
        <p:nvCxnSpPr>
          <p:cNvPr id="249" name="Straight Arrow Connector 26"/>
          <p:cNvCxnSpPr/>
          <p:nvPr/>
        </p:nvCxnSpPr>
        <p:spPr>
          <a:xfrm>
            <a:off x="968400" y="2499840"/>
            <a:ext cx="545040" cy="1080"/>
          </a:xfrm>
          <a:prstGeom prst="straightConnector1">
            <a:avLst/>
          </a:prstGeom>
          <a:ln w="9360">
            <a:solidFill>
              <a:srgbClr val="000000"/>
            </a:solidFill>
            <a:miter/>
            <a:tailEnd len="med" type="arrow" w="med"/>
          </a:ln>
        </p:spPr>
      </p:cxnSp>
      <p:cxnSp>
        <p:nvCxnSpPr>
          <p:cNvPr id="250" name="Straight Arrow Connector 27"/>
          <p:cNvCxnSpPr/>
          <p:nvPr/>
        </p:nvCxnSpPr>
        <p:spPr>
          <a:xfrm flipV="1">
            <a:off x="3695400" y="2221920"/>
            <a:ext cx="111960" cy="548280"/>
          </a:xfrm>
          <a:prstGeom prst="straightConnector1">
            <a:avLst/>
          </a:prstGeom>
          <a:ln w="9360">
            <a:solidFill>
              <a:srgbClr val="000000"/>
            </a:solidFill>
            <a:miter/>
            <a:headEnd len="med" type="arrow" w="med"/>
            <a:tailEnd len="med" type="arrow" w="med"/>
          </a:ln>
        </p:spPr>
      </p:cxnSp>
      <p:cxnSp>
        <p:nvCxnSpPr>
          <p:cNvPr id="251" name="Straight Arrow Connector 28"/>
          <p:cNvCxnSpPr/>
          <p:nvPr/>
        </p:nvCxnSpPr>
        <p:spPr>
          <a:xfrm>
            <a:off x="4459320" y="1817280"/>
            <a:ext cx="511920" cy="121320"/>
          </a:xfrm>
          <a:prstGeom prst="straightConnector1">
            <a:avLst/>
          </a:prstGeom>
          <a:ln w="9360">
            <a:solidFill>
              <a:srgbClr val="000000"/>
            </a:solidFill>
            <a:miter/>
            <a:headEnd len="med" type="arrow" w="med"/>
            <a:tailEnd len="med" type="arrow" w="med"/>
          </a:ln>
        </p:spPr>
      </p:cxnSp>
      <p:sp>
        <p:nvSpPr>
          <p:cNvPr id="252" name="TextBox 29"/>
          <p:cNvSpPr/>
          <p:nvPr/>
        </p:nvSpPr>
        <p:spPr>
          <a:xfrm>
            <a:off x="2660760" y="5967360"/>
            <a:ext cx="18889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Avoin alkuperäisdata</a:t>
            </a:r>
            <a:endParaRPr b="0" lang="en-US" sz="2000" spc="-1" strike="noStrike">
              <a:solidFill>
                <a:srgbClr val="000000"/>
              </a:solidFill>
              <a:latin typeface="Arial"/>
            </a:endParaRPr>
          </a:p>
        </p:txBody>
      </p:sp>
      <p:sp>
        <p:nvSpPr>
          <p:cNvPr id="253" name="TextBox 30"/>
          <p:cNvSpPr/>
          <p:nvPr/>
        </p:nvSpPr>
        <p:spPr>
          <a:xfrm>
            <a:off x="2043000" y="4484520"/>
            <a:ext cx="1887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ieteen tilannekatsaus</a:t>
            </a:r>
            <a:endParaRPr b="0" lang="en-US" sz="2000" spc="-1" strike="noStrike">
              <a:solidFill>
                <a:srgbClr val="000000"/>
              </a:solidFill>
              <a:latin typeface="Arial"/>
            </a:endParaRPr>
          </a:p>
        </p:txBody>
      </p:sp>
      <p:sp>
        <p:nvSpPr>
          <p:cNvPr id="254" name="TextBox 32"/>
          <p:cNvSpPr/>
          <p:nvPr/>
        </p:nvSpPr>
        <p:spPr>
          <a:xfrm>
            <a:off x="1854360" y="3195720"/>
            <a:ext cx="12110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Avoin arviointi</a:t>
            </a:r>
            <a:endParaRPr b="0" lang="en-US" sz="2000" spc="-1" strike="noStrike">
              <a:solidFill>
                <a:srgbClr val="000000"/>
              </a:solidFill>
              <a:latin typeface="Arial"/>
            </a:endParaRPr>
          </a:p>
        </p:txBody>
      </p:sp>
      <p:pic>
        <p:nvPicPr>
          <p:cNvPr id="255" name="Picture 2" descr=""/>
          <p:cNvPicPr/>
          <p:nvPr/>
        </p:nvPicPr>
        <p:blipFill>
          <a:blip r:embed="rId9"/>
          <a:stretch/>
        </p:blipFill>
        <p:spPr>
          <a:xfrm>
            <a:off x="949320" y="4446720"/>
            <a:ext cx="1125720" cy="966600"/>
          </a:xfrm>
          <a:prstGeom prst="rect">
            <a:avLst/>
          </a:prstGeom>
          <a:ln w="0">
            <a:noFill/>
          </a:ln>
        </p:spPr>
      </p:pic>
      <p:sp>
        <p:nvSpPr>
          <p:cNvPr id="256" name="Can 36"/>
          <p:cNvSpPr/>
          <p:nvPr/>
        </p:nvSpPr>
        <p:spPr>
          <a:xfrm>
            <a:off x="642960" y="6089760"/>
            <a:ext cx="368280" cy="455400"/>
          </a:xfrm>
          <a:prstGeom prst="can">
            <a:avLst>
              <a:gd name="adj" fmla="val 20208"/>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Can 37"/>
          <p:cNvSpPr/>
          <p:nvPr/>
        </p:nvSpPr>
        <p:spPr>
          <a:xfrm>
            <a:off x="2070000" y="6093000"/>
            <a:ext cx="368280" cy="457200"/>
          </a:xfrm>
          <a:prstGeom prst="can">
            <a:avLst>
              <a:gd name="adj" fmla="val 20138"/>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Can 38"/>
          <p:cNvSpPr/>
          <p:nvPr/>
        </p:nvSpPr>
        <p:spPr>
          <a:xfrm>
            <a:off x="1355760" y="6089760"/>
            <a:ext cx="368280" cy="455400"/>
          </a:xfrm>
          <a:prstGeom prst="can">
            <a:avLst>
              <a:gd name="adj" fmla="val 20208"/>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Freeform 39"/>
          <p:cNvSpPr/>
          <p:nvPr/>
        </p:nvSpPr>
        <p:spPr>
          <a:xfrm>
            <a:off x="1278000" y="4686480"/>
            <a:ext cx="434880" cy="214200"/>
          </a:xfrm>
          <a:custGeom>
            <a:avLst/>
            <a:gdLst/>
            <a:ahLst/>
            <a:rect l="l" t="t" r="r" b="b"/>
            <a:pathLst>
              <a:path w="434743" h="214830">
                <a:moveTo>
                  <a:pt x="0" y="212304"/>
                </a:moveTo>
                <a:cubicBezTo>
                  <a:pt x="6803" y="107529"/>
                  <a:pt x="13607" y="2754"/>
                  <a:pt x="81643" y="33"/>
                </a:cubicBezTo>
                <a:cubicBezTo>
                  <a:pt x="149679" y="-2688"/>
                  <a:pt x="356507" y="163319"/>
                  <a:pt x="408214" y="195976"/>
                </a:cubicBezTo>
                <a:cubicBezTo>
                  <a:pt x="459921" y="228633"/>
                  <a:pt x="425903" y="212304"/>
                  <a:pt x="391886" y="195976"/>
                </a:cubicBezTo>
              </a:path>
            </a:pathLst>
          </a:custGeom>
          <a:noFill/>
          <a:ln w="25560">
            <a:solidFill>
              <a:srgbClr val="598d2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260" name="Straight Arrow Connector 40"/>
          <p:cNvCxnSpPr/>
          <p:nvPr/>
        </p:nvCxnSpPr>
        <p:spPr>
          <a:xfrm flipV="1">
            <a:off x="747720" y="4776480"/>
            <a:ext cx="373680" cy="124560"/>
          </a:xfrm>
          <a:prstGeom prst="straightConnector1">
            <a:avLst/>
          </a:prstGeom>
          <a:ln w="9360">
            <a:solidFill>
              <a:srgbClr val="000000"/>
            </a:solidFill>
            <a:miter/>
            <a:headEnd len="med" type="arrow" w="med"/>
            <a:tailEnd len="med" type="arrow" w="med"/>
          </a:ln>
        </p:spPr>
      </p:cxnSp>
      <p:cxnSp>
        <p:nvCxnSpPr>
          <p:cNvPr id="261" name="Straight Arrow Connector 41"/>
          <p:cNvCxnSpPr/>
          <p:nvPr/>
        </p:nvCxnSpPr>
        <p:spPr>
          <a:xfrm>
            <a:off x="2069640" y="5157720"/>
            <a:ext cx="586440" cy="293040"/>
          </a:xfrm>
          <a:prstGeom prst="straightConnector1">
            <a:avLst/>
          </a:prstGeom>
          <a:ln w="9360">
            <a:solidFill>
              <a:srgbClr val="000000"/>
            </a:solidFill>
            <a:miter/>
            <a:headEnd len="med" type="arrow" w="med"/>
            <a:tailEnd len="med" type="arrow" w="med"/>
          </a:ln>
        </p:spPr>
      </p:cxnSp>
      <p:pic>
        <p:nvPicPr>
          <p:cNvPr id="262" name="Picture 2" descr=""/>
          <p:cNvPicPr/>
          <p:nvPr/>
        </p:nvPicPr>
        <p:blipFill>
          <a:blip r:embed="rId10"/>
          <a:stretch/>
        </p:blipFill>
        <p:spPr>
          <a:xfrm>
            <a:off x="2806560" y="2870280"/>
            <a:ext cx="1519200" cy="1401840"/>
          </a:xfrm>
          <a:prstGeom prst="rect">
            <a:avLst/>
          </a:prstGeom>
          <a:ln w="0">
            <a:noFill/>
          </a:ln>
        </p:spPr>
      </p:pic>
      <p:grpSp>
        <p:nvGrpSpPr>
          <p:cNvPr id="263" name="Group 53"/>
          <p:cNvGrpSpPr/>
          <p:nvPr/>
        </p:nvGrpSpPr>
        <p:grpSpPr>
          <a:xfrm>
            <a:off x="3321000" y="3343320"/>
            <a:ext cx="647640" cy="250920"/>
            <a:chOff x="3321000" y="3343320"/>
            <a:chExt cx="647640" cy="250920"/>
          </a:xfrm>
        </p:grpSpPr>
        <p:sp>
          <p:nvSpPr>
            <p:cNvPr id="264" name="Rectangle 49"/>
            <p:cNvSpPr/>
            <p:nvPr/>
          </p:nvSpPr>
          <p:spPr>
            <a:xfrm>
              <a:off x="3396960" y="3343320"/>
              <a:ext cx="160200" cy="250920"/>
            </a:xfrm>
            <a:prstGeom prst="rect">
              <a:avLst/>
            </a:prstGeom>
            <a:solidFill>
              <a:srgbClr val="7bc143"/>
            </a:solidFill>
            <a:ln w="25560">
              <a:solidFill>
                <a:srgbClr val="598d2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50"/>
            <p:cNvSpPr/>
            <p:nvPr/>
          </p:nvSpPr>
          <p:spPr>
            <a:xfrm>
              <a:off x="3670200" y="3438720"/>
              <a:ext cx="189000" cy="155520"/>
            </a:xfrm>
            <a:prstGeom prst="rect">
              <a:avLst/>
            </a:prstGeom>
            <a:solidFill>
              <a:srgbClr val="6bc9c7"/>
            </a:solidFill>
            <a:ln w="25560">
              <a:solidFill>
                <a:srgbClr val="598d2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Straight Connector 52"/>
            <p:cNvSpPr/>
            <p:nvPr/>
          </p:nvSpPr>
          <p:spPr>
            <a:xfrm>
              <a:off x="3321000" y="3594240"/>
              <a:ext cx="647640" cy="0"/>
            </a:xfrm>
            <a:prstGeom prst="line">
              <a:avLst/>
            </a:prstGeom>
            <a:ln w="28440">
              <a:solidFill>
                <a:srgbClr val="78c03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7" name="Straight Connector 57"/>
          <p:cNvSpPr/>
          <p:nvPr/>
        </p:nvSpPr>
        <p:spPr>
          <a:xfrm>
            <a:off x="3363840" y="3156120"/>
            <a:ext cx="443160" cy="0"/>
          </a:xfrm>
          <a:prstGeom prst="line">
            <a:avLst/>
          </a:prstGeom>
          <a:ln w="9360">
            <a:solidFill>
              <a:srgbClr val="78c03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Straight Connector 58"/>
          <p:cNvSpPr/>
          <p:nvPr/>
        </p:nvSpPr>
        <p:spPr>
          <a:xfrm>
            <a:off x="3386160" y="3193920"/>
            <a:ext cx="442800" cy="0"/>
          </a:xfrm>
          <a:prstGeom prst="line">
            <a:avLst/>
          </a:prstGeom>
          <a:ln w="9360">
            <a:solidFill>
              <a:srgbClr val="78c03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Straight Connector 59"/>
          <p:cNvSpPr/>
          <p:nvPr/>
        </p:nvSpPr>
        <p:spPr>
          <a:xfrm>
            <a:off x="3375000" y="3265560"/>
            <a:ext cx="442800" cy="0"/>
          </a:xfrm>
          <a:prstGeom prst="line">
            <a:avLst/>
          </a:prstGeom>
          <a:ln w="9360">
            <a:solidFill>
              <a:srgbClr val="78c03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70" name="Straight Arrow Connector 61"/>
          <p:cNvCxnSpPr/>
          <p:nvPr/>
        </p:nvCxnSpPr>
        <p:spPr>
          <a:xfrm flipV="1">
            <a:off x="1899720" y="3863520"/>
            <a:ext cx="1008720" cy="542160"/>
          </a:xfrm>
          <a:prstGeom prst="straightConnector1">
            <a:avLst/>
          </a:prstGeom>
          <a:ln w="9360">
            <a:solidFill>
              <a:srgbClr val="000000"/>
            </a:solidFill>
            <a:miter/>
            <a:headEnd len="med" type="arrow" w="med"/>
            <a:tailEnd len="med" type="arrow" w="med"/>
          </a:ln>
        </p:spPr>
      </p:cxnSp>
      <p:cxnSp>
        <p:nvCxnSpPr>
          <p:cNvPr id="271" name="Straight Arrow Connector 63"/>
          <p:cNvCxnSpPr/>
          <p:nvPr/>
        </p:nvCxnSpPr>
        <p:spPr>
          <a:xfrm>
            <a:off x="2531880" y="2634840"/>
            <a:ext cx="456120" cy="397800"/>
          </a:xfrm>
          <a:prstGeom prst="straightConnector1">
            <a:avLst/>
          </a:prstGeom>
          <a:ln w="9360">
            <a:solidFill>
              <a:srgbClr val="000000"/>
            </a:solidFill>
            <a:miter/>
            <a:headEnd len="med" type="arrow" w="med"/>
            <a:tailEnd len="med" type="arrow" w="med"/>
          </a:ln>
        </p:spPr>
      </p:cxnSp>
      <p:cxnSp>
        <p:nvCxnSpPr>
          <p:cNvPr id="272" name="Straight Arrow Connector 34"/>
          <p:cNvCxnSpPr/>
          <p:nvPr/>
        </p:nvCxnSpPr>
        <p:spPr>
          <a:xfrm>
            <a:off x="4215960" y="3439800"/>
            <a:ext cx="747000" cy="424440"/>
          </a:xfrm>
          <a:prstGeom prst="straightConnector1">
            <a:avLst/>
          </a:prstGeom>
          <a:ln w="9360">
            <a:solidFill>
              <a:srgbClr val="000000"/>
            </a:solidFill>
            <a:miter/>
            <a:headEnd len="med" type="arrow" w="med"/>
            <a:tailEnd len="med" type="arrow" w="med"/>
          </a:ln>
        </p:spPr>
      </p:cxnSp>
      <p:cxnSp>
        <p:nvCxnSpPr>
          <p:cNvPr id="273" name="Straight Arrow Connector 71"/>
          <p:cNvCxnSpPr/>
          <p:nvPr/>
        </p:nvCxnSpPr>
        <p:spPr>
          <a:xfrm flipV="1">
            <a:off x="4214520" y="2474640"/>
            <a:ext cx="967320" cy="619920"/>
          </a:xfrm>
          <a:prstGeom prst="straightConnector1">
            <a:avLst/>
          </a:prstGeom>
          <a:ln w="9360">
            <a:solidFill>
              <a:srgbClr val="000000"/>
            </a:solidFill>
            <a:miter/>
            <a:headEnd len="med" type="arrow" w="med"/>
            <a:tailEnd len="med" type="arrow" w="med"/>
          </a:ln>
        </p:spPr>
      </p:cxnSp>
      <p:cxnSp>
        <p:nvCxnSpPr>
          <p:cNvPr id="274" name="Straight Arrow Connector 73"/>
          <p:cNvCxnSpPr/>
          <p:nvPr/>
        </p:nvCxnSpPr>
        <p:spPr>
          <a:xfrm flipV="1">
            <a:off x="2475000" y="1937880"/>
            <a:ext cx="875520" cy="310320"/>
          </a:xfrm>
          <a:prstGeom prst="straightConnector1">
            <a:avLst/>
          </a:prstGeom>
          <a:ln w="9360">
            <a:solidFill>
              <a:srgbClr val="000000"/>
            </a:solidFill>
            <a:miter/>
            <a:headEnd len="med" type="arrow" w="med"/>
            <a:tailEnd len="med" type="arrow" w="med"/>
          </a:ln>
        </p:spPr>
      </p:cxnSp>
      <p:pic>
        <p:nvPicPr>
          <p:cNvPr id="275" name="Picture 7" descr=""/>
          <p:cNvPicPr/>
          <p:nvPr/>
        </p:nvPicPr>
        <p:blipFill>
          <a:blip r:embed="rId11"/>
          <a:stretch/>
        </p:blipFill>
        <p:spPr>
          <a:xfrm>
            <a:off x="250920" y="2247840"/>
            <a:ext cx="620640" cy="612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7bc143"/>
                </a:solidFill>
                <a:latin typeface="Arial"/>
              </a:rPr>
              <a:t>Milloin kannattaa vakioida?</a:t>
            </a:r>
            <a:endParaRPr b="1" lang="en-US" sz="2800" spc="-1" strike="noStrike">
              <a:solidFill>
                <a:srgbClr val="7bc143"/>
              </a:solidFill>
              <a:latin typeface="Arial"/>
            </a:endParaRPr>
          </a:p>
        </p:txBody>
      </p:sp>
      <p:sp>
        <p:nvSpPr>
          <p:cNvPr id="453" name=""/>
          <p:cNvSpPr txBox="1"/>
          <p:nvPr/>
        </p:nvSpPr>
        <p:spPr>
          <a:xfrm>
            <a:off x="456840" y="1484280"/>
            <a:ext cx="8218440" cy="4392720"/>
          </a:xfrm>
          <a:prstGeom prst="rect">
            <a:avLst/>
          </a:prstGeom>
          <a:noFill/>
          <a:ln w="0">
            <a:noFill/>
          </a:ln>
        </p:spPr>
        <p:txBody>
          <a:bodyPr anchor="t">
            <a:normAutofit/>
          </a:bodyPr>
          <a:p>
            <a:pPr marL="414360" indent="-41436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Jos tietyntyyppiset päätöstilanteet toistuvat yhä uudestaan (rakennuksen tai kaupungin lämmitystapa).</a:t>
            </a:r>
            <a:endParaRPr b="0" lang="en-US" sz="2200" spc="-1" strike="noStrike">
              <a:solidFill>
                <a:srgbClr val="000000"/>
              </a:solidFill>
              <a:latin typeface="Arial"/>
            </a:endParaRPr>
          </a:p>
          <a:p>
            <a:pPr marL="414360" indent="-41436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Jos näppituntuma oikeasta ratkaisusta on väärä.</a:t>
            </a:r>
            <a:endParaRPr b="0" lang="en-US" sz="2200" spc="-1" strike="noStrike">
              <a:solidFill>
                <a:srgbClr val="000000"/>
              </a:solidFill>
              <a:latin typeface="Arial"/>
            </a:endParaRPr>
          </a:p>
          <a:p>
            <a:pPr marL="414360" indent="-41436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Jos tarvitaan hidasta ajattelua.</a:t>
            </a:r>
            <a:endParaRPr b="0" lang="en-US" sz="2200" spc="-1" strike="noStrike">
              <a:solidFill>
                <a:srgbClr val="000000"/>
              </a:solidFill>
              <a:latin typeface="Arial"/>
            </a:endParaRPr>
          </a:p>
        </p:txBody>
      </p:sp>
      <p:sp>
        <p:nvSpPr>
          <p:cNvPr id="454" name="Date Placeholder 1"/>
          <p:cNvSpPr/>
          <p:nvPr/>
        </p:nvSpPr>
        <p:spPr>
          <a:xfrm>
            <a:off x="457200" y="6589800"/>
            <a:ext cx="1090440" cy="22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F6C7A-CA20-4EFF-A686-7AE0ED378ABF}" type="datetime">
              <a:rPr b="0" lang="fi-FI" sz="1000" spc="-1" strike="noStrike">
                <a:solidFill>
                  <a:srgbClr val="ffffff"/>
                </a:solidFill>
                <a:latin typeface="Arial"/>
              </a:rPr>
              <a:t>29.07.26</a:t>
            </a:fld>
            <a:endParaRPr b="0" lang="en-US" sz="1000" spc="-1" strike="noStrike">
              <a:solidFill>
                <a:srgbClr val="000000"/>
              </a:solidFill>
              <a:latin typeface="Arial"/>
            </a:endParaRPr>
          </a:p>
        </p:txBody>
      </p:sp>
      <p:sp>
        <p:nvSpPr>
          <p:cNvPr id="455" name="Footer Placeholder 2"/>
          <p:cNvSpPr/>
          <p:nvPr/>
        </p:nvSpPr>
        <p:spPr>
          <a:xfrm>
            <a:off x="1258920" y="6597720"/>
            <a:ext cx="698508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Arial"/>
              </a:rPr>
              <a:t>http://fi.opasnet.org/fi/Tiedosto:Ilmastopolitiikka_rakennukset_ja_terveys.ppt</a:t>
            </a:r>
            <a:endParaRPr b="0" lang="en-US" sz="1500" spc="-1" strike="noStrike">
              <a:solidFill>
                <a:srgbClr val="000000"/>
              </a:solidFill>
              <a:latin typeface="Arial"/>
            </a:endParaRPr>
          </a:p>
        </p:txBody>
      </p:sp>
      <p:sp>
        <p:nvSpPr>
          <p:cNvPr id="456" name="Slide Number Placeholder 3"/>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CFA9D-0187-4D43-BDF4-BA54B23809FC}" type="slidenum">
              <a:rPr b="0" lang="fi-FI"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7bc143"/>
                </a:solidFill>
                <a:latin typeface="Arial"/>
              </a:rPr>
              <a:t>Hidas ajattelu</a:t>
            </a:r>
            <a:endParaRPr b="1" lang="en-US" sz="2800" spc="-1" strike="noStrike">
              <a:solidFill>
                <a:srgbClr val="7bc143"/>
              </a:solidFill>
              <a:latin typeface="Arial"/>
            </a:endParaRPr>
          </a:p>
        </p:txBody>
      </p:sp>
      <p:sp>
        <p:nvSpPr>
          <p:cNvPr id="458" name=""/>
          <p:cNvSpPr txBox="1"/>
          <p:nvPr/>
        </p:nvSpPr>
        <p:spPr>
          <a:xfrm>
            <a:off x="456840" y="1484280"/>
            <a:ext cx="8218440" cy="4392720"/>
          </a:xfrm>
          <a:prstGeom prst="rect">
            <a:avLst/>
          </a:prstGeom>
          <a:noFill/>
          <a:ln w="0">
            <a:noFill/>
          </a:ln>
        </p:spPr>
        <p:txBody>
          <a:bodyPr anchor="t">
            <a:normAutofit/>
          </a:bodyPr>
          <a:p>
            <a:pPr marL="414360" indent="-41436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Nopea ajattelu: nopeaa, automaattista, toistuvaa, tunteisiin pohjautuvaa, kaavamaista, alitajuista.</a:t>
            </a:r>
            <a:endParaRPr b="0" lang="en-US" sz="2200" spc="-1" strike="noStrike">
              <a:solidFill>
                <a:srgbClr val="000000"/>
              </a:solidFill>
              <a:latin typeface="Arial"/>
            </a:endParaRPr>
          </a:p>
          <a:p>
            <a:pPr marL="414360" indent="-41436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Hidas ajattelu: hidasta, työlästä, harvakseltaan, loogista, laskelmoivaa, harkittua.</a:t>
            </a:r>
            <a:endParaRPr b="0" lang="en-US" sz="2200" spc="-1" strike="noStrike">
              <a:solidFill>
                <a:srgbClr val="000000"/>
              </a:solidFill>
              <a:latin typeface="Arial"/>
            </a:endParaRPr>
          </a:p>
          <a:p>
            <a:pPr marL="414360" indent="-41436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Nopeaa ajattelua tekevät kaikki (mutta älykkäät pystyvät keksimään uskottavamman perustelun toiminnalleen jälkikäteen). </a:t>
            </a:r>
            <a:endParaRPr b="0" lang="en-US" sz="2200" spc="-1" strike="noStrike">
              <a:solidFill>
                <a:srgbClr val="000000"/>
              </a:solidFill>
              <a:latin typeface="Arial"/>
            </a:endParaRPr>
          </a:p>
          <a:p>
            <a:pPr marL="414360" indent="-41436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Taloustieteilijä, nobelisti Daniel Kahneman:</a:t>
            </a:r>
            <a:endParaRPr b="0" lang="en-US" sz="2200" spc="-1" strike="noStrike">
              <a:solidFill>
                <a:srgbClr val="000000"/>
              </a:solidFill>
              <a:latin typeface="Arial"/>
            </a:endParaRPr>
          </a:p>
          <a:p>
            <a:pPr marL="414360" indent="-41436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u="sng">
                <a:solidFill>
                  <a:srgbClr val="c1df63"/>
                </a:solidFill>
                <a:uFillTx/>
                <a:latin typeface="Arial"/>
                <a:hlinkClick r:id="rId1"/>
              </a:rPr>
              <a:t>http://en.wikipedia.org/wiki/Thinking,_Fast_and_Slow</a:t>
            </a:r>
            <a:r>
              <a:rPr b="0" lang="fi-FI" sz="2200" spc="-1" strike="noStrike">
                <a:solidFill>
                  <a:srgbClr val="000000"/>
                </a:solidFill>
                <a:latin typeface="Arial"/>
              </a:rPr>
              <a:t>  </a:t>
            </a:r>
            <a:endParaRPr b="0" lang="en-US" sz="2200" spc="-1" strike="noStrike">
              <a:solidFill>
                <a:srgbClr val="000000"/>
              </a:solidFill>
              <a:latin typeface="Arial"/>
            </a:endParaRPr>
          </a:p>
        </p:txBody>
      </p:sp>
      <p:sp>
        <p:nvSpPr>
          <p:cNvPr id="459" name="Date Placeholder 1"/>
          <p:cNvSpPr/>
          <p:nvPr/>
        </p:nvSpPr>
        <p:spPr>
          <a:xfrm>
            <a:off x="457200" y="6589800"/>
            <a:ext cx="1090440" cy="22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37876-4F7E-4832-A372-F426AE2E15F0}" type="datetime">
              <a:rPr b="0" lang="fi-FI" sz="1000" spc="-1" strike="noStrike">
                <a:solidFill>
                  <a:srgbClr val="ffffff"/>
                </a:solidFill>
                <a:latin typeface="Arial"/>
              </a:rPr>
              <a:t>29.07.26</a:t>
            </a:fld>
            <a:endParaRPr b="0" lang="en-US" sz="1000" spc="-1" strike="noStrike">
              <a:solidFill>
                <a:srgbClr val="000000"/>
              </a:solidFill>
              <a:latin typeface="Arial"/>
            </a:endParaRPr>
          </a:p>
        </p:txBody>
      </p:sp>
      <p:sp>
        <p:nvSpPr>
          <p:cNvPr id="460" name="Footer Placeholder 2"/>
          <p:cNvSpPr/>
          <p:nvPr/>
        </p:nvSpPr>
        <p:spPr>
          <a:xfrm>
            <a:off x="1258920" y="6597720"/>
            <a:ext cx="698508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Arial"/>
              </a:rPr>
              <a:t>http://fi.opasnet.org/fi/Tiedosto:Ilmastopolitiikka_rakennukset_ja_terveys.ppt</a:t>
            </a:r>
            <a:endParaRPr b="0" lang="en-US" sz="1500" spc="-1" strike="noStrike">
              <a:solidFill>
                <a:srgbClr val="000000"/>
              </a:solidFill>
              <a:latin typeface="Arial"/>
            </a:endParaRPr>
          </a:p>
        </p:txBody>
      </p:sp>
      <p:sp>
        <p:nvSpPr>
          <p:cNvPr id="461" name="Slide Number Placeholder 3"/>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B4EB7-B4AE-4FCB-A924-556F3C6FAF25}" type="slidenum">
              <a:rPr b="0" lang="fi-FI"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bc143"/>
                </a:solidFill>
                <a:latin typeface="Arial"/>
              </a:rPr>
              <a:t>Six principles are applied:</a:t>
            </a:r>
            <a:endParaRPr b="1" lang="en-US" sz="2800" spc="-1" strike="noStrike">
              <a:solidFill>
                <a:srgbClr val="7bc143"/>
              </a:solidFill>
              <a:latin typeface="Arial"/>
            </a:endParaRPr>
          </a:p>
        </p:txBody>
      </p:sp>
      <p:sp>
        <p:nvSpPr>
          <p:cNvPr id="463" name=""/>
          <p:cNvSpPr txBox="1"/>
          <p:nvPr/>
        </p:nvSpPr>
        <p:spPr>
          <a:xfrm>
            <a:off x="456840" y="1341000"/>
            <a:ext cx="8218440" cy="4535640"/>
          </a:xfrm>
          <a:prstGeom prst="rect">
            <a:avLst/>
          </a:prstGeom>
          <a:noFill/>
          <a:ln w="0">
            <a:noFill/>
          </a:ln>
        </p:spPr>
        <p:txBody>
          <a:bodyPr anchor="t">
            <a:normAutofit fontScale="97000"/>
          </a:bodyPr>
          <a:p>
            <a:pPr lvl="1" marL="606240" indent="-2566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ntionality</a:t>
            </a:r>
            <a:r>
              <a:rPr b="0" lang="en-US" sz="2000" spc="-1" strike="noStrike">
                <a:solidFill>
                  <a:srgbClr val="000000"/>
                </a:solidFill>
                <a:latin typeface="Arial"/>
              </a:rPr>
              <a:t>: </a:t>
            </a:r>
            <a:r>
              <a:rPr b="0" lang="en-US" sz="1800" spc="-1" strike="noStrike">
                <a:solidFill>
                  <a:srgbClr val="000000"/>
                </a:solidFill>
                <a:latin typeface="Arial"/>
              </a:rPr>
              <a:t>All </a:t>
            </a:r>
            <a:r>
              <a:rPr b="0" lang="en-GB" sz="1800" spc="-1" strike="noStrike">
                <a:solidFill>
                  <a:srgbClr val="000000"/>
                </a:solidFill>
                <a:latin typeface="Arial"/>
              </a:rPr>
              <a:t>that</a:t>
            </a:r>
            <a:r>
              <a:rPr b="0" lang="en-US" sz="1800" spc="-1" strike="noStrike">
                <a:solidFill>
                  <a:srgbClr val="000000"/>
                </a:solidFill>
                <a:latin typeface="Arial"/>
              </a:rPr>
              <a:t> is done aims to offer better understanding to the decision maker about outcomes of the decision. </a:t>
            </a:r>
            <a:endParaRPr b="0" lang="en-US" sz="1800" spc="-1" strike="noStrike">
              <a:solidFill>
                <a:srgbClr val="000000"/>
              </a:solidFill>
              <a:latin typeface="Arial"/>
            </a:endParaRPr>
          </a:p>
          <a:p>
            <a:pPr lvl="1" marL="606240" indent="-2566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ared information objects</a:t>
            </a:r>
            <a:r>
              <a:rPr b="0" lang="en-US" sz="2000" spc="-1" strike="noStrike">
                <a:solidFill>
                  <a:srgbClr val="000000"/>
                </a:solidFill>
                <a:latin typeface="Arial"/>
              </a:rPr>
              <a:t>: </a:t>
            </a:r>
            <a:r>
              <a:rPr b="0" lang="en-US" sz="1800" spc="-1" strike="noStrike">
                <a:solidFill>
                  <a:srgbClr val="000000"/>
                </a:solidFill>
                <a:latin typeface="Arial"/>
              </a:rPr>
              <a:t>all information is shared using a systematic structure and a common workspace where all participants can work. </a:t>
            </a:r>
            <a:endParaRPr b="0" lang="en-US" sz="1800" spc="-1" strike="noStrike">
              <a:solidFill>
                <a:srgbClr val="000000"/>
              </a:solidFill>
              <a:latin typeface="Arial"/>
            </a:endParaRPr>
          </a:p>
          <a:p>
            <a:pPr lvl="1" marL="606240" indent="-2566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usality</a:t>
            </a:r>
            <a:r>
              <a:rPr b="0" lang="en-US" sz="2000" spc="-1" strike="noStrike">
                <a:solidFill>
                  <a:srgbClr val="000000"/>
                </a:solidFill>
                <a:latin typeface="Arial"/>
              </a:rPr>
              <a:t>: </a:t>
            </a:r>
            <a:r>
              <a:rPr b="0" lang="en-US" sz="1800" spc="-1" strike="noStrike">
                <a:solidFill>
                  <a:srgbClr val="000000"/>
                </a:solidFill>
                <a:latin typeface="Arial"/>
              </a:rPr>
              <a:t>The focus is on understanding the causal relations between the decision options and the intended outcomes.</a:t>
            </a:r>
            <a:r>
              <a:rPr b="0" lang="en-US" sz="2000" spc="-1" strike="noStrike">
                <a:solidFill>
                  <a:srgbClr val="000000"/>
                </a:solidFill>
                <a:latin typeface="Arial"/>
              </a:rPr>
              <a:t> </a:t>
            </a:r>
            <a:endParaRPr b="0" lang="en-US" sz="2000" spc="-1" strike="noStrike">
              <a:solidFill>
                <a:srgbClr val="000000"/>
              </a:solidFill>
              <a:latin typeface="Arial"/>
            </a:endParaRPr>
          </a:p>
          <a:p>
            <a:pPr lvl="1" marL="606240" indent="-2566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itique</a:t>
            </a:r>
            <a:r>
              <a:rPr b="0" lang="en-US" sz="2000" spc="-1" strike="noStrike">
                <a:solidFill>
                  <a:srgbClr val="000000"/>
                </a:solidFill>
                <a:latin typeface="Arial"/>
              </a:rPr>
              <a:t>: </a:t>
            </a:r>
            <a:r>
              <a:rPr b="0" lang="en-US" sz="1800" spc="-1" strike="noStrike">
                <a:solidFill>
                  <a:srgbClr val="000000"/>
                </a:solidFill>
                <a:latin typeface="Arial"/>
              </a:rPr>
              <a:t>All information presented can be criticised based on relevance and accordance to observations. </a:t>
            </a:r>
            <a:endParaRPr b="0" lang="en-US" sz="1800" spc="-1" strike="noStrike">
              <a:solidFill>
                <a:srgbClr val="000000"/>
              </a:solidFill>
              <a:latin typeface="Arial"/>
            </a:endParaRPr>
          </a:p>
          <a:p>
            <a:pPr lvl="1" marL="606240" indent="-2566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use</a:t>
            </a:r>
            <a:r>
              <a:rPr b="0" lang="en-US" sz="2000" spc="-1" strike="noStrike">
                <a:solidFill>
                  <a:srgbClr val="000000"/>
                </a:solidFill>
                <a:latin typeface="Arial"/>
              </a:rPr>
              <a:t>: </a:t>
            </a:r>
            <a:r>
              <a:rPr b="0" lang="en-US" sz="1800" spc="-1" strike="noStrike">
                <a:solidFill>
                  <a:srgbClr val="000000"/>
                </a:solidFill>
                <a:latin typeface="Arial"/>
              </a:rPr>
              <a:t>All information is produced in a format that can easily be used for other purposes by other people. </a:t>
            </a:r>
            <a:endParaRPr b="0" lang="en-US" sz="1800" spc="-1" strike="noStrike">
              <a:solidFill>
                <a:srgbClr val="000000"/>
              </a:solidFill>
              <a:latin typeface="Arial"/>
            </a:endParaRPr>
          </a:p>
          <a:p>
            <a:pPr lvl="1" marL="606240" indent="-2566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nness</a:t>
            </a:r>
            <a:r>
              <a:rPr b="0" lang="en-US" sz="2000" spc="-1" strike="noStrike">
                <a:solidFill>
                  <a:srgbClr val="000000"/>
                </a:solidFill>
                <a:latin typeface="Arial"/>
              </a:rPr>
              <a:t>: </a:t>
            </a:r>
            <a:r>
              <a:rPr b="0" lang="en-US" sz="1800" spc="-1" strike="noStrike">
                <a:solidFill>
                  <a:srgbClr val="000000"/>
                </a:solidFill>
                <a:latin typeface="Arial"/>
              </a:rPr>
              <a:t>All work and all information is openly available to anyone interested. Participation is free. If there are exceptions, these must be publicly justified. </a:t>
            </a:r>
            <a:endParaRPr b="0" lang="en-US" sz="1800" spc="-1" strike="noStrike">
              <a:solidFill>
                <a:srgbClr val="000000"/>
              </a:solidFill>
              <a:latin typeface="Arial"/>
            </a:endParaRPr>
          </a:p>
          <a:p>
            <a:pPr lvl="1" marL="606240" indent="-2566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1df63"/>
                </a:solidFill>
                <a:uFillTx/>
                <a:latin typeface="Arial"/>
                <a:hlinkClick r:id="rId1"/>
              </a:rPr>
              <a:t>http://fi.opasnet.org/fi/APTK</a:t>
            </a:r>
            <a:r>
              <a:rPr b="0" lang="en-US" sz="1800" spc="-1" strike="noStrike">
                <a:solidFill>
                  <a:srgbClr val="000000"/>
                </a:solidFill>
                <a:latin typeface="Arial"/>
              </a:rPr>
              <a:t>    </a:t>
            </a:r>
            <a:r>
              <a:rPr b="0" lang="en-US" sz="1800" spc="-1" strike="noStrike" u="sng">
                <a:solidFill>
                  <a:srgbClr val="c1df63"/>
                </a:solidFill>
                <a:uFillTx/>
                <a:latin typeface="Arial"/>
                <a:hlinkClick r:id="rId2"/>
              </a:rPr>
              <a:t>http://urn.fi/URN:NBN:fi-fe2014031821621</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64" name="Date Placeholder 3"/>
          <p:cNvSpPr/>
          <p:nvPr/>
        </p:nvSpPr>
        <p:spPr>
          <a:xfrm>
            <a:off x="457200" y="6589800"/>
            <a:ext cx="1090440" cy="22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550F0-EA34-4CA2-8459-ABFC50D3D035}" type="datetime">
              <a:rPr b="0" lang="fi-FI" sz="1000" spc="-1" strike="noStrike">
                <a:solidFill>
                  <a:srgbClr val="ffffff"/>
                </a:solidFill>
                <a:latin typeface="Arial"/>
              </a:rPr>
              <a:t>29.07.26</a:t>
            </a:fld>
            <a:endParaRPr b="0" lang="en-US" sz="1000" spc="-1" strike="noStrike">
              <a:solidFill>
                <a:srgbClr val="000000"/>
              </a:solidFill>
              <a:latin typeface="Arial"/>
            </a:endParaRPr>
          </a:p>
        </p:txBody>
      </p:sp>
      <p:sp>
        <p:nvSpPr>
          <p:cNvPr id="465" name="Slide Number Placeholder 5"/>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895B6-18BF-4B7C-BAD4-3D055F003981}" type="slidenum">
              <a:rPr b="0" lang="en-GB" sz="1000" spc="-1" strike="noStrike">
                <a:solidFill>
                  <a:srgbClr val="ffffff"/>
                </a:solidFill>
                <a:latin typeface="Arial"/>
              </a:rPr>
              <a:t>&lt;number&gt;</a:t>
            </a:fld>
            <a:endParaRPr b="0" lang="en-US" sz="1000" spc="-1" strike="noStrike">
              <a:solidFill>
                <a:srgbClr val="000000"/>
              </a:solidFill>
              <a:latin typeface="Arial"/>
            </a:endParaRPr>
          </a:p>
        </p:txBody>
      </p:sp>
      <p:sp>
        <p:nvSpPr>
          <p:cNvPr id="466" name="Footer Placeholder 1"/>
          <p:cNvSpPr/>
          <p:nvPr/>
        </p:nvSpPr>
        <p:spPr>
          <a:xfrm>
            <a:off x="1258920" y="6597720"/>
            <a:ext cx="698508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Arial"/>
              </a:rPr>
              <a:t>http://fi.opasnet.org/fi/Tiedosto:Ilmastopolitiikka_rakennukset_ja_terveys.pp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7bc143"/>
                </a:solidFill>
                <a:latin typeface="Arial"/>
              </a:rPr>
              <a:t>Arviointi</a:t>
            </a:r>
            <a:endParaRPr b="1" lang="en-US" sz="2800" spc="-1" strike="noStrike">
              <a:solidFill>
                <a:srgbClr val="7bc143"/>
              </a:solidFill>
              <a:latin typeface="Arial"/>
            </a:endParaRPr>
          </a:p>
        </p:txBody>
      </p:sp>
      <p:sp>
        <p:nvSpPr>
          <p:cNvPr id="468" name=""/>
          <p:cNvSpPr txBox="1"/>
          <p:nvPr/>
        </p:nvSpPr>
        <p:spPr>
          <a:xfrm>
            <a:off x="456840" y="1484280"/>
            <a:ext cx="8218440" cy="4392720"/>
          </a:xfrm>
          <a:prstGeom prst="rect">
            <a:avLst/>
          </a:prstGeom>
          <a:noFill/>
          <a:ln w="0">
            <a:noFill/>
          </a:ln>
        </p:spPr>
        <p:txBody>
          <a:bodyPr anchor="t">
            <a:normAutofit/>
          </a:bodyPr>
          <a:p>
            <a:pPr marL="357120" indent="-3571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Rakennuskantamalli ennustamaan mennyttä ja tulevaa energiantarvetta Kuopiossa.</a:t>
            </a:r>
            <a:endParaRPr b="0" lang="en-US" sz="2200" spc="-1" strike="noStrike">
              <a:solidFill>
                <a:srgbClr val="000000"/>
              </a:solidFill>
              <a:latin typeface="Arial"/>
            </a:endParaRPr>
          </a:p>
          <a:p>
            <a:pPr marL="357120" indent="-3571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Sisältää kaksi eri päätöstä:</a:t>
            </a:r>
            <a:endParaRPr b="0" lang="en-US" sz="2200" spc="-1" strike="noStrike">
              <a:solidFill>
                <a:srgbClr val="000000"/>
              </a:solidFill>
              <a:latin typeface="Arial"/>
            </a:endParaRPr>
          </a:p>
          <a:p>
            <a:pPr lvl="1" marL="625320" indent="-26496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Polttoainepäätös</a:t>
            </a:r>
            <a:endParaRPr b="0" lang="en-US" sz="2000" spc="-1" strike="noStrike">
              <a:solidFill>
                <a:srgbClr val="000000"/>
              </a:solidFill>
              <a:latin typeface="Arial"/>
            </a:endParaRPr>
          </a:p>
          <a:p>
            <a:pPr lvl="2" marL="900000" indent="-274680">
              <a:lnSpc>
                <a:spcPct val="95000"/>
              </a:lnSpc>
              <a:spcBef>
                <a:spcPts val="539"/>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BAU (business as usual, tätä menoa): Haapaniemen CHP-voimala käyttää 85 % turvetta.</a:t>
            </a:r>
            <a:endParaRPr b="0" lang="en-US" sz="1800" spc="-1" strike="noStrike">
              <a:solidFill>
                <a:srgbClr val="000000"/>
              </a:solidFill>
              <a:latin typeface="Arial"/>
            </a:endParaRPr>
          </a:p>
          <a:p>
            <a:pPr lvl="2" marL="900000" indent="-274680">
              <a:lnSpc>
                <a:spcPct val="95000"/>
              </a:lnSpc>
              <a:spcBef>
                <a:spcPts val="539"/>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Bioenergian lisäys: 25 % turvetta, 60 % puuta.</a:t>
            </a:r>
            <a:endParaRPr b="0" lang="en-US" sz="1800" spc="-1" strike="noStrike">
              <a:solidFill>
                <a:srgbClr val="000000"/>
              </a:solidFill>
              <a:latin typeface="Arial"/>
            </a:endParaRPr>
          </a:p>
          <a:p>
            <a:pPr lvl="1" marL="625320" indent="-26496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Rakennusten korjausrakentaminen</a:t>
            </a:r>
            <a:endParaRPr b="0" lang="en-US" sz="2000" spc="-1" strike="noStrike">
              <a:solidFill>
                <a:srgbClr val="000000"/>
              </a:solidFill>
              <a:latin typeface="Arial"/>
            </a:endParaRPr>
          </a:p>
          <a:p>
            <a:pPr lvl="2" marL="900000" indent="-274680">
              <a:lnSpc>
                <a:spcPct val="95000"/>
              </a:lnSpc>
              <a:spcBef>
                <a:spcPts val="539"/>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BAU: 3 % rakennuksista energiakorjataan vuodessa.</a:t>
            </a:r>
            <a:endParaRPr b="0" lang="en-US" sz="1800" spc="-1" strike="noStrike">
              <a:solidFill>
                <a:srgbClr val="000000"/>
              </a:solidFill>
              <a:latin typeface="Arial"/>
            </a:endParaRPr>
          </a:p>
          <a:p>
            <a:pPr lvl="2" marL="900000" indent="-274680">
              <a:lnSpc>
                <a:spcPct val="95000"/>
              </a:lnSpc>
              <a:spcBef>
                <a:spcPts val="539"/>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Tehostettu korjaus: 4.5 % energiakorjataan.</a:t>
            </a:r>
            <a:endParaRPr b="0" lang="en-US" sz="1800" spc="-1" strike="noStrike">
              <a:solidFill>
                <a:srgbClr val="000000"/>
              </a:solidFill>
              <a:latin typeface="Arial"/>
            </a:endParaRPr>
          </a:p>
        </p:txBody>
      </p:sp>
      <p:sp>
        <p:nvSpPr>
          <p:cNvPr id="469" name="Date Placeholder 3"/>
          <p:cNvSpPr/>
          <p:nvPr/>
        </p:nvSpPr>
        <p:spPr>
          <a:xfrm>
            <a:off x="457200" y="6589800"/>
            <a:ext cx="1090440" cy="22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6A040-36B7-4E36-8944-B36D0E736968}" type="datetime">
              <a:rPr b="0" lang="fi-FI" sz="1000" spc="-1" strike="noStrike">
                <a:solidFill>
                  <a:srgbClr val="ffffff"/>
                </a:solidFill>
                <a:latin typeface="Arial"/>
              </a:rPr>
              <a:t>29.07.26</a:t>
            </a:fld>
            <a:endParaRPr b="0" lang="en-US" sz="1000" spc="-1" strike="noStrike">
              <a:solidFill>
                <a:srgbClr val="000000"/>
              </a:solidFill>
              <a:latin typeface="Arial"/>
            </a:endParaRPr>
          </a:p>
        </p:txBody>
      </p:sp>
      <p:sp>
        <p:nvSpPr>
          <p:cNvPr id="470" name="Slide Number Placeholder 5"/>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88508-1D30-4340-966F-021F217D21E4}" type="slidenum">
              <a:rPr b="0" lang="en-GB" sz="1000" spc="-1" strike="noStrike">
                <a:solidFill>
                  <a:srgbClr val="ffffff"/>
                </a:solidFill>
                <a:latin typeface="Arial"/>
              </a:rPr>
              <a:t>&lt;number&gt;</a:t>
            </a:fld>
            <a:endParaRPr b="0" lang="en-US" sz="1000" spc="-1" strike="noStrike">
              <a:solidFill>
                <a:srgbClr val="000000"/>
              </a:solidFill>
              <a:latin typeface="Arial"/>
            </a:endParaRPr>
          </a:p>
        </p:txBody>
      </p:sp>
      <p:sp>
        <p:nvSpPr>
          <p:cNvPr id="471" name="Footer Placeholder 1"/>
          <p:cNvSpPr/>
          <p:nvPr/>
        </p:nvSpPr>
        <p:spPr>
          <a:xfrm>
            <a:off x="1258920" y="6597720"/>
            <a:ext cx="698508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Arial"/>
              </a:rPr>
              <a:t>http://fi.opasnet.org/fi/Tiedosto:Ilmastopolitiikka_rakennukset_ja_terveys.pp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bc143"/>
                </a:solidFill>
                <a:latin typeface="Arial"/>
              </a:rPr>
              <a:t>City-specific data needed in the model</a:t>
            </a:r>
            <a:endParaRPr b="1" lang="en-US" sz="2800" spc="-1" strike="noStrike">
              <a:solidFill>
                <a:srgbClr val="7bc143"/>
              </a:solidFill>
              <a:latin typeface="Arial"/>
            </a:endParaRPr>
          </a:p>
        </p:txBody>
      </p:sp>
      <p:sp>
        <p:nvSpPr>
          <p:cNvPr id="473" name=""/>
          <p:cNvSpPr txBox="1"/>
          <p:nvPr/>
        </p:nvSpPr>
        <p:spPr>
          <a:xfrm>
            <a:off x="456840" y="1484280"/>
            <a:ext cx="8218440" cy="4392720"/>
          </a:xfrm>
          <a:prstGeom prst="rect">
            <a:avLst/>
          </a:prstGeom>
          <a:noFill/>
          <a:ln w="0">
            <a:noFill/>
          </a:ln>
        </p:spPr>
        <p:txBody>
          <a:bodyPr anchor="t">
            <a:normAutofit/>
          </a:bodyPr>
          <a:p>
            <a:pPr>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 information is in parenthesis)</a:t>
            </a:r>
            <a:endParaRPr b="0" lang="en-US" sz="2000" spc="-1" strike="noStrike">
              <a:solidFill>
                <a:srgbClr val="000000"/>
              </a:solidFill>
              <a:latin typeface="Arial"/>
            </a:endParaRPr>
          </a:p>
          <a:p>
            <a:pPr>
              <a:lnSpc>
                <a:spcPct val="8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ing types and floor areas (georeferenced)</a:t>
            </a:r>
            <a:endParaRPr b="0" lang="en-US" sz="2000" spc="-1" strike="noStrike">
              <a:solidFill>
                <a:srgbClr val="000000"/>
              </a:solidFill>
              <a:latin typeface="Arial"/>
            </a:endParaRPr>
          </a:p>
          <a:p>
            <a:pPr>
              <a:lnSpc>
                <a:spcPct val="8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actions of heating types in the building stock</a:t>
            </a:r>
            <a:endParaRPr b="0" lang="en-US" sz="2000" spc="-1" strike="noStrike">
              <a:solidFill>
                <a:srgbClr val="000000"/>
              </a:solidFill>
              <a:latin typeface="Arial"/>
            </a:endParaRPr>
          </a:p>
          <a:p>
            <a:pPr>
              <a:lnSpc>
                <a:spcPct val="8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ergy consumption per floor area unit (separately for different energy classes of buildings)</a:t>
            </a:r>
            <a:endParaRPr b="0" lang="en-US" sz="2000" spc="-1" strike="noStrike">
              <a:solidFill>
                <a:srgbClr val="000000"/>
              </a:solidFill>
              <a:latin typeface="Arial"/>
            </a:endParaRPr>
          </a:p>
          <a:p>
            <a:pPr>
              <a:lnSpc>
                <a:spcPct val="8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ission factors for heating options</a:t>
            </a:r>
            <a:endParaRPr b="0" lang="en-US" sz="2000" spc="-1" strike="noStrike">
              <a:solidFill>
                <a:srgbClr val="000000"/>
              </a:solidFill>
              <a:latin typeface="Arial"/>
            </a:endParaRPr>
          </a:p>
          <a:p>
            <a:pPr>
              <a:lnSpc>
                <a:spcPct val="8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pulation (georeferenced)</a:t>
            </a:r>
            <a:endParaRPr b="0" lang="en-US" sz="2000" spc="-1" strike="noStrike">
              <a:solidFill>
                <a:srgbClr val="000000"/>
              </a:solidFill>
              <a:latin typeface="Arial"/>
            </a:endParaRPr>
          </a:p>
          <a:p>
            <a:pPr>
              <a:lnSpc>
                <a:spcPct val="8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want to follow situation in time:</a:t>
            </a:r>
            <a:endParaRPr b="0" lang="en-US" sz="2000" spc="-1" strike="noStrike">
              <a:solidFill>
                <a:srgbClr val="000000"/>
              </a:solidFill>
              <a:latin typeface="Arial"/>
            </a:endParaRPr>
          </a:p>
          <a:p>
            <a:pPr lvl="1" marL="625320" indent="-26496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raction of buildings renovated per year; impact on energy efficiency)</a:t>
            </a:r>
            <a:endParaRPr b="0" lang="en-US" sz="1900" spc="-1" strike="noStrike">
              <a:solidFill>
                <a:srgbClr val="000000"/>
              </a:solidFill>
              <a:latin typeface="Arial"/>
            </a:endParaRPr>
          </a:p>
          <a:p>
            <a:pPr lvl="1" marL="625320" indent="-26496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struction of new buildings per year</a:t>
            </a:r>
            <a:endParaRPr b="0" lang="en-US" sz="1900" spc="-1" strike="noStrike">
              <a:solidFill>
                <a:srgbClr val="000000"/>
              </a:solidFill>
              <a:latin typeface="Arial"/>
            </a:endParaRPr>
          </a:p>
          <a:p>
            <a:pPr lvl="1" marL="625320" indent="-26496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molished buildings per year</a:t>
            </a:r>
            <a:endParaRPr b="0" lang="en-US" sz="1900" spc="-1" strike="noStrike">
              <a:solidFill>
                <a:srgbClr val="000000"/>
              </a:solidFill>
              <a:latin typeface="Arial"/>
            </a:endParaRPr>
          </a:p>
        </p:txBody>
      </p:sp>
      <p:sp>
        <p:nvSpPr>
          <p:cNvPr id="474" name="Date Placeholder 3"/>
          <p:cNvSpPr/>
          <p:nvPr/>
        </p:nvSpPr>
        <p:spPr>
          <a:xfrm>
            <a:off x="457200" y="6589800"/>
            <a:ext cx="1090440" cy="22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190F3-7F47-41BC-8769-62E4EB920A5F}" type="datetime">
              <a:rPr b="0" lang="fi-FI" sz="1000" spc="-1" strike="noStrike">
                <a:solidFill>
                  <a:srgbClr val="ffffff"/>
                </a:solidFill>
                <a:latin typeface="Arial"/>
              </a:rPr>
              <a:t>29.07.26</a:t>
            </a:fld>
            <a:endParaRPr b="0" lang="en-US" sz="1000" spc="-1" strike="noStrike">
              <a:solidFill>
                <a:srgbClr val="000000"/>
              </a:solidFill>
              <a:latin typeface="Arial"/>
            </a:endParaRPr>
          </a:p>
        </p:txBody>
      </p:sp>
      <p:sp>
        <p:nvSpPr>
          <p:cNvPr id="475" name="Slide Number Placeholder 5"/>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15FC5-CEE9-45D3-A79B-FE82BF527F0A}" type="slidenum">
              <a:rPr b="0" lang="en-GB" sz="1000" spc="-1" strike="noStrike">
                <a:solidFill>
                  <a:srgbClr val="ffffff"/>
                </a:solidFill>
                <a:latin typeface="Arial"/>
              </a:rPr>
              <a:t>&lt;number&gt;</a:t>
            </a:fld>
            <a:endParaRPr b="0" lang="en-US" sz="1000" spc="-1" strike="noStrike">
              <a:solidFill>
                <a:srgbClr val="000000"/>
              </a:solidFill>
              <a:latin typeface="Arial"/>
            </a:endParaRPr>
          </a:p>
        </p:txBody>
      </p:sp>
      <p:sp>
        <p:nvSpPr>
          <p:cNvPr id="476" name="Footer Placeholder 1"/>
          <p:cNvSpPr/>
          <p:nvPr/>
        </p:nvSpPr>
        <p:spPr>
          <a:xfrm>
            <a:off x="1258920" y="6597720"/>
            <a:ext cx="698508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Arial"/>
              </a:rPr>
              <a:t>http://fi.opasnet.org/fi/Tiedosto:Ilmastopolitiikka_rakennukset_ja_terveys.pp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7bc143"/>
                </a:solidFill>
                <a:latin typeface="Arial"/>
              </a:rPr>
              <a:t>Nettimallinnus yhteiskunnan päätöksenteossa</a:t>
            </a:r>
            <a:endParaRPr b="1" lang="en-US" sz="2800" spc="-1" strike="noStrike">
              <a:solidFill>
                <a:srgbClr val="7bc143"/>
              </a:solidFill>
              <a:latin typeface="Arial"/>
            </a:endParaRPr>
          </a:p>
        </p:txBody>
      </p:sp>
      <p:sp>
        <p:nvSpPr>
          <p:cNvPr id="277" name=""/>
          <p:cNvSpPr txBox="1"/>
          <p:nvPr/>
        </p:nvSpPr>
        <p:spPr>
          <a:xfrm>
            <a:off x="456840" y="1484280"/>
            <a:ext cx="8218440" cy="4392720"/>
          </a:xfrm>
          <a:prstGeom prst="rect">
            <a:avLst/>
          </a:prstGeom>
          <a:noFill/>
          <a:ln w="0">
            <a:noFill/>
          </a:ln>
        </p:spPr>
        <p:txBody>
          <a:bodyPr anchor="t">
            <a:normAutofit fontScale="97000"/>
          </a:bodyPr>
          <a:p>
            <a:pPr marL="346320" indent="-3463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Mahdollistaa päätösten ennakkoarvioinnin eli vaikutusarvioinnin.</a:t>
            </a:r>
            <a:endParaRPr b="0" lang="en-US" sz="2200" spc="-1" strike="noStrike">
              <a:solidFill>
                <a:srgbClr val="000000"/>
              </a:solidFill>
              <a:latin typeface="Arial"/>
            </a:endParaRPr>
          </a:p>
          <a:p>
            <a:pPr marL="346320" indent="-3463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Antaa kansalaiselle saman informaation ja työkalut kuin asian valmistelijalle.</a:t>
            </a:r>
            <a:endParaRPr b="0" lang="en-US" sz="2200" spc="-1" strike="noStrike">
              <a:solidFill>
                <a:srgbClr val="000000"/>
              </a:solidFill>
              <a:latin typeface="Arial"/>
            </a:endParaRPr>
          </a:p>
          <a:p>
            <a:pPr marL="346320" indent="-3463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Tulokset yhdistettävissä muihin asiaan liittyviin päätöksiin.</a:t>
            </a:r>
            <a:endParaRPr b="0" lang="en-US" sz="2200" spc="-1" strike="noStrike">
              <a:solidFill>
                <a:srgbClr val="000000"/>
              </a:solidFill>
              <a:latin typeface="Arial"/>
            </a:endParaRPr>
          </a:p>
          <a:p>
            <a:pPr marL="346320" indent="-3463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Edistää yhteistyötä ja tiedonjakoa kuntien ja valtion välillä ja sisällä.</a:t>
            </a:r>
            <a:endParaRPr b="0" lang="en-US" sz="2200" spc="-1" strike="noStrike">
              <a:solidFill>
                <a:srgbClr val="000000"/>
              </a:solidFill>
              <a:latin typeface="Arial"/>
            </a:endParaRPr>
          </a:p>
          <a:p>
            <a:pPr marL="346320" indent="-3463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Yhdenmukaistaa ja parantaa päätöksiä, joissa vaaditaan erityisasiantuntemusta.</a:t>
            </a:r>
            <a:endParaRPr b="0" lang="en-US" sz="2200" spc="-1" strike="noStrike">
              <a:solidFill>
                <a:srgbClr val="000000"/>
              </a:solidFill>
              <a:latin typeface="Arial"/>
            </a:endParaRPr>
          </a:p>
          <a:p>
            <a:pPr marL="346320" indent="-3463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Helpottaa tiedonhakua valmisteluvaiheessa.</a:t>
            </a:r>
            <a:endParaRPr b="0" lang="en-US" sz="2200" spc="-1" strike="noStrike">
              <a:solidFill>
                <a:srgbClr val="000000"/>
              </a:solidFill>
              <a:latin typeface="Arial"/>
            </a:endParaRPr>
          </a:p>
          <a:p>
            <a:pPr marL="346320" indent="-3463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6320" indent="-3463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Avaa päätöksenteon toimintakulttuuria!</a:t>
            </a:r>
            <a:endParaRPr b="0" lang="en-US" sz="2200" spc="-1" strike="noStrike">
              <a:solidFill>
                <a:srgbClr val="000000"/>
              </a:solidFill>
              <a:latin typeface="Arial"/>
            </a:endParaRPr>
          </a:p>
        </p:txBody>
      </p:sp>
      <p:sp>
        <p:nvSpPr>
          <p:cNvPr id="278" name="Date Placeholder 3"/>
          <p:cNvSpPr/>
          <p:nvPr/>
        </p:nvSpPr>
        <p:spPr>
          <a:xfrm>
            <a:off x="457200" y="6589800"/>
            <a:ext cx="1090440" cy="22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2763E-F9F4-484F-87EF-EBBD4B64F1CD}" type="datetime">
              <a:rPr b="0" lang="fi-FI" sz="1000" spc="-1" strike="noStrike">
                <a:solidFill>
                  <a:srgbClr val="ffffff"/>
                </a:solidFill>
                <a:latin typeface="Arial"/>
              </a:rPr>
              <a:t>29.07.26</a:t>
            </a:fld>
            <a:endParaRPr b="0" lang="en-US" sz="1000" spc="-1" strike="noStrike">
              <a:solidFill>
                <a:srgbClr val="000000"/>
              </a:solidFill>
              <a:latin typeface="Arial"/>
            </a:endParaRPr>
          </a:p>
        </p:txBody>
      </p:sp>
      <p:sp>
        <p:nvSpPr>
          <p:cNvPr id="279" name="Footer Placeholder 4"/>
          <p:cNvSpPr/>
          <p:nvPr/>
        </p:nvSpPr>
        <p:spPr>
          <a:xfrm>
            <a:off x="1258920" y="6597720"/>
            <a:ext cx="698508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Arial"/>
              </a:rPr>
              <a:t>http://fi.opasnet.org/fi/Tiedosto:Ilmastopolitiikka_rakennukset_ja_terveys.ppt</a:t>
            </a:r>
            <a:endParaRPr b="0" lang="en-US" sz="1500" spc="-1" strike="noStrike">
              <a:solidFill>
                <a:srgbClr val="000000"/>
              </a:solidFill>
              <a:latin typeface="Arial"/>
            </a:endParaRPr>
          </a:p>
        </p:txBody>
      </p:sp>
      <p:sp>
        <p:nvSpPr>
          <p:cNvPr id="280" name="Slide Number Placeholder 5"/>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F32CB-C9E8-4E06-BFF2-77CFA17D5E1C}" type="slidenum">
              <a:rPr b="0" lang="fi-FI"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7bc143"/>
                </a:solidFill>
                <a:latin typeface="Arial"/>
              </a:rPr>
              <a:t>Haapaniemen CHP-kaukolämpövoimala</a:t>
            </a:r>
            <a:endParaRPr b="1" lang="en-US" sz="2800" spc="-1" strike="noStrike">
              <a:solidFill>
                <a:srgbClr val="7bc143"/>
              </a:solidFill>
              <a:latin typeface="Arial"/>
            </a:endParaRPr>
          </a:p>
        </p:txBody>
      </p:sp>
      <p:pic>
        <p:nvPicPr>
          <p:cNvPr id="282" name="Content Placeholder 6" descr=""/>
          <p:cNvPicPr/>
          <p:nvPr/>
        </p:nvPicPr>
        <p:blipFill>
          <a:blip r:embed="rId1"/>
          <a:stretch/>
        </p:blipFill>
        <p:spPr>
          <a:xfrm>
            <a:off x="0" y="0"/>
            <a:ext cx="9144000" cy="6858000"/>
          </a:xfrm>
          <a:prstGeom prst="rect">
            <a:avLst/>
          </a:prstGeom>
          <a:ln w="0">
            <a:noFill/>
          </a:ln>
        </p:spPr>
      </p:pic>
      <p:sp>
        <p:nvSpPr>
          <p:cNvPr id="283" name="Date Placeholder 3"/>
          <p:cNvSpPr/>
          <p:nvPr/>
        </p:nvSpPr>
        <p:spPr>
          <a:xfrm>
            <a:off x="457200" y="6589800"/>
            <a:ext cx="1090440" cy="22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B9652-E3F2-477F-80F4-E0A8C3942BAB}" type="datetime">
              <a:rPr b="0" lang="fi-FI" sz="1000" spc="-1" strike="noStrike">
                <a:solidFill>
                  <a:srgbClr val="ffffff"/>
                </a:solidFill>
                <a:latin typeface="Arial"/>
              </a:rPr>
              <a:t>29.07.26</a:t>
            </a:fld>
            <a:endParaRPr b="0" lang="en-US" sz="1000" spc="-1" strike="noStrike">
              <a:solidFill>
                <a:srgbClr val="000000"/>
              </a:solidFill>
              <a:latin typeface="Arial"/>
            </a:endParaRPr>
          </a:p>
        </p:txBody>
      </p:sp>
      <p:sp>
        <p:nvSpPr>
          <p:cNvPr id="284" name="Slide Number Placeholder 5"/>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4BAE3-1397-4408-A296-EEABD1FF03E0}" type="slidenum">
              <a:rPr b="0" lang="en-GB" sz="1000" spc="-1" strike="noStrike">
                <a:solidFill>
                  <a:srgbClr val="ffffff"/>
                </a:solidFill>
                <a:latin typeface="Arial"/>
              </a:rPr>
              <a:t>&lt;number&gt;</a:t>
            </a:fld>
            <a:endParaRPr b="0" lang="en-US" sz="1000" spc="-1" strike="noStrike">
              <a:solidFill>
                <a:srgbClr val="000000"/>
              </a:solidFill>
              <a:latin typeface="Arial"/>
            </a:endParaRPr>
          </a:p>
        </p:txBody>
      </p:sp>
      <p:sp>
        <p:nvSpPr>
          <p:cNvPr id="285" name="Footer Placeholder 1"/>
          <p:cNvSpPr/>
          <p:nvPr/>
        </p:nvSpPr>
        <p:spPr>
          <a:xfrm>
            <a:off x="1258920" y="6597720"/>
            <a:ext cx="698508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Arial"/>
              </a:rPr>
              <a:t>http://fi.opasnet.org/fi/Tiedosto:Ilmastopolitiikka_rakennukset_ja_terveys.pp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7bc143"/>
                </a:solidFill>
                <a:latin typeface="Arial"/>
              </a:rPr>
              <a:t>Kuopion ilmastopolitiikka 2009-2020</a:t>
            </a:r>
            <a:endParaRPr b="1" lang="en-US" sz="2800" spc="-1" strike="noStrike">
              <a:solidFill>
                <a:srgbClr val="7bc143"/>
              </a:solidFill>
              <a:latin typeface="Arial"/>
            </a:endParaRPr>
          </a:p>
        </p:txBody>
      </p:sp>
      <p:sp>
        <p:nvSpPr>
          <p:cNvPr id="287" name=""/>
          <p:cNvSpPr txBox="1"/>
          <p:nvPr/>
        </p:nvSpPr>
        <p:spPr>
          <a:xfrm>
            <a:off x="456840" y="1484280"/>
            <a:ext cx="8218440" cy="4392720"/>
          </a:xfrm>
          <a:prstGeom prst="rect">
            <a:avLst/>
          </a:prstGeom>
          <a:noFill/>
          <a:ln w="0">
            <a:noFill/>
          </a:ln>
        </p:spPr>
        <p:txBody>
          <a:bodyPr anchor="t">
            <a:normAutofit/>
          </a:bodyPr>
          <a:p>
            <a:pPr marL="514440" indent="-514440">
              <a:lnSpc>
                <a:spcPct val="95000"/>
              </a:lnSpc>
              <a:spcBef>
                <a:spcPts val="901"/>
              </a:spcBef>
              <a:buClr>
                <a:srgbClr val="7bc14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Vähentää kasvihuonekaasupäästöjä 40 % (1990-2020)</a:t>
            </a:r>
            <a:endParaRPr b="0" lang="en-US" sz="2200" spc="-1" strike="noStrike">
              <a:solidFill>
                <a:srgbClr val="000000"/>
              </a:solidFill>
              <a:latin typeface="Arial"/>
            </a:endParaRPr>
          </a:p>
          <a:p>
            <a:pPr lvl="1" marL="625320" indent="-26496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ärkein toimi: vaihdetaan </a:t>
            </a:r>
            <a:r>
              <a:rPr b="1" lang="fi-FI" sz="2000" spc="-1" strike="noStrike">
                <a:solidFill>
                  <a:srgbClr val="000000"/>
                </a:solidFill>
                <a:latin typeface="Arial"/>
              </a:rPr>
              <a:t>kaukolämmön</a:t>
            </a:r>
            <a:r>
              <a:rPr b="0" lang="fi-FI" sz="2000" spc="-1" strike="noStrike">
                <a:solidFill>
                  <a:srgbClr val="000000"/>
                </a:solidFill>
                <a:latin typeface="Arial"/>
              </a:rPr>
              <a:t> polttoainetta turpeesta (nyt 84 %) puuhun (nyt 4 %).</a:t>
            </a:r>
            <a:endParaRPr b="0" lang="en-US" sz="2000" spc="-1" strike="noStrike">
              <a:solidFill>
                <a:srgbClr val="000000"/>
              </a:solidFill>
              <a:latin typeface="Arial"/>
            </a:endParaRPr>
          </a:p>
          <a:p>
            <a:pPr lvl="1" marL="625320" indent="-26496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Perustelu: turve on fossiilista, puu uusiutuvaa bioenergiaa.</a:t>
            </a:r>
            <a:endParaRPr b="0" lang="en-US" sz="2000" spc="-1" strike="noStrike">
              <a:solidFill>
                <a:srgbClr val="000000"/>
              </a:solidFill>
              <a:latin typeface="Arial"/>
            </a:endParaRPr>
          </a:p>
          <a:p>
            <a:pPr marL="514440" indent="-514440">
              <a:lnSpc>
                <a:spcPct val="95000"/>
              </a:lnSpc>
              <a:spcBef>
                <a:spcPts val="901"/>
              </a:spcBef>
              <a:buClr>
                <a:srgbClr val="7bc14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Vähentää julkisten rakennusten energiankulutusta 9 %.</a:t>
            </a:r>
            <a:endParaRPr b="0" lang="en-US" sz="2200" spc="-1" strike="noStrike">
              <a:solidFill>
                <a:srgbClr val="000000"/>
              </a:solidFill>
              <a:latin typeface="Arial"/>
            </a:endParaRPr>
          </a:p>
          <a:p>
            <a:pPr marL="514440" indent="-514440">
              <a:lnSpc>
                <a:spcPct val="95000"/>
              </a:lnSpc>
              <a:spcBef>
                <a:spcPts val="901"/>
              </a:spcBef>
              <a:buClr>
                <a:srgbClr val="7bc14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Välittää kansalaisille tietoa energiansäästöstä.</a:t>
            </a:r>
            <a:endParaRPr b="0" lang="en-US" sz="2200" spc="-1" strike="noStrike">
              <a:solidFill>
                <a:srgbClr val="000000"/>
              </a:solidFill>
              <a:latin typeface="Arial"/>
            </a:endParaRPr>
          </a:p>
        </p:txBody>
      </p:sp>
      <p:sp>
        <p:nvSpPr>
          <p:cNvPr id="288" name="Date Placeholder 3"/>
          <p:cNvSpPr/>
          <p:nvPr/>
        </p:nvSpPr>
        <p:spPr>
          <a:xfrm>
            <a:off x="457200" y="6589800"/>
            <a:ext cx="1090440" cy="22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F805C-B7ED-4E1B-AA4A-D68AAC79C2CB}" type="datetime">
              <a:rPr b="0" lang="fi-FI" sz="1000" spc="-1" strike="noStrike">
                <a:solidFill>
                  <a:srgbClr val="ffffff"/>
                </a:solidFill>
                <a:latin typeface="Arial"/>
              </a:rPr>
              <a:t>29.07.26</a:t>
            </a:fld>
            <a:endParaRPr b="0" lang="en-US" sz="1000" spc="-1" strike="noStrike">
              <a:solidFill>
                <a:srgbClr val="000000"/>
              </a:solidFill>
              <a:latin typeface="Arial"/>
            </a:endParaRPr>
          </a:p>
        </p:txBody>
      </p:sp>
      <p:sp>
        <p:nvSpPr>
          <p:cNvPr id="289" name="Slide Number Placeholder 5"/>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8BED7-A045-4BB4-B48E-FA8F31FB316B}" type="slidenum">
              <a:rPr b="0" lang="en-GB" sz="1000" spc="-1" strike="noStrike">
                <a:solidFill>
                  <a:srgbClr val="ffffff"/>
                </a:solidFill>
                <a:latin typeface="Arial"/>
              </a:rPr>
              <a:t>&lt;number&gt;</a:t>
            </a:fld>
            <a:endParaRPr b="0" lang="en-US" sz="1000" spc="-1" strike="noStrike">
              <a:solidFill>
                <a:srgbClr val="000000"/>
              </a:solidFill>
              <a:latin typeface="Arial"/>
            </a:endParaRPr>
          </a:p>
        </p:txBody>
      </p:sp>
      <p:sp>
        <p:nvSpPr>
          <p:cNvPr id="290" name="Footer Placeholder 1"/>
          <p:cNvSpPr/>
          <p:nvPr/>
        </p:nvSpPr>
        <p:spPr>
          <a:xfrm>
            <a:off x="1258920" y="6597720"/>
            <a:ext cx="698508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Arial"/>
              </a:rPr>
              <a:t>http://fi.opasnet.org/fi/Tiedosto:Ilmastopolitiikka_rakennukset_ja_terveys.pp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95280" y="1267920"/>
            <a:ext cx="8207280" cy="50508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7bc143"/>
                </a:solidFill>
                <a:latin typeface="Arial"/>
              </a:rPr>
              <a:t>Taustaa</a:t>
            </a:r>
            <a:endParaRPr b="1" lang="en-US" sz="2800" spc="-1" strike="noStrike">
              <a:solidFill>
                <a:srgbClr val="7bc143"/>
              </a:solidFill>
              <a:latin typeface="Arial"/>
            </a:endParaRPr>
          </a:p>
        </p:txBody>
      </p:sp>
      <p:sp>
        <p:nvSpPr>
          <p:cNvPr id="292" name=""/>
          <p:cNvSpPr txBox="1"/>
          <p:nvPr/>
        </p:nvSpPr>
        <p:spPr>
          <a:xfrm>
            <a:off x="456840" y="1700280"/>
            <a:ext cx="8218440" cy="4176720"/>
          </a:xfrm>
          <a:prstGeom prst="rect">
            <a:avLst/>
          </a:prstGeom>
          <a:noFill/>
          <a:ln w="0">
            <a:noFill/>
          </a:ln>
        </p:spPr>
        <p:txBody>
          <a:bodyPr anchor="t">
            <a:normAutofit/>
          </a:bodyPr>
          <a:p>
            <a:pPr marL="357120" indent="-3571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Rakennukset ovat avainasemassa kasvihuonekaasupäästöjen vähentämisessä.</a:t>
            </a:r>
            <a:endParaRPr b="0" lang="en-US" sz="2400" spc="-1" strike="noStrike">
              <a:solidFill>
                <a:srgbClr val="000000"/>
              </a:solidFill>
              <a:latin typeface="Arial"/>
            </a:endParaRPr>
          </a:p>
          <a:p>
            <a:pPr lvl="1" marL="625320" indent="-26496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Ne vaativat energiaa lämmitykseen ja jäähdytykseen.</a:t>
            </a:r>
            <a:endParaRPr b="0" lang="en-US" sz="2000" spc="-1" strike="noStrike">
              <a:solidFill>
                <a:srgbClr val="000000"/>
              </a:solidFill>
              <a:latin typeface="Arial"/>
            </a:endParaRPr>
          </a:p>
          <a:p>
            <a:pPr lvl="1" marL="625320" indent="-26496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Eri lämmitysratkaisuilla on eri päästöt ja terveysvaikutukset.</a:t>
            </a:r>
            <a:endParaRPr b="0" lang="en-US" sz="2000" spc="-1" strike="noStrike">
              <a:solidFill>
                <a:srgbClr val="000000"/>
              </a:solidFill>
              <a:latin typeface="Arial"/>
            </a:endParaRPr>
          </a:p>
          <a:p>
            <a:pPr marL="357120" indent="-3571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Rakennukset vaikuttavat terveyteen monin tavoin.</a:t>
            </a:r>
            <a:endParaRPr b="0" lang="en-US" sz="2400" spc="-1" strike="noStrike">
              <a:solidFill>
                <a:srgbClr val="000000"/>
              </a:solidFill>
              <a:latin typeface="Arial"/>
            </a:endParaRPr>
          </a:p>
          <a:p>
            <a:pPr lvl="1" marL="625320" indent="-26496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uuletus, lämpö/kylmä, kosteus, biomassan poltto, radon, tupakointi, väljyys, naapurusto, …</a:t>
            </a:r>
            <a:endParaRPr b="0" lang="en-US" sz="2000" spc="-1" strike="noStrike">
              <a:solidFill>
                <a:srgbClr val="000000"/>
              </a:solidFill>
              <a:latin typeface="Arial"/>
            </a:endParaRPr>
          </a:p>
          <a:p>
            <a:pPr lvl="1" marL="625320" indent="-26496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7120" indent="-3571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Kuinka vähentää kasvihuonekaasuja ja edistää terveyttä samanaikaisesti?</a:t>
            </a:r>
            <a:endParaRPr b="0" lang="en-US" sz="2400" spc="-1" strike="noStrike">
              <a:solidFill>
                <a:srgbClr val="000000"/>
              </a:solidFill>
              <a:latin typeface="Arial"/>
            </a:endParaRPr>
          </a:p>
        </p:txBody>
      </p:sp>
      <p:sp>
        <p:nvSpPr>
          <p:cNvPr id="293" name="Date Placeholder 3"/>
          <p:cNvSpPr/>
          <p:nvPr/>
        </p:nvSpPr>
        <p:spPr>
          <a:xfrm>
            <a:off x="457200" y="6589800"/>
            <a:ext cx="1090440" cy="22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15D67-ECA7-4EA7-9BA3-B1E5127D9FFB}" type="datetime">
              <a:rPr b="0" lang="fi-FI" sz="1000" spc="-1" strike="noStrike">
                <a:solidFill>
                  <a:srgbClr val="ffffff"/>
                </a:solidFill>
                <a:latin typeface="Arial"/>
              </a:rPr>
              <a:t>29.07.26</a:t>
            </a:fld>
            <a:endParaRPr b="0" lang="en-US" sz="1000" spc="-1" strike="noStrike">
              <a:solidFill>
                <a:srgbClr val="000000"/>
              </a:solidFill>
              <a:latin typeface="Arial"/>
            </a:endParaRPr>
          </a:p>
        </p:txBody>
      </p:sp>
      <p:sp>
        <p:nvSpPr>
          <p:cNvPr id="294" name="Slide Number Placeholder 5"/>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2D115-780B-46D2-B4E4-A03261BDEC22}" type="slidenum">
              <a:rPr b="0" lang="en-GB" sz="1000" spc="-1" strike="noStrike">
                <a:solidFill>
                  <a:srgbClr val="ffffff"/>
                </a:solidFill>
                <a:latin typeface="Arial"/>
              </a:rPr>
              <a:t>&lt;number&gt;</a:t>
            </a:fld>
            <a:endParaRPr b="0" lang="en-US" sz="1000" spc="-1" strike="noStrike">
              <a:solidFill>
                <a:srgbClr val="000000"/>
              </a:solidFill>
              <a:latin typeface="Arial"/>
            </a:endParaRPr>
          </a:p>
        </p:txBody>
      </p:sp>
      <p:sp>
        <p:nvSpPr>
          <p:cNvPr id="295" name="Footer Placeholder 1"/>
          <p:cNvSpPr/>
          <p:nvPr/>
        </p:nvSpPr>
        <p:spPr>
          <a:xfrm>
            <a:off x="1258920" y="6597720"/>
            <a:ext cx="698508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Arial"/>
              </a:rPr>
              <a:t>http://fi.opasnet.org/fi/Tiedosto:Ilmastopolitiikka_rakennukset_ja_terveys.pp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7bc143"/>
                </a:solidFill>
                <a:latin typeface="Arial"/>
              </a:rPr>
              <a:t>Vaikutusarviointi Opasnetissä</a:t>
            </a:r>
            <a:endParaRPr b="1" lang="en-US" sz="2800" spc="-1" strike="noStrike">
              <a:solidFill>
                <a:srgbClr val="7bc143"/>
              </a:solidFill>
              <a:latin typeface="Arial"/>
            </a:endParaRPr>
          </a:p>
        </p:txBody>
      </p:sp>
      <p:sp>
        <p:nvSpPr>
          <p:cNvPr id="297" name=""/>
          <p:cNvSpPr txBox="1"/>
          <p:nvPr/>
        </p:nvSpPr>
        <p:spPr>
          <a:xfrm>
            <a:off x="456840" y="1484280"/>
            <a:ext cx="8218440" cy="4392720"/>
          </a:xfrm>
          <a:prstGeom prst="rect">
            <a:avLst/>
          </a:prstGeom>
          <a:noFill/>
          <a:ln w="0">
            <a:noFill/>
          </a:ln>
        </p:spPr>
        <p:txBody>
          <a:bodyPr anchor="t">
            <a:normAutofit/>
          </a:bodyPr>
          <a:p>
            <a:pPr>
              <a:lnSpc>
                <a:spcPct val="9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8" name="Date Placeholder 3"/>
          <p:cNvSpPr/>
          <p:nvPr/>
        </p:nvSpPr>
        <p:spPr>
          <a:xfrm>
            <a:off x="457200" y="6589800"/>
            <a:ext cx="1090440" cy="22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5EB1E-A89D-45DD-B62F-C7AB4298DEA1}" type="datetime">
              <a:rPr b="0" lang="fi-FI" sz="1000" spc="-1" strike="noStrike">
                <a:solidFill>
                  <a:srgbClr val="ffffff"/>
                </a:solidFill>
                <a:latin typeface="Arial"/>
              </a:rPr>
              <a:t>29.07.26</a:t>
            </a:fld>
            <a:endParaRPr b="0" lang="en-US" sz="1000" spc="-1" strike="noStrike">
              <a:solidFill>
                <a:srgbClr val="000000"/>
              </a:solidFill>
              <a:latin typeface="Arial"/>
            </a:endParaRPr>
          </a:p>
        </p:txBody>
      </p:sp>
      <p:sp>
        <p:nvSpPr>
          <p:cNvPr id="299" name="Footer Placeholder 4"/>
          <p:cNvSpPr/>
          <p:nvPr/>
        </p:nvSpPr>
        <p:spPr>
          <a:xfrm>
            <a:off x="1258920" y="6597720"/>
            <a:ext cx="698508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Arial"/>
              </a:rPr>
              <a:t>http://fi.opasnet.org/fi/Tiedosto:Ilmastopolitiikka_rakennukset_ja_terveys.ppt</a:t>
            </a:r>
            <a:endParaRPr b="0" lang="en-US" sz="1500" spc="-1" strike="noStrike">
              <a:solidFill>
                <a:srgbClr val="000000"/>
              </a:solidFill>
              <a:latin typeface="Arial"/>
            </a:endParaRPr>
          </a:p>
        </p:txBody>
      </p:sp>
      <p:sp>
        <p:nvSpPr>
          <p:cNvPr id="300" name="Slide Number Placeholder 5"/>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B1E72-EE95-45DC-916C-C2EADE9CA266}" type="slidenum">
              <a:rPr b="0" lang="en-GB" sz="1000" spc="-1" strike="noStrike">
                <a:solidFill>
                  <a:srgbClr val="ffffff"/>
                </a:solidFill>
                <a:latin typeface="Arial"/>
              </a:rPr>
              <a:t>&lt;number&gt;</a:t>
            </a:fld>
            <a:endParaRPr b="0" lang="en-US" sz="1000" spc="-1" strike="noStrike">
              <a:solidFill>
                <a:srgbClr val="000000"/>
              </a:solidFill>
              <a:latin typeface="Arial"/>
            </a:endParaRPr>
          </a:p>
        </p:txBody>
      </p:sp>
      <p:pic>
        <p:nvPicPr>
          <p:cNvPr id="301" name="Picture 2" descr=""/>
          <p:cNvPicPr/>
          <p:nvPr/>
        </p:nvPicPr>
        <p:blipFill>
          <a:blip r:embed="rId1"/>
          <a:stretch/>
        </p:blipFill>
        <p:spPr>
          <a:xfrm>
            <a:off x="0" y="1717560"/>
            <a:ext cx="9144000" cy="5140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7bc143"/>
                </a:solidFill>
                <a:latin typeface="Arial"/>
              </a:rPr>
              <a:t>Motivaatio</a:t>
            </a:r>
            <a:endParaRPr b="1" lang="en-US" sz="2800" spc="-1" strike="noStrike">
              <a:solidFill>
                <a:srgbClr val="7bc143"/>
              </a:solidFill>
              <a:latin typeface="Arial"/>
            </a:endParaRPr>
          </a:p>
        </p:txBody>
      </p:sp>
      <p:sp>
        <p:nvSpPr>
          <p:cNvPr id="303" name=""/>
          <p:cNvSpPr txBox="1"/>
          <p:nvPr/>
        </p:nvSpPr>
        <p:spPr>
          <a:xfrm>
            <a:off x="456840" y="1484280"/>
            <a:ext cx="8218440" cy="4608720"/>
          </a:xfrm>
          <a:prstGeom prst="rect">
            <a:avLst/>
          </a:prstGeom>
          <a:noFill/>
          <a:ln w="0">
            <a:noFill/>
          </a:ln>
        </p:spPr>
        <p:txBody>
          <a:bodyPr anchor="t">
            <a:normAutofit/>
          </a:bodyPr>
          <a:p>
            <a:pPr marL="357120" indent="-3571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Avoin arviointi pyrkii tukemaan päätöksentekoa vaikutusarvioinnein ja parantamalla tiedonkulkua asiantuntijoiden ja päättäjien välillä.</a:t>
            </a:r>
            <a:endParaRPr b="0" lang="en-US" sz="2200" spc="-1" strike="noStrike">
              <a:solidFill>
                <a:srgbClr val="000000"/>
              </a:solidFill>
              <a:latin typeface="Arial"/>
            </a:endParaRPr>
          </a:p>
          <a:p>
            <a:pPr marL="357120" indent="-3571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Tutkimuskysymys: Kuinka tieteellistä tietoa ja arvoarvostelmia voi jäsentää siten, että avoin osallistuminen on mahdollista?</a:t>
            </a:r>
            <a:endParaRPr b="0" lang="en-US" sz="2200" spc="-1" strike="noStrike">
              <a:solidFill>
                <a:srgbClr val="000000"/>
              </a:solidFill>
              <a:latin typeface="Arial"/>
            </a:endParaRPr>
          </a:p>
        </p:txBody>
      </p:sp>
      <p:sp>
        <p:nvSpPr>
          <p:cNvPr id="304" name="Date Placeholder 3"/>
          <p:cNvSpPr/>
          <p:nvPr/>
        </p:nvSpPr>
        <p:spPr>
          <a:xfrm>
            <a:off x="457200" y="6589800"/>
            <a:ext cx="1090440" cy="22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752D3-A9F4-44F5-8064-60C723213F62}" type="datetime">
              <a:rPr b="0" lang="fi-FI" sz="1000" spc="-1" strike="noStrike">
                <a:solidFill>
                  <a:srgbClr val="ffffff"/>
                </a:solidFill>
                <a:latin typeface="Arial"/>
              </a:rPr>
              <a:t>29.07.26</a:t>
            </a:fld>
            <a:endParaRPr b="0" lang="en-US" sz="1000" spc="-1" strike="noStrike">
              <a:solidFill>
                <a:srgbClr val="000000"/>
              </a:solidFill>
              <a:latin typeface="Arial"/>
            </a:endParaRPr>
          </a:p>
        </p:txBody>
      </p:sp>
      <p:sp>
        <p:nvSpPr>
          <p:cNvPr id="305" name="Slide Number Placeholder 5"/>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13928-92BF-4FFD-B7CF-89F57281BB94}" type="slidenum">
              <a:rPr b="0" lang="en-GB" sz="1000" spc="-1" strike="noStrike">
                <a:solidFill>
                  <a:srgbClr val="ffffff"/>
                </a:solidFill>
                <a:latin typeface="Arial"/>
              </a:rPr>
              <a:t>&lt;number&gt;</a:t>
            </a:fld>
            <a:endParaRPr b="0" lang="en-US" sz="1000" spc="-1" strike="noStrike">
              <a:solidFill>
                <a:srgbClr val="000000"/>
              </a:solidFill>
              <a:latin typeface="Arial"/>
            </a:endParaRPr>
          </a:p>
        </p:txBody>
      </p:sp>
      <p:sp>
        <p:nvSpPr>
          <p:cNvPr id="306" name="Footer Placeholder 1"/>
          <p:cNvSpPr/>
          <p:nvPr/>
        </p:nvSpPr>
        <p:spPr>
          <a:xfrm>
            <a:off x="1258920" y="6597720"/>
            <a:ext cx="698508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Arial"/>
              </a:rPr>
              <a:t>http://fi.opasnet.org/fi/Tiedosto:Ilmastopolitiikka_rakennukset_ja_terveys.pp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1-13T12:38:19Z</dcterms:created>
  <dc:creator>Hänninen, Otto</dc:creator>
  <dc:description/>
  <dc:language>en-US</dc:language>
  <cp:lastModifiedBy>ignatso</cp:lastModifiedBy>
  <cp:lastPrinted>2014-01-15T09:40:07Z</cp:lastPrinted>
  <dcterms:modified xsi:type="dcterms:W3CDTF">2014-10-03T15:55:47Z</dcterms:modified>
  <cp:revision>147</cp:revision>
  <dc:subject>suomi</dc:subject>
  <dc:title>Sisäilman kansanterveysvaikutukset</dc:title>
</cp:coreProperties>
</file>